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C3AF9-F3AD-40FF-8857-56F9086DA1A8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AB2BD-7AD7-4358-9644-8F227867EB43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B3B3C-3483-40FA-A5D9-92F5C07A62C1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ACB5C-256C-4EA8-8E36-601260028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DEE04-67EF-42A3-81D4-3BDC89484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D5AC7-FD6B-4C82-9927-00E9D9FD9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6D163-C95F-4D20-8FC3-AC6C41679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9A7D8-2D0A-4602-9F06-92AA895DD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EAEB1-68CF-4FC8-B098-6EEF63589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39F19-183B-4D87-A1AC-1F1AFBE73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7C9D1-6DE4-43CE-8649-9B525CAFC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D1EBC-F624-474A-85B0-C3460351F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50FB4-9DC6-4092-BBA7-BAFEE4417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37C14-431A-47BC-8C0D-B3D1006DF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9502D-65CD-4CED-A928-29A5EFD86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7840" indent="-177840"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12920" indent="-171720"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723960" indent="-254160"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965160" indent="-228600"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206360" indent="-228600"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206360" indent="-228600"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206360" indent="-228600"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26E19-3150-448C-9304-48E2238B5230}" type="slidenum">
              <a:rPr b="0" lang="cs-CZ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C:\Documents and Settings\janli\Desktop\marek\power-4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7840" indent="-177840"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12920" indent="-171720"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723960" indent="-254160"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965160" indent="-228600"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206360" indent="-228600"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206360" indent="-228600"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206360" indent="-228600"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C:\Documents and Settings\janli\Desktop\marek\power-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7840" indent="-177840"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12920" indent="-171720"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723960" indent="-254160"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965160" indent="-228600"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206360" indent="-228600"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206360" indent="-228600"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206360" indent="-228600"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C:\Users\dvorak\Desktop\final zdroje k powerpointu\zmensene slidy 3 a 4\power-2 70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7840" indent="-177840"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12920" indent="-171720"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723960" indent="-254160"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965160" indent="-228600"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206360" indent="-228600"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206360" indent="-228600"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206360" indent="-228600"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2" descr="C:\Users\dvorak\Desktop\final zdroje k powerpointu\zmensene slidy 3 a 4\power-3 70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7840" indent="-177840"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12920" indent="-171720"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723960" indent="-254160"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965160" indent="-228600"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206360" indent="-228600"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206360" indent="-228600"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206360" indent="-228600"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131640" y="620280"/>
            <a:ext cx="578340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300" spc="-1" strike="noStrike">
                <a:solidFill>
                  <a:srgbClr val="ffff00"/>
                </a:solidFill>
                <a:latin typeface="Arial"/>
              </a:rPr>
              <a:t>Útvar Zmocněnce </a:t>
            </a:r>
            <a:br>
              <a:rPr sz="3300"/>
            </a:br>
            <a:r>
              <a:rPr b="0" lang="cs-CZ" sz="3300" spc="-1" strike="noStrike">
                <a:solidFill>
                  <a:srgbClr val="ffff00"/>
                </a:solidFill>
                <a:latin typeface="Arial"/>
              </a:rPr>
              <a:t>pro udržitelnost </a:t>
            </a:r>
            <a:br>
              <a:rPr sz="3300"/>
            </a:br>
            <a:r>
              <a:rPr b="0" lang="cs-CZ" sz="3300" spc="-1" strike="noStrike">
                <a:solidFill>
                  <a:srgbClr val="ffff00"/>
                </a:solidFill>
                <a:latin typeface="Arial"/>
              </a:rPr>
              <a:t>výzkumných center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ovéPole 1"/>
          <p:cNvSpPr/>
          <p:nvPr/>
        </p:nvSpPr>
        <p:spPr>
          <a:xfrm>
            <a:off x="4735080" y="4292640"/>
            <a:ext cx="346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of. Ing. Eva Kislingerová, CS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90720" y="247320"/>
            <a:ext cx="7696080" cy="82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4943e"/>
                </a:solidFill>
                <a:latin typeface="Arial"/>
              </a:rPr>
              <a:t>Shrnutí – indikátory udržiteln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1739880" y="2643120"/>
          <a:ext cx="5904000" cy="2675160"/>
        </p:xfrm>
        <a:graphic>
          <a:graphicData uri="http://schemas.openxmlformats.org/drawingml/2006/table">
            <a:tbl>
              <a:tblPr/>
              <a:tblGrid>
                <a:gridCol w="2303640"/>
                <a:gridCol w="720720"/>
                <a:gridCol w="718920"/>
                <a:gridCol w="720720"/>
                <a:gridCol w="719280"/>
                <a:gridCol w="720720"/>
              </a:tblGrid>
              <a:tr h="37152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Z.1.05/2.1.00/03.007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Z.1.05/2.1.00/03.008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Z.1.05/2.1.00/03.01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Z.1.05/2.1.00/03.01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Z.1.05/2.1.00/03.007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1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lánovaný rok ukončení projekt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12.20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12.20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12.20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12.20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12.20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064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Objem smluvního výzkumu (tis. Kč) 1112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bdb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bdb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bdb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bdb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bdb"/>
                    </a:solidFill>
                  </a:tcPr>
                </a:tc>
              </a:tr>
              <a:tr h="52560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očet nově vytvořených pracovních míst, zaměstnanci VaV - celkem</a:t>
                      </a:r>
                      <a:br>
                        <a:rPr sz="1000"/>
                      </a:b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103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f7981d"/>
                          </a:solidFill>
                          <a:latin typeface="Calibri"/>
                        </a:rPr>
                        <a:t>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f7981d"/>
                          </a:solidFill>
                          <a:latin typeface="Calibri"/>
                        </a:rPr>
                        <a:t>9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f7981d"/>
                          </a:solidFill>
                          <a:latin typeface="Calibri"/>
                        </a:rPr>
                        <a:t>8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f7981d"/>
                          </a:solidFill>
                          <a:latin typeface="Calibri"/>
                        </a:rPr>
                        <a:t>5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bdb"/>
                    </a:solidFill>
                  </a:tcPr>
                </a:tc>
              </a:tr>
              <a:tr h="52524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očet nově vytvořených pracovních míst, výzkumní pracovníci celkem</a:t>
                      </a:r>
                      <a:br>
                        <a:rPr sz="1000"/>
                      </a:b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717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f7981d"/>
                          </a:solidFill>
                          <a:latin typeface="Calibri"/>
                        </a:rPr>
                        <a:t>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f7981d"/>
                          </a:solidFill>
                          <a:latin typeface="Calibri"/>
                        </a:rPr>
                        <a:t>7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f7981d"/>
                          </a:solidFill>
                          <a:latin typeface="Calibri"/>
                        </a:rPr>
                        <a:t>5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f7981d"/>
                          </a:solidFill>
                          <a:latin typeface="Calibri"/>
                        </a:rPr>
                        <a:t>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bdb"/>
                    </a:solidFill>
                  </a:tcPr>
                </a:tc>
              </a:tr>
              <a:tr h="35100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zšířené nebo zrekonstruované kapacity</a:t>
                      </a:r>
                      <a:br>
                        <a:rPr sz="1000"/>
                      </a:b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105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38761d"/>
                          </a:solidFill>
                          <a:latin typeface="Calibri"/>
                          <a:ea typeface="Times New Roman"/>
                        </a:rPr>
                        <a:t>1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f7981d"/>
                          </a:solidFill>
                          <a:latin typeface="Calibri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bdb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bdb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f7981d"/>
                          </a:solidFill>
                          <a:latin typeface="Calibri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Vybudované kapacity</a:t>
                      </a:r>
                      <a:br>
                        <a:rPr sz="1000"/>
                      </a:b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105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38761d"/>
                          </a:solidFill>
                          <a:latin typeface="Calibri"/>
                          <a:ea typeface="Times New Roman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38761d"/>
                          </a:solidFill>
                          <a:latin typeface="Calibri"/>
                        </a:rPr>
                        <a:t>1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bdb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bdb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bdb"/>
                    </a:solidFill>
                  </a:tcPr>
                </a:tc>
              </a:tr>
            </a:tbl>
          </a:graphicData>
        </a:graphic>
      </p:graphicFrame>
      <p:sp>
        <p:nvSpPr>
          <p:cNvPr id="225" name="TextovéPole 4"/>
          <p:cNvSpPr/>
          <p:nvPr/>
        </p:nvSpPr>
        <p:spPr>
          <a:xfrm>
            <a:off x="642960" y="5786280"/>
            <a:ext cx="735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a6a6a6"/>
                </a:solidFill>
                <a:latin typeface="Arial"/>
              </a:rPr>
              <a:t>Zdroje: Technické popisy projektů, monitorovací zprávy projekt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Zástupný symbol pro obsah 3"/>
          <p:cNvSpPr/>
          <p:nvPr/>
        </p:nvSpPr>
        <p:spPr>
          <a:xfrm>
            <a:off x="990720" y="1600200"/>
            <a:ext cx="7696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7840" indent="-177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Centra ve fázi realizace musejí naplnit  pro úspěšné ukončení projektu větší počet monitorovacích indikátorů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a prokázat, že došlo k věcnému naplnění účelu projekt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90720" y="247320"/>
            <a:ext cx="7696080" cy="82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4943e"/>
                </a:solidFill>
                <a:latin typeface="Arial"/>
              </a:rPr>
              <a:t>Shrnutí – stavební čá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7840" indent="-177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Všechna navštívená centra ve fázi udržitelnosti mají zbudované, nebo rekonstruované prostory zkolaudované a v provozu stejně jako dvě centra ve fázi realizace ( p.č. 0077 a 0084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p.č. 0078 prochází kolaudací (listopad 2014), ale z poznatků získaných na místě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odhadujeme zpoždění na Q 2015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p.č. 0108 je v mírném skluzu oproti harmonogramu (instalace antivibračních stavebních opatření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p.č. 0116 sklad v provozu, hlavní budova bude v provozu k 03/2015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90720" y="247320"/>
            <a:ext cx="7696080" cy="82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4943e"/>
                </a:solidFill>
                <a:latin typeface="Arial"/>
              </a:rPr>
              <a:t>Shrnutí – finanční zdroje pro udržitelnost N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632880" y="1428480"/>
            <a:ext cx="8153640" cy="92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7840" indent="-177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Všem navštíveným centrům ve fázi udržitelnosti byla přidělena podpora z Národního programu udržitelnosti (NPU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Diskrepance mezi aktualizovanými odhady center k srpnu 2014 a Informačním systémem výzkumu, experimentálního vývoje a inovac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500040" y="2571840"/>
          <a:ext cx="8143920" cy="3357360"/>
        </p:xfrm>
        <a:graphic>
          <a:graphicData uri="http://schemas.openxmlformats.org/drawingml/2006/table">
            <a:tbl>
              <a:tblPr/>
              <a:tblGrid>
                <a:gridCol w="1357200"/>
                <a:gridCol w="1819440"/>
                <a:gridCol w="611280"/>
                <a:gridCol w="645840"/>
                <a:gridCol w="648000"/>
                <a:gridCol w="647640"/>
                <a:gridCol w="647640"/>
                <a:gridCol w="646200"/>
                <a:gridCol w="647640"/>
                <a:gridCol w="473040"/>
              </a:tblGrid>
              <a:tr h="190440"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Číslo projektu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520">
                <a:tc>
                  <a:txBody>
                    <a:bodyPr lIns="6840" rIns="6840" tIns="68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Z.1.05/2.1.00/01.003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PU odha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 29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1 18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1 3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1 3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1 28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 06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52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PU přiznané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zdí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5 29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2dddc"/>
                    </a:solidFill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61 18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2dddc"/>
                    </a:solidFill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61 3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2dddc"/>
                    </a:solidFill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61 3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2dddc"/>
                    </a:solidFill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61 28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2dddc"/>
                    </a:solidFill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6 06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2dddc"/>
                    </a:solidFill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9400">
                <a:tc>
                  <a:txBody>
                    <a:bodyPr lIns="6840" rIns="6840" tIns="68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Z.1.05/2.1.00/01.000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PU odha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 3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 87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 22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 9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 89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52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PU přiznané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6 86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 37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 22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 9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 89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zdí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 55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9400">
                <a:tc>
                  <a:txBody>
                    <a:bodyPr lIns="6840" rIns="6840" tIns="68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Z.1.05/2.1.00/03.005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PU odha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 33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 59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4 66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 32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 32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 96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52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PU přiznané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 3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 2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 6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 8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 8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zdí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 98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0 37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2dddc"/>
                    </a:solidFill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2 06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2dddc"/>
                    </a:solidFill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5 50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2dddc"/>
                    </a:solidFill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6 50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2dddc"/>
                    </a:solidFill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6 96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2dddc"/>
                    </a:solidFill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9040">
                <a:tc>
                  <a:txBody>
                    <a:bodyPr lIns="6840" rIns="6840" tIns="68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Z.1.05/2.1.00/01.000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PU odha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6 83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3 40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9 1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1 7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4 13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PU přiznané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6 83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8 90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1 58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1 7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4 13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zdí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 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 5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47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9040">
                <a:tc>
                  <a:txBody>
                    <a:bodyPr lIns="6840" rIns="6840" tIns="68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Z.1.05/2.1.00/03.012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PU odha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 50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 73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 00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 87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 5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 6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52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PU přiznané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 90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 43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 50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 9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 56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 67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80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zdí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4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7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9040">
                <a:tc>
                  <a:txBody>
                    <a:bodyPr lIns="6840" rIns="6840" tIns="68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Z.1.05/2.1.00/03.009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PU odha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 08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3 8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8 23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4 88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 47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 37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52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PU přiznané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 08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6 06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5 68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 68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 5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 37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zdí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25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 45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 8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 05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90720" y="247320"/>
            <a:ext cx="7696080" cy="82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4943e"/>
                </a:solidFill>
                <a:latin typeface="Arial"/>
              </a:rPr>
              <a:t>Shrnutí – provozní výda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990720" y="1600200"/>
            <a:ext cx="7696080" cy="40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7840" indent="-177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S koncem letošního roku 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pět center završí první rok fáze udržitelnosti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a tedy na základě reálných provozních výdajů a příjmů bude možná 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zpětná korekce odhadů i zpřesnění výhledu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723960" indent="-2541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příkladem nutnosti takových zpětných korekcí může být centrum, které v posledním roce své realizace (2013) mělo vytvořen dostatečný počet nových pracovních míst (dle všech závazných indikátorů), a přesto odhad mzdových prostředků v roce 2014 roste o 72 % a pokračuje v růstu v dalších letech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723960" indent="-2541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nebo centrem očekávané ostatní zdroje financování (tj. zdroje mimo účelovou a institucionální podporu, mezinárodní granty a smluvní výzkum) jsou odhadovány na 110 mil. Kč ke konci roku 2014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723960" indent="-2541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(tj. 55 % celkového rozpočtu centra) a 50 mil. v roce 2015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12920" indent="-1717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Skupina pracuje na rozkladu provozních výdajů a zdrojů financování, který bude dále zpřesňovat na základě dat získaných při návštěvách center a dat ze schválených monitorovacích zpráv za rok 2013, 2014 a dalších podkladů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12920" indent="-1717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90720" y="247320"/>
            <a:ext cx="7696080" cy="82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4943e"/>
                </a:solidFill>
                <a:latin typeface="Arial"/>
              </a:rPr>
              <a:t>Harmonogram monitoringu výzkumných ce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539640" y="1844640"/>
          <a:ext cx="8075880" cy="3487680"/>
        </p:xfrm>
        <a:graphic>
          <a:graphicData uri="http://schemas.openxmlformats.org/drawingml/2006/table">
            <a:tbl>
              <a:tblPr/>
              <a:tblGrid>
                <a:gridCol w="817560"/>
                <a:gridCol w="1500480"/>
                <a:gridCol w="2074680"/>
                <a:gridCol w="3683160"/>
              </a:tblGrid>
              <a:tr h="3477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atu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eg.číslo projektů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říjemc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Název projektu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77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12.20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Z.1.05/1.1.00/02.009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ápadočeská univerzita v Plzn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TIS - Nové technologie pro informační společnos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12.20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Z.1.05/2.1.00/03.008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ápadočeská univerzita v Plzn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ntrum nových technologií a materiálů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592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12.20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Z.1.05/2.1.00/03.008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niverzita Tomáše Bati ve Zlíně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ntrum bezpečnostních, informačních a pokročilých technologií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77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12.20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Z.1.05/2.1.00/01.00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ysoké učení technické v Brně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TME Centre (Nové technologie pro strojírenství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55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12.20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Z.1.05/2.1.00/03.007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ysoké učení technické v Brně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ntrum senzorických, informačních a komunikačních systémů (SIX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592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.12.20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Z.1.05/2.1.00/01.001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Ústav přístrojové techniky AV ČR, v.v.i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likační a vývojové laboratoře pokročilých mikrotechnologií a nanotechnologií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.12.20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Z.1.05/1.1.00/02.007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Ústav systémové biologie a ekologie  AV ČR, v.v.i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zechGlobe - Centrum pro studium dopadů globální změny klimatu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.12.20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Z.1.05/1.1.00/02.006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Ústav teoretické a aplikované mechaniky  AV ČR, v.v.i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ntrum excelence Telč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771280" y="1125000"/>
            <a:ext cx="4753080" cy="15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300" spc="-1" strike="noStrike">
                <a:solidFill>
                  <a:srgbClr val="ffffff"/>
                </a:solidFill>
                <a:latin typeface="Arial"/>
              </a:rPr>
              <a:t>Děkuji za pozornost</a:t>
            </a:r>
            <a:br>
              <a:rPr sz="3300"/>
            </a:br>
            <a:r>
              <a:rPr b="0" lang="cs-CZ" sz="33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90720" y="247320"/>
            <a:ext cx="7696080" cy="82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4943e"/>
                </a:solidFill>
                <a:latin typeface="Arial"/>
              </a:rPr>
              <a:t>Osnova prezent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115640" y="2420640"/>
            <a:ext cx="7056360" cy="26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Náplň činnosti Útvar Zmocněnce pro udržitelnost výzkumných cen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Aktuální stav v monitoringu výzkumných cen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Harmonogram návštěv do konce roku 20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90720" y="247320"/>
            <a:ext cx="7696080" cy="82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4943e"/>
                </a:solidFill>
                <a:latin typeface="Arial"/>
              </a:rPr>
              <a:t>Charakteristika výchozího stavu - udržiteln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042920" y="1628280"/>
            <a:ext cx="7058160" cy="283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7840" indent="-177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Definice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udržitelnosti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NAŘÍZENÍ RADY (ES) č. 1083/2006 ze dne 11. července 2006 o obecných ustanoveních o Evropském fondu pro regionální rozvoj, Evropském sociálním fondu a Fondu soudržnosti a o zrušení nařízení (ES) č. 1260/1999 vymezuje udržitelnost jako „stálost operací“, investice musí být po dobu 5 let od ukončení realizace zachována ke stanovenému účelu, nesmí dojít ke změně činnosti nebo k provádění aktivit, které by zakládaly nepovolenou veřejnou podporu. Rovněž nesmí dojít ke změně formy vlastnictví infrastruktury pořízené z dota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Česká republika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se,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prostřednictvím Rady pro výzkum, vývoj a inovace („RVVI“), 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zavázala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k zajištění udržitelnosti podpořených VaV center po dobu 5ti let po ukončení podpory z OP VaVp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90720" y="247320"/>
            <a:ext cx="7696080" cy="82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4943e"/>
                </a:solidFill>
                <a:latin typeface="Arial"/>
              </a:rPr>
              <a:t>Útvar Zmocněnce pro udržitelnost </a:t>
            </a:r>
            <a:br>
              <a:rPr sz="2400"/>
            </a:br>
            <a:r>
              <a:rPr b="1" lang="cs-CZ" sz="2400" spc="-1" strike="noStrike">
                <a:solidFill>
                  <a:srgbClr val="34943e"/>
                </a:solidFill>
                <a:latin typeface="Arial"/>
              </a:rPr>
              <a:t>výzkumných center – náplň činn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176040" indent="-176040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ři návštěvách na místě zjišťujeme a zpřesňujeme především inform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2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ověřující 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naplnění účelu projektu 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i v období udržitelnosti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2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plnění indikátorů udržitelnosti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, které byly stanoveny při schvalování projektu výzkumných cente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2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v případě center ve fázi udržitelnosti informace o jejich 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reálných provozních výdajích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, v případě center ve fázi realizace informace zpřesňující predikce provozních výdajů a příjmů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2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o konstituování a dosavadním 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fungování výzkumných týmů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, které budou pracovat v nově otevíraných či dostavovaných výzkumných centrech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2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o termínu 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dostavby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a zprovoznění 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výzkumných cente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2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o možných 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komplikacích a nových problémech 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z činnosti cente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90720" y="247320"/>
            <a:ext cx="7696080" cy="82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4943e"/>
                </a:solidFill>
                <a:latin typeface="Arial"/>
              </a:rPr>
              <a:t>Útvar Zmocněnce pro udržitelnost </a:t>
            </a:r>
            <a:br>
              <a:rPr sz="2400"/>
            </a:br>
            <a:r>
              <a:rPr b="1" lang="cs-CZ" sz="2400" spc="-1" strike="noStrike">
                <a:solidFill>
                  <a:srgbClr val="34943e"/>
                </a:solidFill>
                <a:latin typeface="Arial"/>
              </a:rPr>
              <a:t>výzkumných center – složení útva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990720" y="1428480"/>
            <a:ext cx="769608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7840" indent="-177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Zmocněnec pro udržitelnost výzkumných center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prof. Ing. Eva Kislingerová, CS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e-mail: eva.kislingerova@msmt.cz, tel.: 234 813 1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Členové monitoringu útvaru Zmocněnce pro udržitelnost výzkumných cent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7873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Ing. Karel Pavel - generální ředitel farmaceutické fir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7873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e-mail: karel.pavel@msmt.cz, tel.: 602 374 6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7873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RNDr. Jan Mikeska, CSc. - vedoucí oddělení výzkumu farmaceutické fir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7873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e-mail: jan.mikeska@msmt.cz, tel.: 777 651 6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7873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Ing. Petr Kubant - odborník z oblasti stavebnictv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7873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e-mail: petr.kubant@msmt.cz, tel.:602 746 4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7873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Ing. Markéta Hlavinková - garant kontrol OP VaV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7873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e-mail: marketa.hlavinkova@msmt.cz, tel.: 773 001 79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Bc. Dana Léwová – analytik, asist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e-mail: dana.lew@msmt.cz, tel.: 604 646 79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Adresa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: U lužického semináře 90/13, Malá Strana, 118 00 Praha 1, kancelář č. 2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90720" y="247320"/>
            <a:ext cx="7696080" cy="82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4943e"/>
                </a:solidFill>
                <a:latin typeface="Arial"/>
              </a:rPr>
              <a:t>Aktuální stav v monitoringu výzkumných center</a:t>
            </a:r>
            <a:br>
              <a:rPr sz="2400"/>
            </a:br>
            <a:r>
              <a:rPr b="1" lang="cs-CZ" sz="2400" spc="-1" strike="noStrike">
                <a:solidFill>
                  <a:srgbClr val="34943e"/>
                </a:solidFill>
                <a:latin typeface="Arial"/>
              </a:rPr>
              <a:t>navštívená cen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539640" y="1844640"/>
          <a:ext cx="8075880" cy="3710160"/>
        </p:xfrm>
        <a:graphic>
          <a:graphicData uri="http://schemas.openxmlformats.org/drawingml/2006/table">
            <a:tbl>
              <a:tblPr/>
              <a:tblGrid>
                <a:gridCol w="817560"/>
                <a:gridCol w="1500480"/>
                <a:gridCol w="2074680"/>
                <a:gridCol w="3683160"/>
              </a:tblGrid>
              <a:tr h="360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Navštíven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eg.číslo projektů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říjemc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Název projektu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592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. 9. 20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Z.1.05/1.1.00/02.01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Ústav molekulární genetiky AV ČR, v.v.i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Biotechnologické a biomedicínské centrum Akademie věd a Univerzity Karlov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6. 10. 20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Z.1.05/2.1.00/03.009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VÚTS, a.s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entrum rozvoje strojírenského výzkumu Liberec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6. 10. 20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Z.1.05/2.1.00/01.000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echnická Univerzita v Liberc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entrum pro nanomateriály, pokročilé technologie a inovac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7. 10. 20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Z.1.05/2.1.00/03.010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entrum výzkumu Řež s.r.o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Udržitelná Energetik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0. 10. 20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Z.1.05/2.1.00/03.007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sychiatrické centrum Prah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Národní ústav duševního zdraví (NUDZ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55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3. 10. 20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Z.1.05/2.1.00/03.01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Výzkumný a šlechtitelský ústav ovocnářský Holovousy s.r.o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Ovocnářský výzkumný institu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592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7. 10. 20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Z.1.05/2.1.00/01.00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Výzkumný ústav veterinárního lékařství, v.v.i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entrum pro aplikovanou mikrobiologii a imunologii ve veterinární medicíně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9. 10. 20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Z.1.05/2.1.00/01.00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Univerzita Palackého v Olomouc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Biomedicína pro regionální rozvoj a lidské zdroje (BIOMEDREG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592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9. 10. 20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Z.1.05/2.1.00/01.000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Univerzita Palackého v Olomouc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entrum regionu Haná pro biotechnologický a zemědělský výzku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90720" y="247320"/>
            <a:ext cx="7696080" cy="82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4943e"/>
                </a:solidFill>
                <a:latin typeface="Arial"/>
              </a:rPr>
              <a:t>Aktuální stav v monitoringu výzkumných center</a:t>
            </a:r>
            <a:br>
              <a:rPr sz="2400"/>
            </a:br>
            <a:r>
              <a:rPr b="1" lang="cs-CZ" sz="2400" spc="-1" strike="noStrike">
                <a:solidFill>
                  <a:srgbClr val="34943e"/>
                </a:solidFill>
                <a:latin typeface="Arial"/>
              </a:rPr>
              <a:t>navštívená cen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539640" y="1844640"/>
          <a:ext cx="8075880" cy="3719520"/>
        </p:xfrm>
        <a:graphic>
          <a:graphicData uri="http://schemas.openxmlformats.org/drawingml/2006/table">
            <a:tbl>
              <a:tblPr/>
              <a:tblGrid>
                <a:gridCol w="817560"/>
                <a:gridCol w="1500480"/>
                <a:gridCol w="2074680"/>
                <a:gridCol w="3683160"/>
              </a:tblGrid>
              <a:tr h="360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Navštíven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eg.číslo projektů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říjemc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Název projektu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0. 10. 20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Z.1.05/2.1.00/03.005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Univerzita Palackého v Olomouc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egionální centrum pokročilých technologií a materiálů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5. 11. 20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Z.1.05/2.1.00/03.008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MemBrain s.r.o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Membránové inovační centru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592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7. 11. 20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Z.1.05/2.1.00/01.002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Jihočeská univerzita v Českých Budějovicíc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Jihočeské výzkumné centrum akvakultury a biodiverzity hydrocenóz (CENAKVA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55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0. 11. 20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Z.1.05/2.1.00/03.012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České vysoké učení technické v Praz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ořízení technologie pro Centrum vozidel udržitelné mobility (CVUM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2. 11. 20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Z.1.05/2.1.00/03.007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OMTES FHT a.s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Západočeské materiálově metalurgické centrum (ZMMC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9. 11. 20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Z.1.05/2.1.00/01.00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Masarykova univerzita, Brn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ETOCOE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55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9. 11. 20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Z.1.05/2.1.00/03.009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Vysoké učení technické v Brně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dMaS - Pokročilé stavební materiály, konstrukce a technologi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. 11. 20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Z.1.05/2.1.00/03.01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Mikrobiologický ústav AV ČR, v.v.i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entrum řasových biotechnologií Třeboň (Algatech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55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. 11. 20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Z.1.05/1.1.00/02.007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Vysoká škola báňská-technická univerzita Ostrav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entrum excelence IT4Innovation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90720" y="247320"/>
            <a:ext cx="7696080" cy="82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4943e"/>
                </a:solidFill>
                <a:latin typeface="Arial"/>
              </a:rPr>
              <a:t>Aktuální stav v monitoringu výzkumných center</a:t>
            </a:r>
            <a:br>
              <a:rPr sz="2400"/>
            </a:br>
            <a:r>
              <a:rPr b="1" lang="cs-CZ" sz="2400" spc="-1" strike="noStrike">
                <a:solidFill>
                  <a:srgbClr val="34943e"/>
                </a:solidFill>
                <a:latin typeface="Arial"/>
              </a:rPr>
              <a:t>navštívená cen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539640" y="1844640"/>
          <a:ext cx="8075880" cy="3249720"/>
        </p:xfrm>
        <a:graphic>
          <a:graphicData uri="http://schemas.openxmlformats.org/drawingml/2006/table">
            <a:tbl>
              <a:tblPr/>
              <a:tblGrid>
                <a:gridCol w="817560"/>
                <a:gridCol w="1500480"/>
                <a:gridCol w="2074680"/>
                <a:gridCol w="3683160"/>
              </a:tblGrid>
              <a:tr h="38268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atu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eg.číslo projektů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říjemc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Název projektu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68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. 11. 20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Z.1.05/2.1.00/03.006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Vysoká škola báňská-technická univerzita Ostrav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ENET - Energetické jednotky pro využití netradičních zdrojů energi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32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. 11. 20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Z.1.05/2.1.00/01.004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Vysoká škola báňská-technická univerzita Ostrav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gionální materiálově technologické výzkumné centru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68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.11.20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Z.1.05/2.1.00/03.008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Vysoká škola báňská-technická univerzita Ostrav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stitut čistých technologií těžby a užití energetických surovi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68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.11.20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Z.1.05/2.1.00/03.01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Vysoká škola báňská-technická univerzita Ostrav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stitut environmentálních technologií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32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.11.20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Z.1.05/2.1.00/01.003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Vysoká škola báňská-technická univerzita Ostrav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ovace pro efektivitu a životní prostředí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68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.11.20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Z.1.05/2.1.00/01.00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ysoké učení technické v Brně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ntra materiálového výzkumu na FCH VUT v Brně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68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.11.20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Z.1.05/2.1.00/01.00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ysoké učení technické v Brně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ntrum výzkumu a využití obnovitelných zdrojů energi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90720" y="247320"/>
            <a:ext cx="7696080" cy="82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4943e"/>
                </a:solidFill>
                <a:latin typeface="Arial"/>
              </a:rPr>
              <a:t>Shrnutí – indikátory udržiteln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990720" y="1600200"/>
            <a:ext cx="7696080" cy="15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7840" indent="-177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U všech navštívených 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center ve fázi udržitelnosti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bylo při závěrečném hodnocení shledáno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že naplnila věcný účel projektu i přesto, že nebyly naplněny všechny závazné indikát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Z hlediska plnění 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závazných indikátorů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pro dobu udržitelnosti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je společným problémem objem smluvního výzkumu, který se nepodařilo žádnému, vyjma jediného, z center naplni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500040" y="3486240"/>
          <a:ext cx="8064360" cy="2454120"/>
        </p:xfrm>
        <a:graphic>
          <a:graphicData uri="http://schemas.openxmlformats.org/drawingml/2006/table">
            <a:tbl>
              <a:tblPr/>
              <a:tblGrid>
                <a:gridCol w="2303640"/>
                <a:gridCol w="720720"/>
                <a:gridCol w="718920"/>
                <a:gridCol w="720720"/>
                <a:gridCol w="719280"/>
                <a:gridCol w="720720"/>
                <a:gridCol w="720720"/>
                <a:gridCol w="718920"/>
                <a:gridCol w="720720"/>
              </a:tblGrid>
              <a:tr h="35064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Z.1.05/2.1.00/01.00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Z.1.05/2.1.00/01.0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Z.1.05/2.1.00/03.005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Z.1.05/2.1.00/01.00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Z.1.05/2.1.00/01.0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Z.1.05/2.1.00/01.002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Z.1.05/2.1.00/03.01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Z.1.05/2.1.00/03.00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Objem smluvního výzkumu (tis. Kč) 1112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38761d"/>
                          </a:solidFill>
                          <a:latin typeface="Calibri"/>
                          <a:ea typeface="Times New Roman"/>
                        </a:rPr>
                        <a:t>1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ead3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f7981d"/>
                          </a:solidFill>
                          <a:latin typeface="Calibri"/>
                          <a:ea typeface="Times New Roman"/>
                        </a:rPr>
                        <a:t>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f7981d"/>
                          </a:solidFill>
                          <a:latin typeface="Calibri"/>
                          <a:ea typeface="Times New Roman"/>
                        </a:rPr>
                        <a:t>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f7981d"/>
                          </a:solidFill>
                          <a:latin typeface="Calibri"/>
                          <a:ea typeface="Times New Roman"/>
                        </a:rPr>
                        <a:t>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bdb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f7981d"/>
                          </a:solidFill>
                          <a:latin typeface="Calibri"/>
                          <a:ea typeface="Times New Roman"/>
                        </a:rPr>
                        <a:t>5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000" spc="-1" strike="noStrike">
                          <a:solidFill>
                            <a:srgbClr val="f7981d"/>
                          </a:solidFill>
                          <a:latin typeface="Calibri"/>
                          <a:ea typeface="Times New Roman"/>
                        </a:rPr>
                        <a:t>6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bdb"/>
                    </a:solidFill>
                  </a:tcPr>
                </a:tc>
              </a:tr>
              <a:tr h="52524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očet nově vytvořených pracovních míst, zaměstnanci VaV - celkem</a:t>
                      </a:r>
                      <a:br>
                        <a:rPr sz="1000"/>
                      </a:b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103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38761d"/>
                          </a:solidFill>
                          <a:latin typeface="Calibri"/>
                          <a:ea typeface="Times New Roman"/>
                        </a:rPr>
                        <a:t>1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ead3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38761d"/>
                          </a:solidFill>
                          <a:latin typeface="Calibri"/>
                          <a:ea typeface="Times New Roman"/>
                        </a:rPr>
                        <a:t>2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ead3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38761d"/>
                          </a:solidFill>
                          <a:latin typeface="Calibri"/>
                          <a:ea typeface="Times New Roman"/>
                        </a:rPr>
                        <a:t>1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ead3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38761d"/>
                          </a:solidFill>
                          <a:latin typeface="Calibri"/>
                          <a:ea typeface="Times New Roman"/>
                        </a:rPr>
                        <a:t>1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ead3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38761d"/>
                          </a:solidFill>
                          <a:latin typeface="Calibri"/>
                          <a:ea typeface="Times New Roman"/>
                        </a:rPr>
                        <a:t>1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ead3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f7981d"/>
                          </a:solidFill>
                          <a:latin typeface="Calibri"/>
                          <a:ea typeface="Times New Roman"/>
                        </a:rPr>
                        <a:t>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000" spc="-1" strike="noStrike">
                          <a:solidFill>
                            <a:srgbClr val="f7981d"/>
                          </a:solidFill>
                          <a:latin typeface="Calibri"/>
                          <a:ea typeface="Times New Roman"/>
                        </a:rPr>
                        <a:t>8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f7981d"/>
                          </a:solidFill>
                          <a:latin typeface="Calibri"/>
                          <a:ea typeface="Times New Roman"/>
                        </a:rPr>
                        <a:t>9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očet nově vytvořených pracovních míst, výzkumní pracovníci celkem</a:t>
                      </a:r>
                      <a:br>
                        <a:rPr sz="1000"/>
                      </a:b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717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38761d"/>
                          </a:solidFill>
                          <a:latin typeface="Calibri"/>
                          <a:ea typeface="Times New Roman"/>
                        </a:rPr>
                        <a:t>12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ead3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38761d"/>
                          </a:solidFill>
                          <a:latin typeface="Calibri"/>
                          <a:ea typeface="Times New Roman"/>
                        </a:rPr>
                        <a:t>2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ead3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38761d"/>
                          </a:solidFill>
                          <a:latin typeface="Calibri"/>
                          <a:ea typeface="Times New Roman"/>
                        </a:rPr>
                        <a:t>1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ead3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38761d"/>
                          </a:solidFill>
                          <a:latin typeface="Calibri"/>
                          <a:ea typeface="Times New Roman"/>
                        </a:rPr>
                        <a:t>1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ead3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38761d"/>
                          </a:solidFill>
                          <a:latin typeface="Calibri"/>
                          <a:ea typeface="Times New Roman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ead3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f7981d"/>
                          </a:solidFill>
                          <a:latin typeface="Calibri"/>
                          <a:ea typeface="Times New Roman"/>
                        </a:rPr>
                        <a:t>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000" spc="-1" strike="noStrike">
                          <a:solidFill>
                            <a:srgbClr val="f7981d"/>
                          </a:solidFill>
                          <a:latin typeface="Calibri"/>
                          <a:ea typeface="Times New Roman"/>
                        </a:rPr>
                        <a:t>8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f7981d"/>
                          </a:solidFill>
                          <a:latin typeface="Calibri"/>
                          <a:ea typeface="Times New Roman"/>
                        </a:rPr>
                        <a:t>9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zšířené nebo zrekonstruované kapacity</a:t>
                      </a:r>
                      <a:br>
                        <a:rPr sz="1000"/>
                      </a:b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105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f7981d"/>
                          </a:solidFill>
                          <a:latin typeface="Calibri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38761d"/>
                          </a:solidFill>
                          <a:latin typeface="Calibri"/>
                          <a:ea typeface="Times New Roman"/>
                        </a:rPr>
                        <a:t>1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38761d"/>
                          </a:solidFill>
                          <a:latin typeface="Calibri"/>
                          <a:ea typeface="Times New Roman"/>
                        </a:rPr>
                        <a:t>1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ead3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38761d"/>
                          </a:solidFill>
                          <a:latin typeface="Calibri"/>
                          <a:ea typeface="Times New Roman"/>
                        </a:rPr>
                        <a:t>1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ead3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38761d"/>
                          </a:solidFill>
                          <a:latin typeface="Calibri"/>
                          <a:ea typeface="Times New Roman"/>
                        </a:rPr>
                        <a:t>1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ead3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38761d"/>
                          </a:solidFill>
                          <a:latin typeface="Calibri"/>
                          <a:ea typeface="Times New Roman"/>
                        </a:rPr>
                        <a:t>1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ead3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000" spc="-1" strike="noStrike">
                          <a:solidFill>
                            <a:srgbClr val="f7981d"/>
                          </a:solidFill>
                          <a:latin typeface="Calibri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f7981d"/>
                          </a:solidFill>
                          <a:latin typeface="Calibri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064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Vybudované kapacity</a:t>
                      </a:r>
                      <a:br>
                        <a:rPr sz="1000"/>
                      </a:b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105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38761d"/>
                          </a:solidFill>
                          <a:latin typeface="Calibri"/>
                          <a:ea typeface="Times New Roman"/>
                        </a:rPr>
                        <a:t>1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ead3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f7981d"/>
                          </a:solidFill>
                          <a:latin typeface="Calibri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38761d"/>
                          </a:solidFill>
                          <a:latin typeface="Calibri"/>
                          <a:ea typeface="Times New Roman"/>
                        </a:rPr>
                        <a:t>1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ead3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f7981d"/>
                          </a:solidFill>
                          <a:latin typeface="Calibri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38761d"/>
                          </a:solidFill>
                          <a:latin typeface="Calibri"/>
                          <a:ea typeface="Times New Roman"/>
                        </a:rPr>
                        <a:t>1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ead3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38761d"/>
                          </a:solidFill>
                          <a:latin typeface="Calibri"/>
                          <a:ea typeface="Times New Roman"/>
                        </a:rPr>
                        <a:t>1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ead3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000" spc="-1" strike="noStrike">
                          <a:solidFill>
                            <a:srgbClr val="f7981d"/>
                          </a:solidFill>
                          <a:latin typeface="Calibri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38761d"/>
                          </a:solidFill>
                          <a:latin typeface="Calibri"/>
                          <a:ea typeface="Times New Roman"/>
                        </a:rPr>
                        <a:t>1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ead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1T08:18:25Z</dcterms:created>
  <dc:creator>Dana Léwová</dc:creator>
  <dc:description>Předkládá prof. Kislingerová, připravila Dana Léwová</dc:description>
  <dc:language>en-US</dc:language>
  <cp:lastModifiedBy>Dana</cp:lastModifiedBy>
  <cp:lastPrinted>2014-10-23T13:48:19Z</cp:lastPrinted>
  <dcterms:modified xsi:type="dcterms:W3CDTF">2014-11-27T14:27:55Z</dcterms:modified>
  <cp:revision>617</cp:revision>
  <dc:subject/>
  <dc:title>Seminář pro žadatele  OP VaVpI v rámci PO 4</dc:title>
</cp:coreProperties>
</file>