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531-30A7-493C-B0E6-AAC0EEE5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03E-1DB8-4F1A-AB48-4D766728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954-84FB-4D70-ABA6-1574EB30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8A6-33F4-491C-8576-E9ABB159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B51C-C9F7-4E07-8669-C7E5FB8C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18A9-53A4-4F87-A350-5098D2DF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2B90-2814-416E-827D-B98539DB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99A8-6F1E-4876-8738-30DDDC38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3095-EC00-4B86-8A99-F77EC8E1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33E3-AC95-425A-9C7D-C21FA56F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9BB0-5284-4646-A0B6-80B30119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83A-68D4-4BE7-8DA0-BBE8FD29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2C77-0ACA-444F-913E-5D6A3DF1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4B64-E7E0-49E7-86C0-0DE89193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AE9E-A380-4D1B-8AAA-5A2ECA01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43A9-7162-4231-B1EB-47257E08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182B-AEB0-435B-BDCD-94C21190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2E0F02-2288-4F7E-B6E3-58C60D6F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640AD6-859A-46F5-BF49-447A1FF5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A0769E-3597-43C2-92E3-15F8180C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A2DCD9-F74E-4BFC-AA7A-B671FD4F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7DA01E-8067-4BA9-BD73-AE08662C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DBA-B3E0-49E6-9FEE-E8341845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6036D9-8A36-4F08-8A75-B84061A2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5CD7DF-82D5-4F21-BD14-D98EDBD1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F54E4F-D4A2-40FD-9962-A52F7238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2358C3-3761-41AF-835C-E1BC2871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6C252A-6200-4F58-8FE2-A3216813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73AA2B-299D-406D-BB90-860B2593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FEE734-4A7D-400D-892D-293A842B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3E8-FD6D-4B05-A711-8D71CAC7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ACC8-05C4-4437-AECA-3F3FEAE6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775-1779-4964-9616-D84C4BB7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16F-40A4-4D6F-9DDB-9846C179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931C-C962-409C-8A29-FE2BFB9E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8095-BEAF-4DBD-832B-485DA14A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FFC1-D1B3-4789-A901-D050A531F514}" type="datetime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081F-0E86-425D-90A9-D4CAD643884B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49C5-F5F2-45A7-9DA1-79C6A6BE9F9B}" type="datetime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4C0F-A440-43E7-84FF-771A7B880DAA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ázek 6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7"/>
          </p:nvPr>
        </p:nvSpPr>
        <p:spPr>
          <a:xfrm>
            <a:off x="778644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DA24-4C3B-4F8D-BA3D-08BDD76D5060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815D-E4DB-4AA1-907A-D9DFC597F429}" type="datetime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etodika.reformy-msmt.cz/?utm_source=Prezentace&amp;utm_medium=Soubory&amp;utm_campaign=prez_metodika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etodika.reformy-msmt.cz/?utm_source=Prezentace&amp;utm_medium=Soubory&amp;utm_campaign=prez_metodika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rázek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714920" y="3141360"/>
            <a:ext cx="4000320" cy="20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oving Forward with NE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Erik Arnold, Technopol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RDI Council 26 June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ovéPole 7"/>
          <p:cNvSpPr/>
          <p:nvPr/>
        </p:nvSpPr>
        <p:spPr>
          <a:xfrm>
            <a:off x="720720" y="60843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79" name="Straight Arrow Connector 16"/>
          <p:cNvCxnSpPr/>
          <p:nvPr/>
        </p:nvCxnSpPr>
        <p:spPr>
          <a:xfrm>
            <a:off x="1547640" y="3284280"/>
            <a:ext cx="194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verview of the funding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F812-1323-4AA3-A981-FDD04749ACA7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760320" y="2708280"/>
            <a:ext cx="62424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1619280" y="1979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try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268360" y="2708280"/>
            <a:ext cx="358920" cy="11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7"/>
          <p:cNvSpPr/>
          <p:nvPr/>
        </p:nvSpPr>
        <p:spPr>
          <a:xfrm>
            <a:off x="3564000" y="3137040"/>
            <a:ext cx="147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0"/>
          <p:cNvSpPr/>
          <p:nvPr/>
        </p:nvSpPr>
        <p:spPr>
          <a:xfrm>
            <a:off x="3564000" y="3933720"/>
            <a:ext cx="147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1"/>
          <p:cNvSpPr/>
          <p:nvPr/>
        </p:nvSpPr>
        <p:spPr>
          <a:xfrm>
            <a:off x="3564000" y="5084640"/>
            <a:ext cx="1479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tomatic on rene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2"/>
          <p:cNvSpPr/>
          <p:nvPr/>
        </p:nvSpPr>
        <p:spPr>
          <a:xfrm>
            <a:off x="6372360" y="2852640"/>
            <a:ext cx="26636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6372360" y="3933720"/>
            <a:ext cx="2663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ance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6372360" y="4437000"/>
            <a:ext cx="266364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k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3786840" y="1989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8"/>
          <p:cNvSpPr/>
          <p:nvPr/>
        </p:nvSpPr>
        <p:spPr>
          <a:xfrm>
            <a:off x="7171920" y="198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Straight Arrow Connector 19"/>
          <p:cNvCxnSpPr/>
          <p:nvPr/>
        </p:nvCxnSpPr>
        <p:spPr>
          <a:xfrm>
            <a:off x="1547640" y="4076280"/>
            <a:ext cx="194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4" name="Straight Arrow Connector 20"/>
          <p:cNvCxnSpPr/>
          <p:nvPr/>
        </p:nvCxnSpPr>
        <p:spPr>
          <a:xfrm>
            <a:off x="1547640" y="5300280"/>
            <a:ext cx="194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5" name="Straight Arrow Connector 22"/>
          <p:cNvCxnSpPr/>
          <p:nvPr/>
        </p:nvCxnSpPr>
        <p:spPr>
          <a:xfrm>
            <a:off x="5148360" y="3284280"/>
            <a:ext cx="1080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6" name="Straight Arrow Connector 23"/>
          <p:cNvCxnSpPr/>
          <p:nvPr/>
        </p:nvCxnSpPr>
        <p:spPr>
          <a:xfrm>
            <a:off x="5148360" y="4076280"/>
            <a:ext cx="1080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7" name="Straight Arrow Connector 24"/>
          <p:cNvCxnSpPr/>
          <p:nvPr/>
        </p:nvCxnSpPr>
        <p:spPr>
          <a:xfrm>
            <a:off x="5148360" y="5300280"/>
            <a:ext cx="1080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RFS at a more detailed level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98B3-AC22-40FD-9BDC-A82ABFE2C8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"/>
          <p:cNvGrpSpPr/>
          <p:nvPr/>
        </p:nvGrpSpPr>
        <p:grpSpPr>
          <a:xfrm>
            <a:off x="0" y="1413000"/>
            <a:ext cx="8964720" cy="4895640"/>
            <a:chOff x="0" y="1413000"/>
            <a:chExt cx="8964720" cy="4895640"/>
          </a:xfrm>
        </p:grpSpPr>
        <p:grpSp>
          <p:nvGrpSpPr>
            <p:cNvPr id="301" name="Group 6"/>
            <p:cNvGrpSpPr/>
            <p:nvPr/>
          </p:nvGrpSpPr>
          <p:grpSpPr>
            <a:xfrm>
              <a:off x="1403280" y="2133720"/>
              <a:ext cx="936360" cy="647640"/>
              <a:chOff x="1403280" y="2133720"/>
              <a:chExt cx="936360" cy="647640"/>
            </a:xfrm>
          </p:grpSpPr>
          <p:sp>
            <p:nvSpPr>
              <p:cNvPr id="302" name="Cloud 4"/>
              <p:cNvSpPr/>
              <p:nvPr/>
            </p:nvSpPr>
            <p:spPr>
              <a:xfrm>
                <a:off x="1403280" y="213372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Box 5"/>
              <p:cNvSpPr/>
              <p:nvPr/>
            </p:nvSpPr>
            <p:spPr>
              <a:xfrm>
                <a:off x="1423800" y="220536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7"/>
            <p:cNvGrpSpPr/>
            <p:nvPr/>
          </p:nvGrpSpPr>
          <p:grpSpPr>
            <a:xfrm>
              <a:off x="1403280" y="2997360"/>
              <a:ext cx="936360" cy="647640"/>
              <a:chOff x="1403280" y="2997360"/>
              <a:chExt cx="936360" cy="647640"/>
            </a:xfrm>
          </p:grpSpPr>
          <p:sp>
            <p:nvSpPr>
              <p:cNvPr id="305" name="Cloud 8"/>
              <p:cNvSpPr/>
              <p:nvPr/>
            </p:nvSpPr>
            <p:spPr>
              <a:xfrm>
                <a:off x="1403280" y="299736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Box 9"/>
              <p:cNvSpPr/>
              <p:nvPr/>
            </p:nvSpPr>
            <p:spPr>
              <a:xfrm>
                <a:off x="1423800" y="306900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0"/>
            <p:cNvGrpSpPr/>
            <p:nvPr/>
          </p:nvGrpSpPr>
          <p:grpSpPr>
            <a:xfrm>
              <a:off x="1403280" y="3933720"/>
              <a:ext cx="936360" cy="647640"/>
              <a:chOff x="1403280" y="3933720"/>
              <a:chExt cx="936360" cy="647640"/>
            </a:xfrm>
          </p:grpSpPr>
          <p:sp>
            <p:nvSpPr>
              <p:cNvPr id="308" name="Cloud 11"/>
              <p:cNvSpPr/>
              <p:nvPr/>
            </p:nvSpPr>
            <p:spPr>
              <a:xfrm>
                <a:off x="1403280" y="393372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Box 12"/>
              <p:cNvSpPr/>
              <p:nvPr/>
            </p:nvSpPr>
            <p:spPr>
              <a:xfrm>
                <a:off x="1423800" y="400536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13"/>
            <p:cNvGrpSpPr/>
            <p:nvPr/>
          </p:nvGrpSpPr>
          <p:grpSpPr>
            <a:xfrm>
              <a:off x="1403280" y="4797360"/>
              <a:ext cx="936360" cy="647640"/>
              <a:chOff x="1403280" y="4797360"/>
              <a:chExt cx="936360" cy="647640"/>
            </a:xfrm>
          </p:grpSpPr>
          <p:sp>
            <p:nvSpPr>
              <p:cNvPr id="311" name="Cloud 14"/>
              <p:cNvSpPr/>
              <p:nvPr/>
            </p:nvSpPr>
            <p:spPr>
              <a:xfrm>
                <a:off x="1403280" y="479736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Box 15"/>
              <p:cNvSpPr/>
              <p:nvPr/>
            </p:nvSpPr>
            <p:spPr>
              <a:xfrm>
                <a:off x="1423800" y="486900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TextBox 16"/>
            <p:cNvSpPr/>
            <p:nvPr/>
          </p:nvSpPr>
          <p:spPr>
            <a:xfrm>
              <a:off x="107640" y="220500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anagement &amp; potent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17"/>
            <p:cNvSpPr/>
            <p:nvPr/>
          </p:nvSpPr>
          <p:spPr>
            <a:xfrm>
              <a:off x="0" y="2997360"/>
              <a:ext cx="1403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mbership of research commun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18"/>
            <p:cNvSpPr/>
            <p:nvPr/>
          </p:nvSpPr>
          <p:spPr>
            <a:xfrm>
              <a:off x="107640" y="39337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search excell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19"/>
            <p:cNvSpPr/>
            <p:nvPr/>
          </p:nvSpPr>
          <p:spPr>
            <a:xfrm>
              <a:off x="107640" y="48499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search perform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20"/>
            <p:cNvSpPr/>
            <p:nvPr/>
          </p:nvSpPr>
          <p:spPr>
            <a:xfrm>
              <a:off x="1331640" y="1536480"/>
              <a:ext cx="107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21"/>
            <p:cNvSpPr/>
            <p:nvPr/>
          </p:nvSpPr>
          <p:spPr>
            <a:xfrm>
              <a:off x="2916360" y="1484280"/>
              <a:ext cx="107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eer re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2"/>
            <p:cNvSpPr/>
            <p:nvPr/>
          </p:nvSpPr>
          <p:spPr>
            <a:xfrm>
              <a:off x="3276720" y="2133720"/>
              <a:ext cx="431640" cy="417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ight Arrow 23"/>
            <p:cNvSpPr/>
            <p:nvPr/>
          </p:nvSpPr>
          <p:spPr>
            <a:xfrm>
              <a:off x="2700360" y="23493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ight Arrow 25"/>
            <p:cNvSpPr/>
            <p:nvPr/>
          </p:nvSpPr>
          <p:spPr>
            <a:xfrm>
              <a:off x="2700360" y="321300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ight Arrow 26"/>
            <p:cNvSpPr/>
            <p:nvPr/>
          </p:nvSpPr>
          <p:spPr>
            <a:xfrm>
              <a:off x="2700360" y="40766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ight Arrow 27"/>
            <p:cNvSpPr/>
            <p:nvPr/>
          </p:nvSpPr>
          <p:spPr>
            <a:xfrm>
              <a:off x="2700360" y="50133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29"/>
            <p:cNvSpPr/>
            <p:nvPr/>
          </p:nvSpPr>
          <p:spPr>
            <a:xfrm>
              <a:off x="3924360" y="213372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30"/>
            <p:cNvSpPr/>
            <p:nvPr/>
          </p:nvSpPr>
          <p:spPr>
            <a:xfrm>
              <a:off x="3924360" y="299736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31"/>
            <p:cNvSpPr/>
            <p:nvPr/>
          </p:nvSpPr>
          <p:spPr>
            <a:xfrm>
              <a:off x="3924360" y="391464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32"/>
            <p:cNvSpPr/>
            <p:nvPr/>
          </p:nvSpPr>
          <p:spPr>
            <a:xfrm>
              <a:off x="3924360" y="470700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33"/>
            <p:cNvGrpSpPr/>
            <p:nvPr/>
          </p:nvGrpSpPr>
          <p:grpSpPr>
            <a:xfrm>
              <a:off x="1403280" y="5589720"/>
              <a:ext cx="936360" cy="647640"/>
              <a:chOff x="1403280" y="5589720"/>
              <a:chExt cx="936360" cy="647640"/>
            </a:xfrm>
          </p:grpSpPr>
          <p:sp>
            <p:nvSpPr>
              <p:cNvPr id="329" name="Cloud 34"/>
              <p:cNvSpPr/>
              <p:nvPr/>
            </p:nvSpPr>
            <p:spPr>
              <a:xfrm>
                <a:off x="1403280" y="558972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Box 35"/>
              <p:cNvSpPr/>
              <p:nvPr/>
            </p:nvSpPr>
            <p:spPr>
              <a:xfrm>
                <a:off x="1423800" y="566136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36"/>
            <p:cNvSpPr/>
            <p:nvPr/>
          </p:nvSpPr>
          <p:spPr>
            <a:xfrm>
              <a:off x="107640" y="571356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ocietal relev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ight Arrow 37"/>
            <p:cNvSpPr/>
            <p:nvPr/>
          </p:nvSpPr>
          <p:spPr>
            <a:xfrm>
              <a:off x="2700360" y="580572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38"/>
            <p:cNvSpPr/>
            <p:nvPr/>
          </p:nvSpPr>
          <p:spPr>
            <a:xfrm>
              <a:off x="3924360" y="549900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45"/>
            <p:cNvSpPr/>
            <p:nvPr/>
          </p:nvSpPr>
          <p:spPr>
            <a:xfrm>
              <a:off x="5292720" y="1413000"/>
              <a:ext cx="2016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oney ‘pot’ per RO type and assessment criter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51"/>
            <p:cNvGrpSpPr/>
            <p:nvPr/>
          </p:nvGrpSpPr>
          <p:grpSpPr>
            <a:xfrm>
              <a:off x="5598720" y="2276280"/>
              <a:ext cx="1369800" cy="307080"/>
              <a:chOff x="5598720" y="2276280"/>
              <a:chExt cx="1369800" cy="307080"/>
            </a:xfrm>
          </p:grpSpPr>
          <p:sp>
            <p:nvSpPr>
              <p:cNvPr id="336" name="TextBox 46"/>
              <p:cNvSpPr/>
              <p:nvPr/>
            </p:nvSpPr>
            <p:spPr>
              <a:xfrm>
                <a:off x="559872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Box 47"/>
              <p:cNvSpPr/>
              <p:nvPr/>
            </p:nvSpPr>
            <p:spPr>
              <a:xfrm>
                <a:off x="594288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Box 48"/>
              <p:cNvSpPr/>
              <p:nvPr/>
            </p:nvSpPr>
            <p:spPr>
              <a:xfrm>
                <a:off x="628740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Box 49"/>
              <p:cNvSpPr/>
              <p:nvPr/>
            </p:nvSpPr>
            <p:spPr>
              <a:xfrm>
                <a:off x="662940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52"/>
            <p:cNvGrpSpPr/>
            <p:nvPr/>
          </p:nvGrpSpPr>
          <p:grpSpPr>
            <a:xfrm>
              <a:off x="5582520" y="3141720"/>
              <a:ext cx="1369800" cy="307080"/>
              <a:chOff x="5582520" y="3141720"/>
              <a:chExt cx="1369800" cy="307080"/>
            </a:xfrm>
          </p:grpSpPr>
          <p:sp>
            <p:nvSpPr>
              <p:cNvPr id="341" name="TextBox 53"/>
              <p:cNvSpPr/>
              <p:nvPr/>
            </p:nvSpPr>
            <p:spPr>
              <a:xfrm>
                <a:off x="558252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Box 54"/>
              <p:cNvSpPr/>
              <p:nvPr/>
            </p:nvSpPr>
            <p:spPr>
              <a:xfrm>
                <a:off x="592668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Box 55"/>
              <p:cNvSpPr/>
              <p:nvPr/>
            </p:nvSpPr>
            <p:spPr>
              <a:xfrm>
                <a:off x="627120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Box 56"/>
              <p:cNvSpPr/>
              <p:nvPr/>
            </p:nvSpPr>
            <p:spPr>
              <a:xfrm>
                <a:off x="661320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57"/>
            <p:cNvGrpSpPr/>
            <p:nvPr/>
          </p:nvGrpSpPr>
          <p:grpSpPr>
            <a:xfrm>
              <a:off x="5582520" y="4005360"/>
              <a:ext cx="1369800" cy="307080"/>
              <a:chOff x="5582520" y="4005360"/>
              <a:chExt cx="1369800" cy="307080"/>
            </a:xfrm>
          </p:grpSpPr>
          <p:sp>
            <p:nvSpPr>
              <p:cNvPr id="346" name="TextBox 58"/>
              <p:cNvSpPr/>
              <p:nvPr/>
            </p:nvSpPr>
            <p:spPr>
              <a:xfrm>
                <a:off x="558252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Box 59"/>
              <p:cNvSpPr/>
              <p:nvPr/>
            </p:nvSpPr>
            <p:spPr>
              <a:xfrm>
                <a:off x="592668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Box 60"/>
              <p:cNvSpPr/>
              <p:nvPr/>
            </p:nvSpPr>
            <p:spPr>
              <a:xfrm>
                <a:off x="627120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Box 61"/>
              <p:cNvSpPr/>
              <p:nvPr/>
            </p:nvSpPr>
            <p:spPr>
              <a:xfrm>
                <a:off x="661320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62"/>
            <p:cNvGrpSpPr/>
            <p:nvPr/>
          </p:nvGrpSpPr>
          <p:grpSpPr>
            <a:xfrm>
              <a:off x="5582520" y="4921200"/>
              <a:ext cx="1369800" cy="307080"/>
              <a:chOff x="5582520" y="4921200"/>
              <a:chExt cx="1369800" cy="307080"/>
            </a:xfrm>
          </p:grpSpPr>
          <p:sp>
            <p:nvSpPr>
              <p:cNvPr id="351" name="TextBox 63"/>
              <p:cNvSpPr/>
              <p:nvPr/>
            </p:nvSpPr>
            <p:spPr>
              <a:xfrm>
                <a:off x="558252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Box 64"/>
              <p:cNvSpPr/>
              <p:nvPr/>
            </p:nvSpPr>
            <p:spPr>
              <a:xfrm>
                <a:off x="592668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Box 65"/>
              <p:cNvSpPr/>
              <p:nvPr/>
            </p:nvSpPr>
            <p:spPr>
              <a:xfrm>
                <a:off x="627120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Box 66"/>
              <p:cNvSpPr/>
              <p:nvPr/>
            </p:nvSpPr>
            <p:spPr>
              <a:xfrm>
                <a:off x="661320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67"/>
            <p:cNvGrpSpPr/>
            <p:nvPr/>
          </p:nvGrpSpPr>
          <p:grpSpPr>
            <a:xfrm>
              <a:off x="5582520" y="5713560"/>
              <a:ext cx="1369800" cy="307080"/>
              <a:chOff x="5582520" y="5713560"/>
              <a:chExt cx="1369800" cy="307080"/>
            </a:xfrm>
          </p:grpSpPr>
          <p:sp>
            <p:nvSpPr>
              <p:cNvPr id="356" name="TextBox 68"/>
              <p:cNvSpPr/>
              <p:nvPr/>
            </p:nvSpPr>
            <p:spPr>
              <a:xfrm>
                <a:off x="558252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Box 69"/>
              <p:cNvSpPr/>
              <p:nvPr/>
            </p:nvSpPr>
            <p:spPr>
              <a:xfrm>
                <a:off x="592668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Box 70"/>
              <p:cNvSpPr/>
              <p:nvPr/>
            </p:nvSpPr>
            <p:spPr>
              <a:xfrm>
                <a:off x="627120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Box 71"/>
              <p:cNvSpPr/>
              <p:nvPr/>
            </p:nvSpPr>
            <p:spPr>
              <a:xfrm>
                <a:off x="661320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Right Arrow 72"/>
            <p:cNvSpPr/>
            <p:nvPr/>
          </p:nvSpPr>
          <p:spPr>
            <a:xfrm>
              <a:off x="5077080" y="2328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ight Arrow 73"/>
            <p:cNvSpPr/>
            <p:nvPr/>
          </p:nvSpPr>
          <p:spPr>
            <a:xfrm>
              <a:off x="5077080" y="319248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ight Arrow 74"/>
            <p:cNvSpPr/>
            <p:nvPr/>
          </p:nvSpPr>
          <p:spPr>
            <a:xfrm>
              <a:off x="5077080" y="40575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ight Arrow 75"/>
            <p:cNvSpPr/>
            <p:nvPr/>
          </p:nvSpPr>
          <p:spPr>
            <a:xfrm>
              <a:off x="5077080" y="499284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ight Arrow 76"/>
            <p:cNvSpPr/>
            <p:nvPr/>
          </p:nvSpPr>
          <p:spPr>
            <a:xfrm>
              <a:off x="5077080" y="5784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ight Arrow 77"/>
            <p:cNvSpPr/>
            <p:nvPr/>
          </p:nvSpPr>
          <p:spPr>
            <a:xfrm>
              <a:off x="7309080" y="2328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ight Arrow 78"/>
            <p:cNvSpPr/>
            <p:nvPr/>
          </p:nvSpPr>
          <p:spPr>
            <a:xfrm>
              <a:off x="7309080" y="319248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ight Arrow 79"/>
            <p:cNvSpPr/>
            <p:nvPr/>
          </p:nvSpPr>
          <p:spPr>
            <a:xfrm>
              <a:off x="7309080" y="40575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ight Arrow 80"/>
            <p:cNvSpPr/>
            <p:nvPr/>
          </p:nvSpPr>
          <p:spPr>
            <a:xfrm>
              <a:off x="7309080" y="499284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ight Arrow 81"/>
            <p:cNvSpPr/>
            <p:nvPr/>
          </p:nvSpPr>
          <p:spPr>
            <a:xfrm>
              <a:off x="7309080" y="5784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83"/>
            <p:cNvSpPr/>
            <p:nvPr/>
          </p:nvSpPr>
          <p:spPr>
            <a:xfrm>
              <a:off x="7885440" y="3645000"/>
              <a:ext cx="1079280" cy="1159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Institutional research funding per evaluated 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formance improv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f-evaluation and interaction with the assessment generates a learning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valuation Method encourages improved research management in the organisation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ter positioning for international collaboration, eg Framework Program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national inputs to the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viding an ‘Olympic’ benchma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dependence and objectivity of peer revi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ation for both policy and organisational levels, to underpin 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nding – giving incentives but also a basis for plann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 sta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wards for past perform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rategic ‘space’ for future invest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BC58-3B1D-445D-ADAB-EDEE8DA5C2EF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Carpe diem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itical window of opportunity for re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ide interest in improvement also within the research and innovation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N project has created momentum – we need to act while we still have tha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mal way to implement is to adopt all the elements of NER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’s designed to address to totality of needs in its are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modular implementation is possible – but would be slower and more expens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form needs capacity building and modifications to the nationa Research Information Syste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un the interim Evaluation Methodology in 201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ut across to NERO in time for 201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04A7-A814-4845-9730-DDE198AE6FB9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Obráze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770000" y="3428640"/>
            <a:ext cx="40006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Děkujeme za pozornost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ovéPole 6"/>
          <p:cNvSpPr/>
          <p:nvPr/>
        </p:nvSpPr>
        <p:spPr>
          <a:xfrm>
            <a:off x="720720" y="60843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problems in the research and innovation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research quality is improving but still lags the global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agmented research system, often lagging international practice in research strategy and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very high proportion of research funding is contestable in the short term, undermining development and grow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or research-industry links in many s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sufficient rate of innovation to derive adequate competitiveness and grow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&amp;I evaluation is not fit for purpo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-1623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ither at the level of the ‘coffee mill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9360" indent="-148680">
              <a:lnSpc>
                <a:spcPct val="120000"/>
              </a:lnSpc>
              <a:spcBef>
                <a:spcPts val="34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ich is methodologically unsound, causing instability and perverse behaviour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9360" indent="-148680">
              <a:lnSpc>
                <a:spcPct val="120000"/>
              </a:lnSpc>
              <a:spcBef>
                <a:spcPts val="34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d should train the community for the Olympic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9360" indent="-148680">
              <a:lnSpc>
                <a:spcPct val="120000"/>
              </a:lnSpc>
              <a:spcBef>
                <a:spcPts val="34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t in practice trains for the national ga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-1623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 more widely at the level of understanding societal impacts and informing poli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-162360">
              <a:lnSpc>
                <a:spcPct val="120000"/>
              </a:lnSpc>
              <a:spcBef>
                <a:spcPts val="451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ástupný symbol pro číslo snímku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0904-5F70-4C2B-9D17-AFD24ABC7C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&amp;I are keys to the functioning of the national innovation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D3C0-9DA1-419C-B992-C0A5C402D4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"/>
          <p:cNvSpPr/>
          <p:nvPr/>
        </p:nvSpPr>
        <p:spPr>
          <a:xfrm>
            <a:off x="395280" y="6027840"/>
            <a:ext cx="8082000" cy="0"/>
          </a:xfrm>
          <a:prstGeom prst="line">
            <a:avLst/>
          </a:prstGeom>
          <a:ln w="6480">
            <a:solidFill>
              <a:srgbClr val="808080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395280" y="1606680"/>
            <a:ext cx="8082000" cy="0"/>
          </a:xfrm>
          <a:prstGeom prst="line">
            <a:avLst/>
          </a:prstGeom>
          <a:ln w="6480">
            <a:solidFill>
              <a:srgbClr val="808080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3"/>
          <p:cNvSpPr/>
          <p:nvPr/>
        </p:nvSpPr>
        <p:spPr>
          <a:xfrm>
            <a:off x="851040" y="1628640"/>
            <a:ext cx="74516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912960" y="1792440"/>
            <a:ext cx="7634160" cy="4613040"/>
            <a:chOff x="912960" y="1792440"/>
            <a:chExt cx="7634160" cy="4613040"/>
          </a:xfrm>
        </p:grpSpPr>
        <p:sp>
          <p:nvSpPr>
            <p:cNvPr id="136" name="Slide Number Placeholder 3"/>
            <p:cNvSpPr/>
            <p:nvPr/>
          </p:nvSpPr>
          <p:spPr>
            <a:xfrm>
              <a:off x="7709040" y="6100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51DAA63-777B-4B03-BA8A-7474D7532FB4}" type="slidenum">
                <a:rPr b="0" lang="en-US" sz="1200" spc="-1" strike="noStrike">
                  <a:solidFill>
                    <a:srgbClr val="898989"/>
                  </a:solidFill>
                  <a:latin typeface="Calibri"/>
                  <a:ea typeface="Arial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6396480" y="5920560"/>
              <a:ext cx="1649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49120"/>
                  <a:tab algn="l" pos="498600"/>
                  <a:tab algn="l" pos="749160"/>
                  <a:tab algn="l" pos="998640"/>
                  <a:tab algn="l" pos="1249200"/>
                  <a:tab algn="l" pos="1498680"/>
                  <a:tab algn="l" pos="1749600"/>
                  <a:tab algn="l" pos="1998720"/>
                  <a:tab algn="l" pos="2249640"/>
                  <a:tab algn="l" pos="2498760"/>
                  <a:tab algn="l" pos="2749680"/>
                  <a:tab algn="l" pos="2998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eorgia Bold"/>
                  <a:ea typeface="Georgia Bold"/>
                </a:rPr>
                <a:t>Source: </a:t>
              </a:r>
              <a:r>
                <a:rPr b="0" lang="en-US" sz="800" spc="-1" strike="noStrike">
                  <a:solidFill>
                    <a:srgbClr val="000000"/>
                  </a:solidFill>
                  <a:latin typeface="Georgia"/>
                  <a:ea typeface="Georgia"/>
                </a:rPr>
                <a:t>Arnold &amp; Kuhlmann, 200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"/>
            <p:cNvSpPr/>
            <p:nvPr/>
          </p:nvSpPr>
          <p:spPr>
            <a:xfrm>
              <a:off x="1969920" y="2292480"/>
              <a:ext cx="6256440" cy="3841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ccd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"/>
            <p:cNvSpPr/>
            <p:nvPr/>
          </p:nvSpPr>
          <p:spPr>
            <a:xfrm>
              <a:off x="2701800" y="4729320"/>
              <a:ext cx="1787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400" spc="-1" strike="noStrike">
                  <a:solidFill>
                    <a:srgbClr val="000000"/>
                  </a:solidFill>
                  <a:latin typeface="Arial"/>
                </a:rPr>
                <a:t>The potential reach</a:t>
              </a:r>
              <a:br>
                <a:rPr sz="1400"/>
              </a:br>
              <a:r>
                <a:rPr b="1" i="1" lang="en-AU" sz="1400" spc="-1" strike="noStrike">
                  <a:solidFill>
                    <a:srgbClr val="000000"/>
                  </a:solidFill>
                  <a:latin typeface="Arial"/>
                </a:rPr>
                <a:t>of public policies 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5"/>
            <p:cNvGrpSpPr/>
            <p:nvPr/>
          </p:nvGrpSpPr>
          <p:grpSpPr>
            <a:xfrm>
              <a:off x="912960" y="1792440"/>
              <a:ext cx="7124400" cy="4608000"/>
              <a:chOff x="912960" y="1792440"/>
              <a:chExt cx="7124400" cy="4608000"/>
            </a:xfrm>
          </p:grpSpPr>
          <p:sp>
            <p:nvSpPr>
              <p:cNvPr id="141" name="Rectangle 6"/>
              <p:cNvSpPr/>
              <p:nvPr/>
            </p:nvSpPr>
            <p:spPr>
              <a:xfrm>
                <a:off x="912960" y="5622840"/>
                <a:ext cx="5201280" cy="77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7"/>
              <p:cNvSpPr/>
              <p:nvPr/>
            </p:nvSpPr>
            <p:spPr>
              <a:xfrm>
                <a:off x="5569560" y="1792440"/>
                <a:ext cx="2170080" cy="780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Framework Conditio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Financial environment; taxation and incentives; propensity to innovation and entrepreneurship; mobility</a:t>
                </a:r>
                <a:r>
                  <a:rPr b="0" lang="en-GB" sz="1000" spc="-1" strike="noStrike">
                    <a:solidFill>
                      <a:srgbClr val="ffff00"/>
                    </a:solidFill>
                    <a:latin typeface="Arial"/>
                  </a:rPr>
                  <a:t> ..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8"/>
              <p:cNvSpPr/>
              <p:nvPr/>
            </p:nvSpPr>
            <p:spPr>
              <a:xfrm>
                <a:off x="4570560" y="2933640"/>
                <a:ext cx="1516680" cy="2476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9"/>
              <p:cNvSpPr/>
              <p:nvPr/>
            </p:nvSpPr>
            <p:spPr>
              <a:xfrm>
                <a:off x="4732920" y="3049560"/>
                <a:ext cx="1218960" cy="36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Education and </a:t>
                </a:r>
                <a:br>
                  <a:rPr sz="1100"/>
                </a:b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Research Syste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10"/>
              <p:cNvSpPr/>
              <p:nvPr/>
            </p:nvSpPr>
            <p:spPr>
              <a:xfrm>
                <a:off x="4722840" y="3524040"/>
                <a:ext cx="1315080" cy="5490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Professional education and train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11"/>
              <p:cNvSpPr/>
              <p:nvPr/>
            </p:nvSpPr>
            <p:spPr>
              <a:xfrm>
                <a:off x="4724280" y="4147920"/>
                <a:ext cx="1302480" cy="564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Higher education and researc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12"/>
              <p:cNvSpPr/>
              <p:nvPr/>
            </p:nvSpPr>
            <p:spPr>
              <a:xfrm>
                <a:off x="4732920" y="4878360"/>
                <a:ext cx="1299240" cy="456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Public sector </a:t>
                </a:r>
                <a:br>
                  <a:rPr sz="1100"/>
                </a:b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researc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13"/>
              <p:cNvSpPr/>
              <p:nvPr/>
            </p:nvSpPr>
            <p:spPr>
              <a:xfrm>
                <a:off x="1074960" y="3092400"/>
                <a:ext cx="1137240" cy="18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Industrial Syste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14"/>
              <p:cNvSpPr/>
              <p:nvPr/>
            </p:nvSpPr>
            <p:spPr>
              <a:xfrm>
                <a:off x="983160" y="3475080"/>
                <a:ext cx="1392840" cy="348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Large compan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15"/>
              <p:cNvSpPr/>
              <p:nvPr/>
            </p:nvSpPr>
            <p:spPr>
              <a:xfrm>
                <a:off x="983160" y="4206960"/>
                <a:ext cx="1392840" cy="348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Mature SM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6"/>
              <p:cNvSpPr/>
              <p:nvPr/>
            </p:nvSpPr>
            <p:spPr>
              <a:xfrm>
                <a:off x="983160" y="4830840"/>
                <a:ext cx="1392840" cy="4788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New, technology-     based firm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7"/>
              <p:cNvSpPr/>
              <p:nvPr/>
            </p:nvSpPr>
            <p:spPr>
              <a:xfrm>
                <a:off x="2944800" y="3755880"/>
                <a:ext cx="1049760" cy="6854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Inter-mediar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Research institut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8"/>
              <p:cNvSpPr/>
              <p:nvPr/>
            </p:nvSpPr>
            <p:spPr>
              <a:xfrm>
                <a:off x="1460160" y="2616120"/>
                <a:ext cx="1080" cy="27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9"/>
              <p:cNvSpPr/>
              <p:nvPr/>
            </p:nvSpPr>
            <p:spPr>
              <a:xfrm flipH="1">
                <a:off x="4934520" y="2468520"/>
                <a:ext cx="2880" cy="42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20"/>
              <p:cNvSpPr/>
              <p:nvPr/>
            </p:nvSpPr>
            <p:spPr>
              <a:xfrm>
                <a:off x="1460160" y="5359320"/>
                <a:ext cx="1080" cy="27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21"/>
              <p:cNvSpPr/>
              <p:nvPr/>
            </p:nvSpPr>
            <p:spPr>
              <a:xfrm>
                <a:off x="4934520" y="5359320"/>
                <a:ext cx="0" cy="27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22"/>
              <p:cNvSpPr/>
              <p:nvPr/>
            </p:nvSpPr>
            <p:spPr>
              <a:xfrm flipV="1">
                <a:off x="2476440" y="4025520"/>
                <a:ext cx="454320" cy="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23"/>
              <p:cNvSpPr/>
              <p:nvPr/>
            </p:nvSpPr>
            <p:spPr>
              <a:xfrm>
                <a:off x="4082040" y="4030560"/>
                <a:ext cx="44316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24"/>
              <p:cNvSpPr/>
              <p:nvPr/>
            </p:nvSpPr>
            <p:spPr>
              <a:xfrm>
                <a:off x="2504520" y="3413160"/>
                <a:ext cx="1971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25"/>
              <p:cNvSpPr/>
              <p:nvPr/>
            </p:nvSpPr>
            <p:spPr>
              <a:xfrm>
                <a:off x="2456640" y="4678200"/>
                <a:ext cx="2059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26"/>
              <p:cNvSpPr/>
              <p:nvPr/>
            </p:nvSpPr>
            <p:spPr>
              <a:xfrm>
                <a:off x="1725480" y="2084400"/>
                <a:ext cx="2763000" cy="460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Consumers (final demand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Producers (intermediate demand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27"/>
              <p:cNvSpPr/>
              <p:nvPr/>
            </p:nvSpPr>
            <p:spPr>
              <a:xfrm>
                <a:off x="2817720" y="1876320"/>
                <a:ext cx="650520" cy="16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36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Deman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28"/>
              <p:cNvSpPr/>
              <p:nvPr/>
            </p:nvSpPr>
            <p:spPr>
              <a:xfrm>
                <a:off x="935280" y="1812960"/>
                <a:ext cx="4448160" cy="77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29"/>
              <p:cNvSpPr/>
              <p:nvPr/>
            </p:nvSpPr>
            <p:spPr>
              <a:xfrm>
                <a:off x="935280" y="2884320"/>
                <a:ext cx="1517040" cy="2476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30"/>
              <p:cNvSpPr/>
              <p:nvPr/>
            </p:nvSpPr>
            <p:spPr>
              <a:xfrm>
                <a:off x="2131920" y="3938400"/>
                <a:ext cx="1080" cy="82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31"/>
              <p:cNvSpPr/>
              <p:nvPr/>
            </p:nvSpPr>
            <p:spPr>
              <a:xfrm>
                <a:off x="1074960" y="5908680"/>
                <a:ext cx="1094760" cy="4280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Banking, </a:t>
                </a:r>
                <a:br>
                  <a:rPr sz="1100"/>
                </a:b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venture capit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32"/>
              <p:cNvSpPr/>
              <p:nvPr/>
            </p:nvSpPr>
            <p:spPr>
              <a:xfrm>
                <a:off x="2294280" y="5897520"/>
                <a:ext cx="1056960" cy="4424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IPR and inform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33"/>
              <p:cNvSpPr/>
              <p:nvPr/>
            </p:nvSpPr>
            <p:spPr>
              <a:xfrm>
                <a:off x="3513600" y="5902200"/>
                <a:ext cx="1257120" cy="4377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Innovation and business suppor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34"/>
              <p:cNvSpPr/>
              <p:nvPr/>
            </p:nvSpPr>
            <p:spPr>
              <a:xfrm>
                <a:off x="4894920" y="5911920"/>
                <a:ext cx="1074960" cy="4280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Standards and norm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35"/>
              <p:cNvSpPr/>
              <p:nvPr/>
            </p:nvSpPr>
            <p:spPr>
              <a:xfrm>
                <a:off x="3025080" y="5676840"/>
                <a:ext cx="974880" cy="18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Infrastructur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36"/>
              <p:cNvSpPr/>
              <p:nvPr/>
            </p:nvSpPr>
            <p:spPr>
              <a:xfrm flipV="1">
                <a:off x="1310400" y="3714480"/>
                <a:ext cx="0" cy="36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37"/>
              <p:cNvSpPr/>
              <p:nvPr/>
            </p:nvSpPr>
            <p:spPr>
              <a:xfrm flipV="1">
                <a:off x="1310400" y="4444920"/>
                <a:ext cx="0" cy="36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38"/>
              <p:cNvSpPr/>
              <p:nvPr/>
            </p:nvSpPr>
            <p:spPr>
              <a:xfrm>
                <a:off x="6520680" y="2933640"/>
                <a:ext cx="1516680" cy="2476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39"/>
              <p:cNvSpPr/>
              <p:nvPr/>
            </p:nvSpPr>
            <p:spPr>
              <a:xfrm>
                <a:off x="6838200" y="3049560"/>
                <a:ext cx="974880" cy="36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Political</a:t>
                </a:r>
                <a:br>
                  <a:rPr sz="1100"/>
                </a:b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Syste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0"/>
              <p:cNvSpPr/>
              <p:nvPr/>
            </p:nvSpPr>
            <p:spPr>
              <a:xfrm>
                <a:off x="6672960" y="3524040"/>
                <a:ext cx="1315080" cy="5490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Governmen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1"/>
              <p:cNvSpPr/>
              <p:nvPr/>
            </p:nvSpPr>
            <p:spPr>
              <a:xfrm>
                <a:off x="6674760" y="4147920"/>
                <a:ext cx="1303560" cy="564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R&amp;I polic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42"/>
              <p:cNvSpPr/>
              <p:nvPr/>
            </p:nvSpPr>
            <p:spPr>
              <a:xfrm>
                <a:off x="6683040" y="4878360"/>
                <a:ext cx="1301040" cy="456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Governanc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43"/>
            <p:cNvSpPr/>
            <p:nvPr/>
          </p:nvSpPr>
          <p:spPr>
            <a:xfrm>
              <a:off x="6094440" y="6108120"/>
              <a:ext cx="2100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171144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ource: Kuhlmann &amp; Arnold 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44"/>
            <p:cNvSpPr/>
            <p:nvPr/>
          </p:nvSpPr>
          <p:spPr>
            <a:xfrm>
              <a:off x="3757680" y="2554200"/>
              <a:ext cx="1625400" cy="457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5"/>
            <p:cNvGrpSpPr/>
            <p:nvPr/>
          </p:nvGrpSpPr>
          <p:grpSpPr>
            <a:xfrm>
              <a:off x="2335320" y="2478240"/>
              <a:ext cx="4200480" cy="3403080"/>
              <a:chOff x="2335320" y="2478240"/>
              <a:chExt cx="4200480" cy="3403080"/>
            </a:xfrm>
          </p:grpSpPr>
          <p:sp>
            <p:nvSpPr>
              <p:cNvPr id="181" name="Freeform 46"/>
              <p:cNvSpPr/>
              <p:nvPr/>
            </p:nvSpPr>
            <p:spPr>
              <a:xfrm>
                <a:off x="2335320" y="2592360"/>
                <a:ext cx="4200480" cy="1485360"/>
              </a:xfrm>
              <a:custGeom>
                <a:avLst/>
                <a:gdLst/>
                <a:ahLst/>
                <a:rect l="l" t="t" r="r" b="b"/>
                <a:pathLst>
                  <a:path w="2976" h="936">
                    <a:moveTo>
                      <a:pt x="2976" y="936"/>
                    </a:moveTo>
                    <a:cubicBezTo>
                      <a:pt x="2776" y="588"/>
                      <a:pt x="2576" y="240"/>
                      <a:pt x="2160" y="120"/>
                    </a:cubicBezTo>
                    <a:cubicBezTo>
                      <a:pt x="1744" y="0"/>
                      <a:pt x="840" y="80"/>
                      <a:pt x="480" y="216"/>
                    </a:cubicBezTo>
                    <a:cubicBezTo>
                      <a:pt x="120" y="352"/>
                      <a:pt x="60" y="644"/>
                      <a:pt x="0" y="936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4028760" y="2706480"/>
                <a:ext cx="417960" cy="3174840"/>
              </a:xfrm>
              <a:custGeom>
                <a:avLst/>
                <a:gdLst/>
                <a:ahLst/>
                <a:rect l="l" t="t" r="r" b="b"/>
                <a:pathLst>
                  <a:path w="296" h="2000">
                    <a:moveTo>
                      <a:pt x="240" y="0"/>
                    </a:moveTo>
                    <a:cubicBezTo>
                      <a:pt x="140" y="0"/>
                      <a:pt x="40" y="0"/>
                      <a:pt x="48" y="288"/>
                    </a:cubicBezTo>
                    <a:cubicBezTo>
                      <a:pt x="56" y="576"/>
                      <a:pt x="296" y="1456"/>
                      <a:pt x="288" y="1728"/>
                    </a:cubicBezTo>
                    <a:cubicBezTo>
                      <a:pt x="280" y="2000"/>
                      <a:pt x="140" y="1960"/>
                      <a:pt x="0" y="192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4209480" y="2706480"/>
                <a:ext cx="632160" cy="1371240"/>
              </a:xfrm>
              <a:custGeom>
                <a:avLst/>
                <a:gdLst/>
                <a:ahLst/>
                <a:rect l="l" t="t" r="r" b="b"/>
                <a:pathLst>
                  <a:path w="448" h="864">
                    <a:moveTo>
                      <a:pt x="208" y="0"/>
                    </a:moveTo>
                    <a:cubicBezTo>
                      <a:pt x="120" y="60"/>
                      <a:pt x="32" y="120"/>
                      <a:pt x="16" y="240"/>
                    </a:cubicBezTo>
                    <a:cubicBezTo>
                      <a:pt x="0" y="360"/>
                      <a:pt x="40" y="616"/>
                      <a:pt x="112" y="720"/>
                    </a:cubicBezTo>
                    <a:cubicBezTo>
                      <a:pt x="184" y="824"/>
                      <a:pt x="316" y="844"/>
                      <a:pt x="448" y="86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2877120" y="2478240"/>
                <a:ext cx="1219320" cy="266400"/>
              </a:xfrm>
              <a:custGeom>
                <a:avLst/>
                <a:gdLst/>
                <a:ahLst/>
                <a:rect l="l" t="t" r="r" b="b"/>
                <a:pathLst>
                  <a:path w="864" h="168">
                    <a:moveTo>
                      <a:pt x="864" y="144"/>
                    </a:moveTo>
                    <a:cubicBezTo>
                      <a:pt x="648" y="156"/>
                      <a:pt x="432" y="168"/>
                      <a:pt x="288" y="144"/>
                    </a:cubicBezTo>
                    <a:cubicBezTo>
                      <a:pt x="144" y="120"/>
                      <a:pt x="72" y="60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3339720" y="2706480"/>
                <a:ext cx="959760" cy="990360"/>
              </a:xfrm>
              <a:custGeom>
                <a:avLst/>
                <a:gdLst/>
                <a:ahLst/>
                <a:rect l="l" t="t" r="r" b="b"/>
                <a:pathLst>
                  <a:path w="680" h="624">
                    <a:moveTo>
                      <a:pt x="680" y="0"/>
                    </a:moveTo>
                    <a:cubicBezTo>
                      <a:pt x="444" y="68"/>
                      <a:pt x="208" y="136"/>
                      <a:pt x="104" y="240"/>
                    </a:cubicBezTo>
                    <a:cubicBezTo>
                      <a:pt x="0" y="344"/>
                      <a:pt x="28" y="484"/>
                      <a:pt x="56" y="62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5857920" y="2554200"/>
                <a:ext cx="203040" cy="685440"/>
              </a:xfrm>
              <a:custGeom>
                <a:avLst/>
                <a:gdLst/>
                <a:ahLst/>
                <a:rect l="l" t="t" r="r" b="b"/>
                <a:pathLst>
                  <a:path w="144" h="432">
                    <a:moveTo>
                      <a:pt x="144" y="432"/>
                    </a:moveTo>
                    <a:cubicBezTo>
                      <a:pt x="72" y="348"/>
                      <a:pt x="0" y="264"/>
                      <a:pt x="0" y="192"/>
                    </a:cubicBezTo>
                    <a:cubicBezTo>
                      <a:pt x="0" y="120"/>
                      <a:pt x="72" y="60"/>
                      <a:pt x="144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52"/>
              <p:cNvSpPr/>
              <p:nvPr/>
            </p:nvSpPr>
            <p:spPr>
              <a:xfrm>
                <a:off x="3418920" y="2554200"/>
                <a:ext cx="17614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c30039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171144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0000"/>
                    </a:solidFill>
                    <a:latin typeface="Arial"/>
                  </a:rPr>
                  <a:t>Co-evolu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valuation properly understood: accountability, impacts, system implic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4EB9-31E8-4CEF-BFD7-17B5C6A161B1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9"/>
          <p:cNvGrpSpPr/>
          <p:nvPr/>
        </p:nvGrpSpPr>
        <p:grpSpPr>
          <a:xfrm>
            <a:off x="1219320" y="1812960"/>
            <a:ext cx="6553080" cy="4282920"/>
            <a:chOff x="1219320" y="1812960"/>
            <a:chExt cx="6553080" cy="4282920"/>
          </a:xfrm>
        </p:grpSpPr>
        <p:grpSp>
          <p:nvGrpSpPr>
            <p:cNvPr id="192" name="Group 20"/>
            <p:cNvGrpSpPr/>
            <p:nvPr/>
          </p:nvGrpSpPr>
          <p:grpSpPr>
            <a:xfrm>
              <a:off x="1461960" y="1950840"/>
              <a:ext cx="6067800" cy="4006440"/>
              <a:chOff x="1461960" y="1950840"/>
              <a:chExt cx="6067800" cy="4006440"/>
            </a:xfrm>
          </p:grpSpPr>
          <p:sp>
            <p:nvSpPr>
              <p:cNvPr id="193" name="Text Box 21"/>
              <p:cNvSpPr/>
              <p:nvPr/>
            </p:nvSpPr>
            <p:spPr>
              <a:xfrm>
                <a:off x="1461960" y="2917800"/>
                <a:ext cx="1334880" cy="69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ocie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conom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nviron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22"/>
              <p:cNvSpPr/>
              <p:nvPr/>
            </p:nvSpPr>
            <p:spPr>
              <a:xfrm>
                <a:off x="1461960" y="3884760"/>
                <a:ext cx="1334880" cy="55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lic Interven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23"/>
              <p:cNvSpPr/>
              <p:nvPr/>
            </p:nvSpPr>
            <p:spPr>
              <a:xfrm>
                <a:off x="1461960" y="5542920"/>
                <a:ext cx="109188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valu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24"/>
              <p:cNvSpPr/>
              <p:nvPr/>
            </p:nvSpPr>
            <p:spPr>
              <a:xfrm>
                <a:off x="1461960" y="1950840"/>
                <a:ext cx="6067800" cy="165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25"/>
              <p:cNvSpPr/>
              <p:nvPr/>
            </p:nvSpPr>
            <p:spPr>
              <a:xfrm>
                <a:off x="1461960" y="3746880"/>
                <a:ext cx="6067800" cy="69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26"/>
              <p:cNvSpPr/>
              <p:nvPr/>
            </p:nvSpPr>
            <p:spPr>
              <a:xfrm>
                <a:off x="1461960" y="4575600"/>
                <a:ext cx="6067800" cy="1381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27"/>
              <p:cNvSpPr/>
              <p:nvPr/>
            </p:nvSpPr>
            <p:spPr>
              <a:xfrm>
                <a:off x="2553840" y="2088720"/>
                <a:ext cx="970560" cy="69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eed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ble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ssu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28"/>
              <p:cNvSpPr/>
              <p:nvPr/>
            </p:nvSpPr>
            <p:spPr>
              <a:xfrm>
                <a:off x="3039480" y="3884760"/>
                <a:ext cx="109188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29"/>
              <p:cNvSpPr/>
              <p:nvPr/>
            </p:nvSpPr>
            <p:spPr>
              <a:xfrm>
                <a:off x="4253040" y="3884760"/>
                <a:ext cx="84924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30"/>
              <p:cNvSpPr/>
              <p:nvPr/>
            </p:nvSpPr>
            <p:spPr>
              <a:xfrm>
                <a:off x="5223960" y="3884760"/>
                <a:ext cx="97056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ut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31"/>
              <p:cNvSpPr/>
              <p:nvPr/>
            </p:nvSpPr>
            <p:spPr>
              <a:xfrm>
                <a:off x="5830560" y="2917800"/>
                <a:ext cx="97056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utcom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32"/>
              <p:cNvSpPr/>
              <p:nvPr/>
            </p:nvSpPr>
            <p:spPr>
              <a:xfrm>
                <a:off x="6437520" y="2088720"/>
                <a:ext cx="97056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mpac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33"/>
              <p:cNvSpPr/>
              <p:nvPr/>
            </p:nvSpPr>
            <p:spPr>
              <a:xfrm>
                <a:off x="3646080" y="2503440"/>
                <a:ext cx="0" cy="138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34"/>
              <p:cNvSpPr/>
              <p:nvPr/>
            </p:nvSpPr>
            <p:spPr>
              <a:xfrm flipH="1">
                <a:off x="3524400" y="250344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35"/>
              <p:cNvSpPr/>
              <p:nvPr/>
            </p:nvSpPr>
            <p:spPr>
              <a:xfrm>
                <a:off x="4131720" y="402300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36"/>
              <p:cNvSpPr/>
              <p:nvPr/>
            </p:nvSpPr>
            <p:spPr>
              <a:xfrm>
                <a:off x="5102640" y="402300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37"/>
              <p:cNvSpPr/>
              <p:nvPr/>
            </p:nvSpPr>
            <p:spPr>
              <a:xfrm flipV="1">
                <a:off x="6437520" y="3332160"/>
                <a:ext cx="0" cy="69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38"/>
              <p:cNvSpPr/>
              <p:nvPr/>
            </p:nvSpPr>
            <p:spPr>
              <a:xfrm flipV="1">
                <a:off x="7044480" y="2503440"/>
                <a:ext cx="0" cy="69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39"/>
              <p:cNvSpPr/>
              <p:nvPr/>
            </p:nvSpPr>
            <p:spPr>
              <a:xfrm>
                <a:off x="6194880" y="402300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40"/>
              <p:cNvSpPr/>
              <p:nvPr/>
            </p:nvSpPr>
            <p:spPr>
              <a:xfrm>
                <a:off x="6801480" y="319392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41"/>
              <p:cNvSpPr/>
              <p:nvPr/>
            </p:nvSpPr>
            <p:spPr>
              <a:xfrm flipV="1">
                <a:off x="2796840" y="2779560"/>
                <a:ext cx="0" cy="22104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42"/>
              <p:cNvSpPr/>
              <p:nvPr/>
            </p:nvSpPr>
            <p:spPr>
              <a:xfrm flipV="1">
                <a:off x="3646080" y="4299480"/>
                <a:ext cx="0" cy="6904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43"/>
              <p:cNvSpPr/>
              <p:nvPr/>
            </p:nvSpPr>
            <p:spPr>
              <a:xfrm>
                <a:off x="2796840" y="4989960"/>
                <a:ext cx="8492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44"/>
              <p:cNvSpPr/>
              <p:nvPr/>
            </p:nvSpPr>
            <p:spPr>
              <a:xfrm flipV="1">
                <a:off x="4738320" y="4299480"/>
                <a:ext cx="0" cy="6904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45"/>
              <p:cNvSpPr/>
              <p:nvPr/>
            </p:nvSpPr>
            <p:spPr>
              <a:xfrm flipV="1">
                <a:off x="5709240" y="4299480"/>
                <a:ext cx="0" cy="6904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46"/>
              <p:cNvSpPr/>
              <p:nvPr/>
            </p:nvSpPr>
            <p:spPr>
              <a:xfrm>
                <a:off x="4738320" y="4989960"/>
                <a:ext cx="970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47"/>
              <p:cNvSpPr/>
              <p:nvPr/>
            </p:nvSpPr>
            <p:spPr>
              <a:xfrm flipV="1">
                <a:off x="3767760" y="4299480"/>
                <a:ext cx="0" cy="1105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48"/>
              <p:cNvSpPr/>
              <p:nvPr/>
            </p:nvSpPr>
            <p:spPr>
              <a:xfrm flipV="1">
                <a:off x="6558840" y="3332160"/>
                <a:ext cx="0" cy="20721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49"/>
              <p:cNvSpPr/>
              <p:nvPr/>
            </p:nvSpPr>
            <p:spPr>
              <a:xfrm>
                <a:off x="3767760" y="5404680"/>
                <a:ext cx="2791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50"/>
              <p:cNvSpPr/>
              <p:nvPr/>
            </p:nvSpPr>
            <p:spPr>
              <a:xfrm flipV="1">
                <a:off x="7165800" y="2503440"/>
                <a:ext cx="0" cy="33156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51"/>
              <p:cNvSpPr/>
              <p:nvPr/>
            </p:nvSpPr>
            <p:spPr>
              <a:xfrm flipV="1">
                <a:off x="2675520" y="2779560"/>
                <a:ext cx="0" cy="303912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52"/>
              <p:cNvSpPr/>
              <p:nvPr/>
            </p:nvSpPr>
            <p:spPr>
              <a:xfrm>
                <a:off x="2675520" y="5819040"/>
                <a:ext cx="4490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53"/>
              <p:cNvSpPr/>
              <p:nvPr/>
            </p:nvSpPr>
            <p:spPr>
              <a:xfrm>
                <a:off x="2725920" y="4713840"/>
                <a:ext cx="97056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Relev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54"/>
              <p:cNvSpPr/>
              <p:nvPr/>
            </p:nvSpPr>
            <p:spPr>
              <a:xfrm>
                <a:off x="4738320" y="4713840"/>
                <a:ext cx="97056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Efficienc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55"/>
              <p:cNvSpPr/>
              <p:nvPr/>
            </p:nvSpPr>
            <p:spPr>
              <a:xfrm>
                <a:off x="4495680" y="5128200"/>
                <a:ext cx="133488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Effectiven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56"/>
              <p:cNvSpPr/>
              <p:nvPr/>
            </p:nvSpPr>
            <p:spPr>
              <a:xfrm>
                <a:off x="4010400" y="5542920"/>
                <a:ext cx="230580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Utility and Sustainabili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Rectangle 57"/>
            <p:cNvSpPr/>
            <p:nvPr/>
          </p:nvSpPr>
          <p:spPr>
            <a:xfrm>
              <a:off x="1219320" y="1812960"/>
              <a:ext cx="6553080" cy="4282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olicymakers as ‘bottleneck analysts and breakers’ in the national innovation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 to identify and strengthen weak points across the whole research and innovation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lism is also necessary at the level of sub-systems such as research organisations, in the system is to perform w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us NERO should tackle development needs across the research performing sectors – not merely focus on the needs of some over those of ot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fore, not a zero-sum reallocation game like the coffee mill (competition + redistribut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t a positive-sum development game that that supports learning and improvement (competition + learning + connection to national needs/policy + some redistribut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862F-38E8-4E0E-BD5E-1942408F0B99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4"/>
          <p:cNvSpPr/>
          <p:nvPr/>
        </p:nvSpPr>
        <p:spPr>
          <a:xfrm>
            <a:off x="826920" y="3284640"/>
            <a:ext cx="7274160" cy="10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olicy development and implementation are at the heart of the new methodolog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4B9D-5937-4EB7-8AEC-C2B2DAB1CC7B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042920" y="3429000"/>
            <a:ext cx="1728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188000" y="36450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156360" y="3429000"/>
            <a:ext cx="1728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6523560" y="364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635280" y="4941720"/>
            <a:ext cx="1728720" cy="7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3776040" y="51577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icym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3635280" y="1916280"/>
            <a:ext cx="1728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3774960" y="21337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eft-Right Arrow 12"/>
          <p:cNvSpPr/>
          <p:nvPr/>
        </p:nvSpPr>
        <p:spPr>
          <a:xfrm>
            <a:off x="2987640" y="3645000"/>
            <a:ext cx="2879640" cy="288720"/>
          </a:xfrm>
          <a:prstGeom prst="leftRightArrow">
            <a:avLst>
              <a:gd name="adj1" fmla="val 50000"/>
              <a:gd name="adj2" fmla="val 50054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eft-Right Arrow 13"/>
          <p:cNvSpPr/>
          <p:nvPr/>
        </p:nvSpPr>
        <p:spPr>
          <a:xfrm rot="16200000">
            <a:off x="3563640" y="3644280"/>
            <a:ext cx="1871640" cy="287280"/>
          </a:xfrm>
          <a:prstGeom prst="left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eft-Right Arrow 17"/>
          <p:cNvSpPr/>
          <p:nvPr/>
        </p:nvSpPr>
        <p:spPr>
          <a:xfrm rot="19800000">
            <a:off x="1660320" y="2560320"/>
            <a:ext cx="1861920" cy="357120"/>
          </a:xfrm>
          <a:prstGeom prst="leftRightArrow">
            <a:avLst>
              <a:gd name="adj1" fmla="val 50000"/>
              <a:gd name="adj2" fmla="val 50013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7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eft-Right Arrow 18"/>
          <p:cNvSpPr/>
          <p:nvPr/>
        </p:nvSpPr>
        <p:spPr>
          <a:xfrm rot="19800000">
            <a:off x="5479920" y="4719240"/>
            <a:ext cx="1863720" cy="355680"/>
          </a:xfrm>
          <a:prstGeom prst="leftRigh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7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eft-Right Arrow 21"/>
          <p:cNvSpPr/>
          <p:nvPr/>
        </p:nvSpPr>
        <p:spPr>
          <a:xfrm rot="1800000">
            <a:off x="1655640" y="4735440"/>
            <a:ext cx="1863720" cy="355680"/>
          </a:xfrm>
          <a:prstGeom prst="leftRigh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36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eft-Right Arrow 22"/>
          <p:cNvSpPr/>
          <p:nvPr/>
        </p:nvSpPr>
        <p:spPr>
          <a:xfrm rot="1800000">
            <a:off x="5471640" y="2575080"/>
            <a:ext cx="1863720" cy="355320"/>
          </a:xfrm>
          <a:prstGeom prst="leftRightArrow">
            <a:avLst>
              <a:gd name="adj1" fmla="val 50000"/>
              <a:gd name="adj2" fmla="val 50048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36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key princip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RO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lects th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trategic policy objectiv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R&amp;D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ctions = to act as source for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strategic informati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amp; directly inform public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institutional funding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resear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eval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comprehensiv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all dimensions of the research activities and its outputs, outcomes and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at the level of field-defined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Research Uni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RU) within an Evaluated Unit, i.e. a research organisation or in the case of the public HEI, a facul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vers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all research organisation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a critical size, on a voluntary ba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a process of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informed peer review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based on a mix of appropriate quantitative and qualitative data to support their professional jud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fair and egalitaria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stem: a single framework for assessment while allowing for a reasonable level of field- and RO typology-specific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minimum possibl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and burden to deliver a robust and defensible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366B-7E33-4CE7-B793-2826042CBA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8"/>
          <p:cNvSpPr/>
          <p:nvPr/>
        </p:nvSpPr>
        <p:spPr>
          <a:xfrm>
            <a:off x="3492360" y="2133720"/>
            <a:ext cx="2374920" cy="57456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ssessment is based on peer judgements, not calcul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D228-449C-4F23-A381-7AB78869DB19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468360" y="2421000"/>
            <a:ext cx="2016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550800" y="263700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f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468360" y="3687840"/>
            <a:ext cx="2016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765000" y="39038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blio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468360" y="4869000"/>
            <a:ext cx="2016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764640" y="508464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s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3059280" y="2924280"/>
            <a:ext cx="32176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itutional management and development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mbership of the (world) research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ientific research excel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earch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etal rele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6875640" y="2421000"/>
            <a:ext cx="20174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7386840" y="2637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U/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6875640" y="3645000"/>
            <a:ext cx="20174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4"/>
          <p:cNvSpPr/>
          <p:nvPr/>
        </p:nvSpPr>
        <p:spPr>
          <a:xfrm>
            <a:off x="7173720" y="386064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6875640" y="4869000"/>
            <a:ext cx="20174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6"/>
          <p:cNvSpPr/>
          <p:nvPr/>
        </p:nvSpPr>
        <p:spPr>
          <a:xfrm>
            <a:off x="7174440" y="50846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7"/>
          <p:cNvSpPr/>
          <p:nvPr/>
        </p:nvSpPr>
        <p:spPr>
          <a:xfrm>
            <a:off x="3719880" y="2205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eer judg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Straight Arrow Connector 27"/>
          <p:cNvCxnSpPr>
            <a:stCxn id="256" idx="3"/>
          </p:cNvCxnSpPr>
          <p:nvPr/>
        </p:nvCxnSpPr>
        <p:spPr>
          <a:xfrm>
            <a:off x="2484360" y="2816280"/>
            <a:ext cx="504000" cy="1117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1" name="Straight Arrow Connector 30"/>
          <p:cNvCxnSpPr>
            <a:stCxn id="258" idx="3"/>
            <a:endCxn id="262" idx="1"/>
          </p:cNvCxnSpPr>
          <p:nvPr/>
        </p:nvCxnSpPr>
        <p:spPr>
          <a:xfrm flipV="1">
            <a:off x="2484000" y="4079160"/>
            <a:ext cx="575640" cy="39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2" name="Straight Arrow Connector 33"/>
          <p:cNvCxnSpPr>
            <a:stCxn id="260" idx="3"/>
          </p:cNvCxnSpPr>
          <p:nvPr/>
        </p:nvCxnSpPr>
        <p:spPr>
          <a:xfrm flipV="1">
            <a:off x="2484360" y="4291920"/>
            <a:ext cx="504000" cy="973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3" name="Straight Arrow Connector 34"/>
          <p:cNvCxnSpPr/>
          <p:nvPr/>
        </p:nvCxnSpPr>
        <p:spPr>
          <a:xfrm flipV="1">
            <a:off x="6300360" y="4075920"/>
            <a:ext cx="575640" cy="5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4" name="Straight Arrow Connector 35"/>
          <p:cNvCxnSpPr/>
          <p:nvPr/>
        </p:nvCxnSpPr>
        <p:spPr>
          <a:xfrm flipV="1">
            <a:off x="6300720" y="2851920"/>
            <a:ext cx="504000" cy="9723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5" name="Straight Arrow Connector 36"/>
          <p:cNvCxnSpPr/>
          <p:nvPr/>
        </p:nvCxnSpPr>
        <p:spPr>
          <a:xfrm>
            <a:off x="6300720" y="4292640"/>
            <a:ext cx="504000" cy="1116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ome of what the ‘users’ get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68360" y="2630520"/>
          <a:ext cx="8229600" cy="2382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U/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ver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licyma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al and research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al and HR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oning at national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 posit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s of good 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s and weakn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eds for policy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toral R&amp;D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 posit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ities for performance contr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research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gnment with RDI prior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 posit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eds for policy 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7B80-2865-4796-A3C3-1A19068F7CFD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7:44:45Z</dcterms:created>
  <dc:creator>martina</dc:creator>
  <dc:description/>
  <dc:language>en-US</dc:language>
  <cp:lastModifiedBy>Erik Arnold</cp:lastModifiedBy>
  <dcterms:modified xsi:type="dcterms:W3CDTF">2015-06-25T17:58:06Z</dcterms:modified>
  <cp:revision>126</cp:revision>
  <dc:subject/>
  <dc:title>nadpis</dc:title>
</cp:coreProperties>
</file>