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6838-3586-40BC-A746-F513E0BF1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6ABD-7414-4DE1-9955-F61C76316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6929-3A7B-47BE-A2B7-5834CF427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3DF6-D02A-4DC6-878F-6B30A1712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1B27-D35B-4647-AFCB-8AD266B53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1A93-2FF4-46E0-B7AD-EB0AFCFDF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EB20-3F4C-4FD2-80DA-915865124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2632-2B6E-44C1-B59E-D11D47805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E184-A736-4243-A8FC-974B30EC7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0FE5-6B9A-457E-9E5A-31C9CFD44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34A3-1115-4325-9BE6-959341CB8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1C74-4F2C-4BB6-86E1-64639BC4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1C2-D5DC-4E9A-AD02-AA21D359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96A5-49E2-4E29-83D2-90306A6E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821B-DCE2-4369-80D7-40C05483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393E-3E72-40B0-BCAE-B5D4CBC9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1B8-F1E0-4F18-8D31-49C7F05B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B1E9-5202-4179-AFD4-C5B43B7F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53EE-7830-42D8-B0D0-53DBE3E1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EE9-5143-4DED-9F5D-F6211208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09D-7314-4B44-BEEA-D21200E5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7916-37FD-4B68-9C80-5AAE18C9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DEC-B63D-495E-90B6-600E5E75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092C-A6F9-41F4-89E1-9519E0ECFC1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5EEF-AD53-4A41-B038-EEE97EAF155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ustomShape 1"/>
          <p:cNvSpPr/>
          <p:nvPr/>
        </p:nvSpPr>
        <p:spPr>
          <a:xfrm>
            <a:off x="1332000" y="4076640"/>
            <a:ext cx="64562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DejaVu Sans"/>
              </a:rPr>
              <a:t>Vybrané výsledky METODIKA 2017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18. 12. 2018, Lichtenštejnský palác,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440" y="6410160"/>
            <a:ext cx="914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D0EE-75C1-412A-B941-28F219D6864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ontrola rozhodování, podjat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421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utí garanta (přiřazení hodnotitele resp. výsledné známky) vžd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tvrzuje druhý 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Pokud nesouhlasí, může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nedosáhnou oba panelisté konsenzu, rozhoduje předseda (případně místopředseda) pane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je garant hodnocení v kolizi s pravidly ošetřujícími nepodjatost, navrhuje hodnotitele k danému výsledku (případně výslednou známku) druhý panelista. Garant hodnocení může vyslovit nesouhlas a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AB73-BBFD-4637-A58E-5827D71327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ritéria střetu záj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ve střetu zájmů, poku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spoluau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výsledků, které by měl hodnotit nebo byl zapojen do jejich příprav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zaměstnán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formou pracovní smlouvy či dohody u právnické osoby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blízké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rodinné vazb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(např. manžel/ka, partner/ka, dítě, sourozenec, rodič, žijící i nežijící ve společné domácnosti) nebo jiné úzké osobní vazby s osobou, která je autorem výsledků, které budou hodnoceny nebo která je z jednotky, která bude hodnocena, nebo s vedoucím jednotky, která bude hodnocena, nebo s jakýmkoliv statutárním zástupcem právnické osob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zapojen do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řízení právnické osob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nebo měl vztah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vědecké rivalit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ebo profesionálního nepřátelství s některým spoluautorem výstupů a výsledků, které budou hodnoceny, či s vedoucím jednotk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nebo byl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men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nebo byl mentorován některým spoluautorem hodnocených výsledků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i přidělování výsledků hodnotitelům se vyžaduj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 panelist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uz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podjatost ve smyslu bodu 1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případě rozhodování o výsledné známce platí ustanovení v plném rozsah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61F8-5DD9-432F-9145-AEF73FCA6D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odnocení vybraných výsledků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1252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0 % z celkového počt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ibliometrizovatel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ků (jiných než 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imp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Sc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) uplatněných 2016, evidovaných v RIV k 1. 7.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ečné výsledky se každé VO započítávaj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ez ohledu na velikost podí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ocenit přínos dané VO ke společnému výsledku je zodpovědností hodnotitel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lké“ výzkumné organizace (typicky vysoké školy, velké ústavy AVČR) uvádí přehle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stoupení funkčních celk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typicky fakult) na celkovém objemu vybraných výsledků a zdůvodnění tohoto pomě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798F-3D9C-4A90-B617-A10499F127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395280" y="141300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dborné pan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060280"/>
            <a:ext cx="8686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ělení oborů podle OECD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Frascati Manu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est panelů odpovídajících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borovým skupinám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tur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ngineering and technolog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edical and health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gricultural and veterinary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ci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umanities and the 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ělí se n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bory FORD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Fields of Research and Developement) např. 1.1 Mathema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nel =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, místopředseda + 2 panelisté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 každý obor FO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den z panelistů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e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odnocení vybraných výsle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3BDC-0766-4A96-B131-4F6AAFC369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stup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349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ý výsledek je posuzován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dvěm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ými hodnotitel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hodné hodnotitele z databáze vybír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 pomocí aplikace SKV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řazení odsouhlasí druhý oborový panelis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ohodnotí přidělený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dle vybraného kritéria 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společenská relevance i přínos k poznání) na stupnici 1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usí své rozhodnut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důvodn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ůže vypracovávat více posu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1769-9A12-43BB-BA69-2441356004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zdálení hodnotitel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i ve smyslu M17+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í recenzent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Jsou to odborníci, kteří distančně posuzují vybrané výstupy předložené k hodnoc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jsou členy odborných pane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evidováni v databáz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u s údaji o svém odborném zaměření odpovídajícím oborům (FORD a DETAILED FORD) s uvedením další specializace pomocí klíčových slov, a to i s ohledem na posuzování aplikovaného výzkumu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povinni respektovat práva k duševnímu vlastnictví vážící se k posuzovaným výsledků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B972-0A3A-441C-9493-6F64CCB6DF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valitativní stupnice (společenská relev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špičkov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(world-leading), jehož využití v praxi přinese zásadní změnu s mezinárodním ekonomickým dopadem (reálný předpoklad širokého uplatnění na více zahraničních trzích atd.), nebo změnu s mimořádným dopadem mezinárodního charakteru na společnost (reálný předpoklad zásadního uplatnění na mezinárodní úrovni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ynikající úrovni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excellent), jehož využití v praxi přinese změnu s mezinárodním ekonomickým dopadem (reálný předpoklad uplatnění na zahraničním trhu atd.), nebo změnu s významným dopadem na společnost (reálný předpoklad zásadn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elmi dobr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změnu s ekonomickým dopadem na českém trhu nebo změnu s dopadem na společnost (reálný předpoklad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dílčí změnu s ekonomickým dopadem na českém trhu nebo dílčí změnu s dopadem na českou společnost (reálný předpoklad dílč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od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ravděpodobně nepřinese žádnou změnu s ekonomickým dopadem ani změnu s dopadem na českou společnost (není reálný předpoklad uplatnění v oblastech veřejného zájmu)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4962-F452-4FFC-BD87-28FAE47239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valitativní stupnice (přínos k pozn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24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špičkové světové úrovni (world-leading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vynikající mezinárodní úrovni, ale nedosahuje nejvyšší úrovně excelence (excellen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mezinárodně uznáva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árodně uznatel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nesplňuje standard národně uznatelné výzkumné prá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AB8F-6348-4755-87CE-23B3187782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stup hodnocení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– výsledná znám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se oba 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hodno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uj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nou známku shodnou s hodnotite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s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více než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např. 2 vs. 4 nebo 1 vs. 3), může být zadáno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řetímu hodnotitel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se pak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slednou známku schvaluje druhý paneli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číslo snímku 7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AA93-DD62-4623-91F7-D5E446B7CB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ovéPole 9"/>
          <p:cNvSpPr/>
          <p:nvPr/>
        </p:nvSpPr>
        <p:spPr>
          <a:xfrm>
            <a:off x="395280" y="1268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stup hodnoc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roz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odůvodněných případech mohou oborově příslušní panelisté ve vzájemné shodě rozhodnout, že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ude postoupen hodnotitelů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í výsledku nejnižší známku a své rozhodnutí zdůvodní. Jejich rozhodnutí schvaluje předsed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e všech případech právo udělit výsledné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který je dán hodnotitel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ůvodně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řípadech právo udělit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dva stup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daném hodnotiteli. S hodnocením musí souhlasit nejen garant bibliometrické analýzy, ale též předseda Odborného panelu, který má právo vyvolat společné jednání příslušného panel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ásadně nesouhlasí s výslednou známkou, má právo vyvolat společné jednání příslušného panelu a poté může tuto známk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měnit maximálně o jeden stupeň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nět k projednání výsledné známky s následným rozhodnutím předsedy mohou podat předsedovi také členové příslušného Odborného panel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majer</cp:lastModifiedBy>
  <cp:lastPrinted>2018-03-13T15:15:38Z</cp:lastPrinted>
  <dcterms:modified xsi:type="dcterms:W3CDTF">2018-12-18T11:34:22Z</dcterms:modified>
  <cp:revision>109</cp:revision>
  <dc:subject/>
  <dc:title>Prezentace aplikace PowerPoint</dc:title>
</cp:coreProperties>
</file>