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6D8F-2371-4E37-B519-BD5508ABF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ástupný symbol pro zápatí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ástupný symbol pro číslo snímku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1CC6-AB51-48C9-A0DD-2F5DBA8D19C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B482-F0CB-4EC7-B6A7-2F25E0AD786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8A76-AE8A-44DC-8041-079B41263CBA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24C0-F242-472C-8576-0B47E2F28A80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8474-1183-4A1D-ADDE-2D2053309C82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420F-2C04-4073-B45B-FC6EBBAFE47C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D3C8-6127-4A72-BC7F-D3281183A879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29E5-1E68-4BE3-A73A-F3D7033BFA8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354A-6B61-4D3B-A58F-0758BBDC4B72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F6A7-8AD8-4AD2-9FBC-95FC82F1F600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F62A-2CC7-4721-9AF3-ECAE85463FEA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93CF-4969-4B2D-BC22-D2950AA2301D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33DA-7A25-4682-8DA2-425D63393B02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9F2-5B17-45A4-8D49-116CADC8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B60-F5F2-4E1C-AAA2-FD15554A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C58B-BEE9-416D-A0AD-4B7BB776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6460-E9F4-42DF-9010-6156F067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206-045E-4FCD-ABFF-606AD0BA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406-11B3-4B1D-9066-E7FE83AB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4B8-6743-4DB1-8ED2-8E0C3791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28D-39BD-460E-8C1A-3559B93B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BF2-B72B-42A7-A6C7-AF3A1D17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C61-3345-4EC8-8B9C-025B1162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CD5-1AEE-4240-9173-3EEE663E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9ED-C81B-43F0-A97F-2F8E4367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71C2-1336-43E6-9323-D47C895FF46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367D-BF25-4C05-BD9C-5C469FCB49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Bibliometrie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Hodno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í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D3C0-5CFF-4DD9-9DF3-8C0BE08F6E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28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74F4-02C3-4BDD-A6A5-B54CF39674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Kumulativní analý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842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Plátno 1"/>
          <p:cNvGrpSpPr/>
          <p:nvPr/>
        </p:nvGrpSpPr>
        <p:grpSpPr>
          <a:xfrm>
            <a:off x="324000" y="1989000"/>
            <a:ext cx="8032680" cy="4584960"/>
            <a:chOff x="324000" y="1989000"/>
            <a:chExt cx="8032680" cy="4584960"/>
          </a:xfrm>
        </p:grpSpPr>
        <p:sp>
          <p:nvSpPr>
            <p:cNvPr id="132" name="Obdélník 50"/>
            <p:cNvSpPr/>
            <p:nvPr/>
          </p:nvSpPr>
          <p:spPr>
            <a:xfrm>
              <a:off x="324000" y="1989000"/>
              <a:ext cx="8032680" cy="45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bdélník 51"/>
            <p:cNvSpPr/>
            <p:nvPr/>
          </p:nvSpPr>
          <p:spPr>
            <a:xfrm>
              <a:off x="349200" y="2017440"/>
              <a:ext cx="1858680" cy="3581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bdélník 52"/>
            <p:cNvSpPr/>
            <p:nvPr/>
          </p:nvSpPr>
          <p:spPr>
            <a:xfrm>
              <a:off x="2208240" y="2009520"/>
              <a:ext cx="3049560" cy="35816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bdélník 53"/>
            <p:cNvSpPr/>
            <p:nvPr/>
          </p:nvSpPr>
          <p:spPr>
            <a:xfrm>
              <a:off x="5104080" y="2017440"/>
              <a:ext cx="3195720" cy="358164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ové pole 5"/>
            <p:cNvSpPr/>
            <p:nvPr/>
          </p:nvSpPr>
          <p:spPr>
            <a:xfrm>
              <a:off x="374760" y="2082600"/>
              <a:ext cx="1787400" cy="4492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ové pole 5"/>
            <p:cNvSpPr/>
            <p:nvPr/>
          </p:nvSpPr>
          <p:spPr>
            <a:xfrm>
              <a:off x="2778120" y="2079360"/>
              <a:ext cx="1814400" cy="45216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ové pole 5"/>
            <p:cNvSpPr/>
            <p:nvPr/>
          </p:nvSpPr>
          <p:spPr>
            <a:xfrm>
              <a:off x="5965920" y="2079360"/>
              <a:ext cx="1574640" cy="415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Skupina 57"/>
            <p:cNvGrpSpPr/>
            <p:nvPr/>
          </p:nvGrpSpPr>
          <p:grpSpPr>
            <a:xfrm>
              <a:off x="641160" y="3656520"/>
              <a:ext cx="974520" cy="1943280"/>
              <a:chOff x="641160" y="3656520"/>
              <a:chExt cx="974520" cy="1943280"/>
            </a:xfrm>
          </p:grpSpPr>
          <p:sp>
            <p:nvSpPr>
              <p:cNvPr id="140" name="Obdélník 86"/>
              <p:cNvSpPr/>
              <p:nvPr/>
            </p:nvSpPr>
            <p:spPr>
              <a:xfrm>
                <a:off x="641160" y="3656520"/>
                <a:ext cx="974520" cy="1943280"/>
              </a:xfrm>
              <a:prstGeom prst="rect">
                <a:avLst/>
              </a:prstGeom>
              <a:solidFill>
                <a:srgbClr val="8eb4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ové pole 12"/>
              <p:cNvSpPr/>
              <p:nvPr/>
            </p:nvSpPr>
            <p:spPr>
              <a:xfrm>
                <a:off x="745920" y="4563000"/>
                <a:ext cx="757080" cy="471600"/>
              </a:xfrm>
              <a:prstGeom prst="rect">
                <a:avLst/>
              </a:pr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ové pole 12"/>
              <p:cNvSpPr/>
              <p:nvPr/>
            </p:nvSpPr>
            <p:spPr>
              <a:xfrm>
                <a:off x="645840" y="3664440"/>
                <a:ext cx="969840" cy="40788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bdélník 58"/>
            <p:cNvSpPr/>
            <p:nvPr/>
          </p:nvSpPr>
          <p:spPr>
            <a:xfrm>
              <a:off x="3421080" y="3649680"/>
              <a:ext cx="1469880" cy="1943280"/>
            </a:xfrm>
            <a:prstGeom prst="rect">
              <a:avLst/>
            </a:prstGeom>
            <a:solidFill>
              <a:srgbClr val="f2dcd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Skupina 59"/>
            <p:cNvGrpSpPr/>
            <p:nvPr/>
          </p:nvGrpSpPr>
          <p:grpSpPr>
            <a:xfrm>
              <a:off x="2288520" y="3646080"/>
              <a:ext cx="974160" cy="1942560"/>
              <a:chOff x="2288520" y="3646080"/>
              <a:chExt cx="974160" cy="1942560"/>
            </a:xfrm>
          </p:grpSpPr>
          <p:sp>
            <p:nvSpPr>
              <p:cNvPr id="145" name="Obdélník 83"/>
              <p:cNvSpPr/>
              <p:nvPr/>
            </p:nvSpPr>
            <p:spPr>
              <a:xfrm>
                <a:off x="2288520" y="3646080"/>
                <a:ext cx="974160" cy="194256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ové pole 3"/>
              <p:cNvSpPr/>
              <p:nvPr/>
            </p:nvSpPr>
            <p:spPr>
              <a:xfrm>
                <a:off x="2393280" y="4619880"/>
                <a:ext cx="756720" cy="470160"/>
              </a:xfrm>
              <a:prstGeom prst="rect">
                <a:avLst/>
              </a:prstGeom>
              <a:solidFill>
                <a:srgbClr val="f2d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ové pole 12"/>
              <p:cNvSpPr/>
              <p:nvPr/>
            </p:nvSpPr>
            <p:spPr>
              <a:xfrm>
                <a:off x="2293200" y="3654000"/>
                <a:ext cx="969480" cy="40824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Skupina 60"/>
            <p:cNvGrpSpPr/>
            <p:nvPr/>
          </p:nvGrpSpPr>
          <p:grpSpPr>
            <a:xfrm>
              <a:off x="5271840" y="3650400"/>
              <a:ext cx="974160" cy="1946880"/>
              <a:chOff x="5271840" y="3650400"/>
              <a:chExt cx="974160" cy="1946880"/>
            </a:xfrm>
          </p:grpSpPr>
          <p:sp>
            <p:nvSpPr>
              <p:cNvPr id="149" name="Obdélník 80"/>
              <p:cNvSpPr/>
              <p:nvPr/>
            </p:nvSpPr>
            <p:spPr>
              <a:xfrm>
                <a:off x="5271840" y="3655080"/>
                <a:ext cx="974160" cy="194220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ové pole 3"/>
              <p:cNvSpPr/>
              <p:nvPr/>
            </p:nvSpPr>
            <p:spPr>
              <a:xfrm>
                <a:off x="5376240" y="4615920"/>
                <a:ext cx="756720" cy="471600"/>
              </a:xfrm>
              <a:prstGeom prst="rect">
                <a:avLst/>
              </a:prstGeom>
              <a:solidFill>
                <a:srgbClr val="eb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ové pole 12"/>
              <p:cNvSpPr/>
              <p:nvPr/>
            </p:nvSpPr>
            <p:spPr>
              <a:xfrm>
                <a:off x="5276520" y="3650400"/>
                <a:ext cx="969480" cy="407880"/>
              </a:xfrm>
              <a:prstGeom prst="rect">
                <a:avLst/>
              </a:prstGeom>
              <a:solidFill>
                <a:srgbClr val="e6e0ec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ové pole 3"/>
            <p:cNvSpPr/>
            <p:nvPr/>
          </p:nvSpPr>
          <p:spPr>
            <a:xfrm>
              <a:off x="3576600" y="4624560"/>
              <a:ext cx="1157040" cy="46980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pojená data 2016 a 20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Přímá spojnice 62"/>
            <p:cNvSpPr/>
            <p:nvPr/>
          </p:nvSpPr>
          <p:spPr>
            <a:xfrm>
              <a:off x="4155840" y="3650400"/>
              <a:ext cx="0" cy="19425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Pravoúhlá spojnice 63"/>
            <p:cNvCxnSpPr>
              <a:stCxn id="142" idx="0"/>
            </p:cNvCxnSpPr>
            <p:nvPr/>
          </p:nvCxnSpPr>
          <p:spPr>
            <a:xfrm flipH="1" flipV="1" rot="5400000">
              <a:off x="2487960" y="1996560"/>
              <a:ext cx="309240" cy="3025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Přímá spojnice se šipkou 64"/>
            <p:cNvCxnSpPr/>
            <p:nvPr/>
          </p:nvCxnSpPr>
          <p:spPr>
            <a:xfrm flipH="1">
              <a:off x="4155120" y="3354840"/>
              <a:ext cx="108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56" name="Textové pole 41"/>
            <p:cNvSpPr/>
            <p:nvPr/>
          </p:nvSpPr>
          <p:spPr>
            <a:xfrm>
              <a:off x="3456000" y="5658120"/>
              <a:ext cx="1434960" cy="6811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kumulovaných dat 2016 a 20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bdélník 66"/>
            <p:cNvSpPr/>
            <p:nvPr/>
          </p:nvSpPr>
          <p:spPr>
            <a:xfrm>
              <a:off x="6380280" y="3649680"/>
              <a:ext cx="1836720" cy="1941480"/>
            </a:xfrm>
            <a:prstGeom prst="rect">
              <a:avLst/>
            </a:prstGeom>
            <a:solidFill>
              <a:srgbClr val="ebf1de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Přímá spojnice 67"/>
            <p:cNvSpPr/>
            <p:nvPr/>
          </p:nvSpPr>
          <p:spPr>
            <a:xfrm flipV="1">
              <a:off x="2776320" y="3085560"/>
              <a:ext cx="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Přímá spojnice 68"/>
            <p:cNvSpPr/>
            <p:nvPr/>
          </p:nvSpPr>
          <p:spPr>
            <a:xfrm>
              <a:off x="2776320" y="3085560"/>
              <a:ext cx="448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Přímá spojnice se šipkou 69"/>
            <p:cNvCxnSpPr/>
            <p:nvPr/>
          </p:nvCxnSpPr>
          <p:spPr>
            <a:xfrm>
              <a:off x="7263000" y="3085560"/>
              <a:ext cx="1080" cy="47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61" name="Textové pole 3"/>
            <p:cNvSpPr/>
            <p:nvPr/>
          </p:nvSpPr>
          <p:spPr>
            <a:xfrm>
              <a:off x="6553440" y="4619520"/>
              <a:ext cx="149220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pojená data 2016, 2017 a 20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Přímá spojnice 71"/>
            <p:cNvSpPr/>
            <p:nvPr/>
          </p:nvSpPr>
          <p:spPr>
            <a:xfrm>
              <a:off x="696852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římá spojnice 72"/>
            <p:cNvSpPr/>
            <p:nvPr/>
          </p:nvSpPr>
          <p:spPr>
            <a:xfrm>
              <a:off x="761364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Přímá spojnice 73"/>
            <p:cNvSpPr/>
            <p:nvPr/>
          </p:nvSpPr>
          <p:spPr>
            <a:xfrm flipV="1">
              <a:off x="5794200" y="2820600"/>
              <a:ext cx="0" cy="82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Přímá spojnice 74"/>
            <p:cNvSpPr/>
            <p:nvPr/>
          </p:nvSpPr>
          <p:spPr>
            <a:xfrm>
              <a:off x="5794200" y="2820600"/>
              <a:ext cx="250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ové pole 41"/>
            <p:cNvSpPr/>
            <p:nvPr/>
          </p:nvSpPr>
          <p:spPr>
            <a:xfrm>
              <a:off x="6521760" y="5658120"/>
              <a:ext cx="1695240" cy="79056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kumulovaných dat 2016, 2017 a 20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bdélník 76"/>
            <p:cNvSpPr/>
            <p:nvPr/>
          </p:nvSpPr>
          <p:spPr>
            <a:xfrm>
              <a:off x="349200" y="2017440"/>
              <a:ext cx="7950240" cy="358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ové pole 41"/>
            <p:cNvSpPr/>
            <p:nvPr/>
          </p:nvSpPr>
          <p:spPr>
            <a:xfrm>
              <a:off x="633240" y="5658120"/>
              <a:ext cx="977760" cy="4712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ové pole 41"/>
            <p:cNvSpPr/>
            <p:nvPr/>
          </p:nvSpPr>
          <p:spPr>
            <a:xfrm>
              <a:off x="2284560" y="5658120"/>
              <a:ext cx="977760" cy="4712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ové pole 41"/>
            <p:cNvSpPr/>
            <p:nvPr/>
          </p:nvSpPr>
          <p:spPr>
            <a:xfrm>
              <a:off x="5278680" y="5659560"/>
              <a:ext cx="97776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73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8B06-6115-446C-82F0-6776CBA582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Oborové převodníky - aktualiz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evodníky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WoS a nově Scop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ultioborové časopisy – přístup je zachov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aoblený obdélník 4"/>
          <p:cNvSpPr/>
          <p:nvPr/>
        </p:nvSpPr>
        <p:spPr>
          <a:xfrm>
            <a:off x="118728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Web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WoS categories fields (252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aoblený obdélník 8"/>
          <p:cNvSpPr/>
          <p:nvPr/>
        </p:nvSpPr>
        <p:spPr>
          <a:xfrm>
            <a:off x="521964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Sco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ll Science Journal 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(27/327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aoblený obdélník 10"/>
          <p:cNvSpPr/>
          <p:nvPr/>
        </p:nvSpPr>
        <p:spPr>
          <a:xfrm>
            <a:off x="3014640" y="2847960"/>
            <a:ext cx="2852640" cy="1444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OE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elds of Research an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(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81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F216-1AEA-47AE-9417-2D8DE50E67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Nové ukazatele z W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plnění mezinárodního srovnání o vybrané země (EU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zinárodní spolupráce na publikac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dentifikace výsledků s velkým počtem spoluautorů (30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dentifikace prvního autora – použitelné pouze pro některé ob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86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9619-07F0-49F0-936D-F72BB2FC79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Další úpr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nalýza Scopus nejen na úroveň oborů a oborových skupin, ale též pro V.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nuté doplňující údaje budou obsahovat více informa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prava doplňujícího podkladu pro V.O. (umožní analýzu na úroveň organizačních jednotek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vrh řešení hodnocení výsledků uplatněných před rokem 2016, které nebyly hodnoceny ani předchozí metodiko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voj nové aplikace pro tvorbu výstupů (2018); příprava webu pro zprostředkování výstupů (léto 2019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EF87-FCC0-4CD3-AB19-9EF9390207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395280" y="1197000"/>
            <a:ext cx="8064360" cy="45972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Časová osa M17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8"/>
          <p:cNvSpPr/>
          <p:nvPr/>
        </p:nvSpPr>
        <p:spPr>
          <a:xfrm>
            <a:off x="593640" y="5300640"/>
            <a:ext cx="592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VSTUP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M1 + M2 národní úroveň (gesce ÚVČ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M3 + M4 + M5 úroveň poskytovatelů (gesce resortů/AVČ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396720" y="1989000"/>
            <a:ext cx="777564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1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A16A-06CC-4C3F-AE62-F689950E24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6"/>
          <p:cNvSpPr/>
          <p:nvPr/>
        </p:nvSpPr>
        <p:spPr>
          <a:xfrm>
            <a:off x="395280" y="112536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M17+ v kompletní podob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"/>
          <p:cNvSpPr/>
          <p:nvPr/>
        </p:nvSpPr>
        <p:spPr>
          <a:xfrm>
            <a:off x="604800" y="480708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aždoroční hodnocení (M1+M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lativně jednoduch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onitorovací a indikativní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stupná tvorba jednoho z podkladů pro kompletní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5"/>
          <p:cNvSpPr/>
          <p:nvPr/>
        </p:nvSpPr>
        <p:spPr>
          <a:xfrm>
            <a:off x="4572000" y="4797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mpletní hodnocení (všechny modu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hrn M1+M2 za předchozí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ý dopad na finan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819000" y="1844640"/>
            <a:ext cx="7137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8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D6B9-3CB4-4DB9-9E05-83C3A2701E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604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Implementační fáz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17+ nabíhá postupně, panely/KHV/RVVI formulují požadavky na úprav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6"/>
          <p:cNvSpPr/>
          <p:nvPr/>
        </p:nvSpPr>
        <p:spPr>
          <a:xfrm>
            <a:off x="395280" y="119700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7632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4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03D7-670E-479C-84B5-1974B97638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50920" y="2060280"/>
            <a:ext cx="4608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+ M3 + M4  úroveň poskytovatel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řipraveno/realizováno AVČR a podstatná část resort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bytek rezortů dokončí v roce 2019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ŠMT později – H20, podoba modulů M3, M4 a M5 má být schválena v září 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+M2 národní úroveň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definování  M1+M2 bude zahájeno v průběhu roku 2019 (po zformulování doporučení plynoucích z Hodnocení 18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chodiskem jsou každoročně realizované M1 a M2 upravené pro potřeby velkého hodnocení. Napříkla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M1 nebude odlišovat bibliometrické/nebibliometrické výsledky, vydefinování časového okna pro aplikované výsledk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M2 v bibliometrii použije více indikátorů (zejména analýzy na úroveň citačního dopadu článků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6"/>
          <p:cNvSpPr/>
          <p:nvPr/>
        </p:nvSpPr>
        <p:spPr>
          <a:xfrm>
            <a:off x="395280" y="1197000"/>
            <a:ext cx="8064360" cy="5814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 M17+      </a:t>
            </a:r>
            <a:r>
              <a:rPr b="1" i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Kompletní hodnocení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Plátno 343"/>
          <p:cNvGrpSpPr/>
          <p:nvPr/>
        </p:nvGrpSpPr>
        <p:grpSpPr>
          <a:xfrm>
            <a:off x="603360" y="2535120"/>
            <a:ext cx="2940120" cy="2508480"/>
            <a:chOff x="603360" y="2535120"/>
            <a:chExt cx="2940120" cy="2508480"/>
          </a:xfrm>
        </p:grpSpPr>
        <p:sp>
          <p:nvSpPr>
            <p:cNvPr id="78" name="Obdélník 10"/>
            <p:cNvSpPr/>
            <p:nvPr/>
          </p:nvSpPr>
          <p:spPr>
            <a:xfrm>
              <a:off x="731160" y="2535120"/>
              <a:ext cx="2812320" cy="25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ové pole 2"/>
            <p:cNvSpPr/>
            <p:nvPr/>
          </p:nvSpPr>
          <p:spPr>
            <a:xfrm>
              <a:off x="1007640" y="3149640"/>
              <a:ext cx="38268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ové pole 2"/>
            <p:cNvSpPr/>
            <p:nvPr/>
          </p:nvSpPr>
          <p:spPr>
            <a:xfrm>
              <a:off x="2702160" y="307476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ové pole 2"/>
            <p:cNvSpPr/>
            <p:nvPr/>
          </p:nvSpPr>
          <p:spPr>
            <a:xfrm>
              <a:off x="2161800" y="315108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ové pole 2"/>
            <p:cNvSpPr/>
            <p:nvPr/>
          </p:nvSpPr>
          <p:spPr>
            <a:xfrm>
              <a:off x="1596960" y="315108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Obdélník 15" descr=""/>
            <p:cNvPicPr/>
            <p:nvPr/>
          </p:nvPicPr>
          <p:blipFill>
            <a:blip r:embed="rId2"/>
            <a:stretch/>
          </p:blipFill>
          <p:spPr>
            <a:xfrm>
              <a:off x="603360" y="2590560"/>
              <a:ext cx="281052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délník 16" descr=""/>
            <p:cNvPicPr/>
            <p:nvPr/>
          </p:nvPicPr>
          <p:blipFill>
            <a:blip r:embed="rId3"/>
            <a:stretch/>
          </p:blipFill>
          <p:spPr>
            <a:xfrm>
              <a:off x="2440080" y="3663720"/>
              <a:ext cx="88020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Obdélník 17" descr=""/>
            <p:cNvPicPr/>
            <p:nvPr/>
          </p:nvPicPr>
          <p:blipFill>
            <a:blip r:embed="rId4"/>
            <a:stretch/>
          </p:blipFill>
          <p:spPr>
            <a:xfrm>
              <a:off x="777960" y="3663720"/>
              <a:ext cx="1632600" cy="5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Přímá spojnice 18"/>
            <p:cNvSpPr/>
            <p:nvPr/>
          </p:nvSpPr>
          <p:spPr>
            <a:xfrm>
              <a:off x="1198800" y="3354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Přímá spojnice 19"/>
            <p:cNvSpPr/>
            <p:nvPr/>
          </p:nvSpPr>
          <p:spPr>
            <a:xfrm>
              <a:off x="1788120" y="3354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Přímá spojnice 20"/>
            <p:cNvSpPr/>
            <p:nvPr/>
          </p:nvSpPr>
          <p:spPr>
            <a:xfrm>
              <a:off x="2351520" y="3354120"/>
              <a:ext cx="0" cy="16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Přímá spojnice 21"/>
            <p:cNvSpPr/>
            <p:nvPr/>
          </p:nvSpPr>
          <p:spPr>
            <a:xfrm>
              <a:off x="2895120" y="3273480"/>
              <a:ext cx="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Přímá spojnice 22"/>
            <p:cNvSpPr/>
            <p:nvPr/>
          </p:nvSpPr>
          <p:spPr>
            <a:xfrm>
              <a:off x="778320" y="3441600"/>
              <a:ext cx="2516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ál 23"/>
            <p:cNvSpPr/>
            <p:nvPr/>
          </p:nvSpPr>
          <p:spPr>
            <a:xfrm>
              <a:off x="2304360" y="3011400"/>
              <a:ext cx="1209960" cy="20181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4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4DB7-C713-42D5-9EE1-B0ACBDC14B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67120" y="2204640"/>
            <a:ext cx="46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 (vybrané výsledky) od letošního roku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notí se podle obou kritérií (společenská relevance i přínos k poznání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(bibliometrie) od letošního rok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ozšíření sledovaných parametr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vedení kumulativních (víceletých) analý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ovéPole 6"/>
          <p:cNvSpPr/>
          <p:nvPr/>
        </p:nvSpPr>
        <p:spPr>
          <a:xfrm>
            <a:off x="395280" y="119700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 M17+     </a:t>
            </a:r>
            <a:r>
              <a:rPr b="1" i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Každoroční hodnocení H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Plátno 343"/>
          <p:cNvGrpSpPr/>
          <p:nvPr/>
        </p:nvGrpSpPr>
        <p:grpSpPr>
          <a:xfrm>
            <a:off x="395280" y="2637000"/>
            <a:ext cx="3016080" cy="2801880"/>
            <a:chOff x="395280" y="2637000"/>
            <a:chExt cx="3016080" cy="2801880"/>
          </a:xfrm>
        </p:grpSpPr>
        <p:sp>
          <p:nvSpPr>
            <p:cNvPr id="98" name="Obdélník 25"/>
            <p:cNvSpPr/>
            <p:nvPr/>
          </p:nvSpPr>
          <p:spPr>
            <a:xfrm>
              <a:off x="453960" y="2938680"/>
              <a:ext cx="295740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ové pole 2"/>
            <p:cNvSpPr/>
            <p:nvPr/>
          </p:nvSpPr>
          <p:spPr>
            <a:xfrm>
              <a:off x="811800" y="3192120"/>
              <a:ext cx="392040" cy="1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ové pole 2"/>
            <p:cNvSpPr/>
            <p:nvPr/>
          </p:nvSpPr>
          <p:spPr>
            <a:xfrm>
              <a:off x="2549160" y="311724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ové pole 2"/>
            <p:cNvSpPr/>
            <p:nvPr/>
          </p:nvSpPr>
          <p:spPr>
            <a:xfrm>
              <a:off x="1995120" y="319320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ové pole 2"/>
            <p:cNvSpPr/>
            <p:nvPr/>
          </p:nvSpPr>
          <p:spPr>
            <a:xfrm>
              <a:off x="1415880" y="319320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Obdélník 30" descr=""/>
            <p:cNvPicPr/>
            <p:nvPr/>
          </p:nvPicPr>
          <p:blipFill>
            <a:blip r:embed="rId2"/>
            <a:stretch/>
          </p:blipFill>
          <p:spPr>
            <a:xfrm>
              <a:off x="395280" y="2637000"/>
              <a:ext cx="2886840" cy="79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Obdélník 31" descr=""/>
            <p:cNvPicPr/>
            <p:nvPr/>
          </p:nvPicPr>
          <p:blipFill>
            <a:blip r:embed="rId3"/>
            <a:stretch/>
          </p:blipFill>
          <p:spPr>
            <a:xfrm>
              <a:off x="2278080" y="3706200"/>
              <a:ext cx="90252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Obdélník 32" descr=""/>
            <p:cNvPicPr/>
            <p:nvPr/>
          </p:nvPicPr>
          <p:blipFill>
            <a:blip r:embed="rId4"/>
            <a:stretch/>
          </p:blipFill>
          <p:spPr>
            <a:xfrm>
              <a:off x="574560" y="3700080"/>
              <a:ext cx="167940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římá spojnice 33"/>
            <p:cNvSpPr/>
            <p:nvPr/>
          </p:nvSpPr>
          <p:spPr>
            <a:xfrm>
              <a:off x="100800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římá spojnice 34"/>
            <p:cNvSpPr/>
            <p:nvPr/>
          </p:nvSpPr>
          <p:spPr>
            <a:xfrm>
              <a:off x="161208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Přímá spojnice 35"/>
            <p:cNvSpPr/>
            <p:nvPr/>
          </p:nvSpPr>
          <p:spPr>
            <a:xfrm>
              <a:off x="2189520" y="3396240"/>
              <a:ext cx="0" cy="16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Přímá spojnice 36"/>
            <p:cNvSpPr/>
            <p:nvPr/>
          </p:nvSpPr>
          <p:spPr>
            <a:xfrm>
              <a:off x="2746800" y="3315600"/>
              <a:ext cx="0" cy="33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římá spojnice 37"/>
            <p:cNvSpPr/>
            <p:nvPr/>
          </p:nvSpPr>
          <p:spPr>
            <a:xfrm>
              <a:off x="577080" y="3483360"/>
              <a:ext cx="2579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ál 38"/>
            <p:cNvSpPr/>
            <p:nvPr/>
          </p:nvSpPr>
          <p:spPr>
            <a:xfrm>
              <a:off x="528480" y="2923200"/>
              <a:ext cx="1858320" cy="2020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09E6-BEB2-4F28-9FF5-AE7D398DC4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9"/>
          <p:cNvSpPr/>
          <p:nvPr/>
        </p:nvSpPr>
        <p:spPr>
          <a:xfrm>
            <a:off x="395280" y="119700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H18: hlavní nezměněné parametry pro bibliomet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IS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Web of Science)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J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Scop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edování v pásmech (kvartily, decil, mediá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lační přístup (oborový, mezi/národní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ojování RIV s citačními databázem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y jsou obdobné (inovované o nové parametry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9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93E0-835B-4A38-8283-B903589F50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9"/>
          <p:cNvSpPr/>
          <p:nvPr/>
        </p:nvSpPr>
        <p:spPr>
          <a:xfrm>
            <a:off x="395280" y="292428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Hlavní úpravy bibliometrie pro H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23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16D4-D761-4301-B7BB-E46E70A21F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Propojení d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3640" y="2133360"/>
            <a:ext cx="8569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RIV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WoS/Scopus na základě </a:t>
            </a: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D publikac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analyzované výsledky jsou identifikovány ve dvou kategoriích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asopisy bez indikátoru AIS/SJ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konzistentní úd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propojené výsledky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přenos do dalšího cyklu hodnocen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Nekorjak Michal</cp:lastModifiedBy>
  <cp:lastPrinted>2018-11-19T13:34:56Z</cp:lastPrinted>
  <dcterms:modified xsi:type="dcterms:W3CDTF">2018-12-18T10:29:07Z</dcterms:modified>
  <cp:revision>157</cp:revision>
  <dc:subject/>
  <dc:title>Prezentace aplikace PowerPoint</dc:title>
</cp:coreProperties>
</file>