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969C-D05B-45DA-986F-1D257D1FC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43B4-F1DF-4BF0-A6D3-576A189EE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ACBB-9F4D-49C2-B520-7E962C226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3BD6-F473-41CE-B83D-082A3450A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3345-CB1A-4A33-AA63-67BFD9761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4A79-B5D2-46C2-B3C4-D79B82D80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BFE0-9A9A-4CC8-89F3-45BC1E266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845F-E391-4288-96B6-0323B5E84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2BD0-FF04-4F5F-8574-EEE533117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4AA-F678-41CC-A500-2BCDB1299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247D-2478-4AA5-A1E3-9665F27E3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5B5B-463E-4459-A938-28EA3802F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E736-8764-4D83-9592-FB0CAFC36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C73C-0828-4D03-A679-19E31AE85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F9D-EEBC-4118-B4BC-70A046D1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136-7B93-4950-84C3-2DFA543A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613-B226-455A-B351-D55164E5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BB8-D256-4C43-B7F8-5E312F6F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E74-51D9-4B7E-877C-8C2B1F64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7CD-C367-48D7-B5B8-546C8F24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3B9-3B97-480B-B0A4-889E1161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604-69D2-4E42-AD7B-83E36CB2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A99-030E-442D-B0BD-21B7D5F6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69B-2731-43F7-A47E-6B20B663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466-946A-45F2-A5E2-B2131A77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960-AA31-4D10-96E7-7CDCDD46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42FB-DB55-4065-B704-018269DA80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A261-1903-4A8E-921D-B50961EB3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E212-3505-41A2-897B-F614AD33D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673D-0AA4-4712-B991-AA081EB74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32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bdélník 51"/>
            <p:cNvSpPr/>
            <p:nvPr/>
          </p:nvSpPr>
          <p:spPr>
            <a:xfrm>
              <a:off x="348480" y="2017080"/>
              <a:ext cx="1859400" cy="3582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bdélník 52"/>
            <p:cNvSpPr/>
            <p:nvPr/>
          </p:nvSpPr>
          <p:spPr>
            <a:xfrm>
              <a:off x="2207880" y="2008800"/>
              <a:ext cx="3049560" cy="3582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bdélník 53"/>
            <p:cNvSpPr/>
            <p:nvPr/>
          </p:nvSpPr>
          <p:spPr>
            <a:xfrm>
              <a:off x="5104080" y="2017080"/>
              <a:ext cx="3195000" cy="358272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ové pole 5"/>
            <p:cNvSpPr/>
            <p:nvPr/>
          </p:nvSpPr>
          <p:spPr>
            <a:xfrm>
              <a:off x="375120" y="2082600"/>
              <a:ext cx="1786320" cy="4482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ové pole 5"/>
            <p:cNvSpPr/>
            <p:nvPr/>
          </p:nvSpPr>
          <p:spPr>
            <a:xfrm>
              <a:off x="2777400" y="2080080"/>
              <a:ext cx="1815120" cy="45108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ové pole 5"/>
            <p:cNvSpPr/>
            <p:nvPr/>
          </p:nvSpPr>
          <p:spPr>
            <a:xfrm>
              <a:off x="5966640" y="2080080"/>
              <a:ext cx="1575000" cy="41472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40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Textové pole 12"/>
              <p:cNvSpPr/>
              <p:nvPr/>
            </p:nvSpPr>
            <p:spPr>
              <a:xfrm>
                <a:off x="745200" y="4563720"/>
                <a:ext cx="758160" cy="47124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Textové pole 12"/>
              <p:cNvSpPr/>
              <p:nvPr/>
            </p:nvSpPr>
            <p:spPr>
              <a:xfrm>
                <a:off x="645480" y="3663720"/>
                <a:ext cx="970200" cy="40824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Obdélník 58"/>
            <p:cNvSpPr/>
            <p:nvPr/>
          </p:nvSpPr>
          <p:spPr>
            <a:xfrm>
              <a:off x="3421080" y="3650400"/>
              <a:ext cx="1469520" cy="194256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4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45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Textové pole 3"/>
              <p:cNvSpPr/>
              <p:nvPr/>
            </p:nvSpPr>
            <p:spPr>
              <a:xfrm>
                <a:off x="2392560" y="4619160"/>
                <a:ext cx="757800" cy="47124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ové pole 12"/>
              <p:cNvSpPr/>
              <p:nvPr/>
            </p:nvSpPr>
            <p:spPr>
              <a:xfrm>
                <a:off x="2292840" y="3653280"/>
                <a:ext cx="96984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49" name="Obdélník 80"/>
              <p:cNvSpPr/>
              <p:nvPr/>
            </p:nvSpPr>
            <p:spPr>
              <a:xfrm>
                <a:off x="5271840" y="3654720"/>
                <a:ext cx="974160" cy="194256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Textové pole 3"/>
              <p:cNvSpPr/>
              <p:nvPr/>
            </p:nvSpPr>
            <p:spPr>
              <a:xfrm>
                <a:off x="5375880" y="4615560"/>
                <a:ext cx="757800" cy="47124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Textové pole 12"/>
              <p:cNvSpPr/>
              <p:nvPr/>
            </p:nvSpPr>
            <p:spPr>
              <a:xfrm>
                <a:off x="5276160" y="3650400"/>
                <a:ext cx="969840" cy="40824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Textové pole 3"/>
            <p:cNvSpPr/>
            <p:nvPr/>
          </p:nvSpPr>
          <p:spPr>
            <a:xfrm>
              <a:off x="3577320" y="4623840"/>
              <a:ext cx="1157400" cy="4705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4" name="Pravoúhlá spojnice 63"/>
            <p:cNvCxnSpPr>
              <a:stCxn id="142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6" name="Textové pole 41"/>
            <p:cNvSpPr/>
            <p:nvPr/>
          </p:nvSpPr>
          <p:spPr>
            <a:xfrm>
              <a:off x="3456720" y="5657760"/>
              <a:ext cx="1433880" cy="6818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bdélník 66"/>
            <p:cNvSpPr/>
            <p:nvPr/>
          </p:nvSpPr>
          <p:spPr>
            <a:xfrm>
              <a:off x="6380280" y="3650040"/>
              <a:ext cx="183744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0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ové pole 3"/>
            <p:cNvSpPr/>
            <p:nvPr/>
          </p:nvSpPr>
          <p:spPr>
            <a:xfrm>
              <a:off x="6554160" y="4619160"/>
              <a:ext cx="149148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ové pole 41"/>
            <p:cNvSpPr/>
            <p:nvPr/>
          </p:nvSpPr>
          <p:spPr>
            <a:xfrm>
              <a:off x="6521040" y="5658120"/>
              <a:ext cx="1696680" cy="7902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bdélník 76"/>
            <p:cNvSpPr/>
            <p:nvPr/>
          </p:nvSpPr>
          <p:spPr>
            <a:xfrm>
              <a:off x="348480" y="2017080"/>
              <a:ext cx="7950600" cy="3582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ové pole 41"/>
            <p:cNvSpPr/>
            <p:nvPr/>
          </p:nvSpPr>
          <p:spPr>
            <a:xfrm>
              <a:off x="633600" y="5658120"/>
              <a:ext cx="977760" cy="4708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ové pole 41"/>
            <p:cNvSpPr/>
            <p:nvPr/>
          </p:nvSpPr>
          <p:spPr>
            <a:xfrm>
              <a:off x="2284560" y="5658480"/>
              <a:ext cx="977760" cy="4705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Textové pole 41"/>
            <p:cNvSpPr/>
            <p:nvPr/>
          </p:nvSpPr>
          <p:spPr>
            <a:xfrm>
              <a:off x="5278680" y="565920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3F9F-D814-4A6C-972A-387D2C5E1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bory a převodní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5C73-17EF-476A-9E78-135ECCC9A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kace prvního autora – použitelné pouze pro některé obory, užitečné zejména v kombinaci s předchozím bod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6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95A5-8D2F-4D9B-B2D4-4557249C3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lší úpra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předpokládané zprovoznění 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E1CB-AC2A-47B6-BBD2-53EF38FF6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112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9700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áběh M17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672320" cy="354168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8"/>
          <p:cNvSpPr/>
          <p:nvPr/>
        </p:nvSpPr>
        <p:spPr>
          <a:xfrm>
            <a:off x="593640" y="5519880"/>
            <a:ext cx="59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1 + M2 národní úroveň (gesce ÚVČ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 + M4 + M5 úroveň poskytovatelů (gesce resortů/AVČ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FA53-7F7D-4988-8F67-4D6DC4D41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395280" y="112536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17+ v kompletní podob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604800" y="48070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aždoroční hodnocení (M1+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délník 5"/>
          <p:cNvSpPr/>
          <p:nvPr/>
        </p:nvSpPr>
        <p:spPr>
          <a:xfrm>
            <a:off x="4572000" y="4797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44560" y="1773360"/>
            <a:ext cx="71676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8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8725-85E4-43D5-A38A-2A796DDA6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604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mplementační fá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17+ nabíhá postupně, panely/KHV/RVVI formulují požadavky na úpra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6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mplement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6761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DA6D-6366-4C68-ADCD-C34D161F2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0920" y="224928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+ M3 + M4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oba modulů M3, M4 a M5 má být schválen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M1+M2 bude zahájeno v průběhu roku 2019 (po zformulování doporučení plynoucích z Hodnocení 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+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2 v bibliometrii použije více indikátorů (analýzy na úroveň citačního dopadu článků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6"/>
          <p:cNvSpPr/>
          <p:nvPr/>
        </p:nvSpPr>
        <p:spPr>
          <a:xfrm>
            <a:off x="395280" y="1197000"/>
            <a:ext cx="8064360" cy="10080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áběh M17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ompletní hodnocen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78" name="Obdélník 10"/>
            <p:cNvSpPr/>
            <p:nvPr/>
          </p:nvSpPr>
          <p:spPr>
            <a:xfrm>
              <a:off x="736200" y="2535120"/>
              <a:ext cx="280728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ové pole 2"/>
            <p:cNvSpPr/>
            <p:nvPr/>
          </p:nvSpPr>
          <p:spPr>
            <a:xfrm>
              <a:off x="1011960" y="3149640"/>
              <a:ext cx="38196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ové pole 2"/>
            <p:cNvSpPr/>
            <p:nvPr/>
          </p:nvSpPr>
          <p:spPr>
            <a:xfrm>
              <a:off x="2703960" y="307476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ové pole 2"/>
            <p:cNvSpPr/>
            <p:nvPr/>
          </p:nvSpPr>
          <p:spPr>
            <a:xfrm>
              <a:off x="2163960" y="315108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ové pole 2"/>
            <p:cNvSpPr/>
            <p:nvPr/>
          </p:nvSpPr>
          <p:spPr>
            <a:xfrm>
              <a:off x="1600200" y="315108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Obdélník 15" descr=""/>
            <p:cNvPicPr/>
            <p:nvPr/>
          </p:nvPicPr>
          <p:blipFill>
            <a:blip r:embed="rId2"/>
            <a:stretch/>
          </p:blipFill>
          <p:spPr>
            <a:xfrm>
              <a:off x="603360" y="2590200"/>
              <a:ext cx="2817360" cy="77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délník 16" descr=""/>
            <p:cNvPicPr/>
            <p:nvPr/>
          </p:nvPicPr>
          <p:blipFill>
            <a:blip r:embed="rId3"/>
            <a:stretch/>
          </p:blipFill>
          <p:spPr>
            <a:xfrm>
              <a:off x="2436840" y="3657240"/>
              <a:ext cx="884520" cy="10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délník 17" descr=""/>
            <p:cNvPicPr/>
            <p:nvPr/>
          </p:nvPicPr>
          <p:blipFill>
            <a:blip r:embed="rId4"/>
            <a:stretch/>
          </p:blipFill>
          <p:spPr>
            <a:xfrm>
              <a:off x="777960" y="3657240"/>
              <a:ext cx="164124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Přímá spojnice 18"/>
            <p:cNvSpPr/>
            <p:nvPr/>
          </p:nvSpPr>
          <p:spPr>
            <a:xfrm>
              <a:off x="1202760" y="33544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Přímá spojnice 19"/>
            <p:cNvSpPr/>
            <p:nvPr/>
          </p:nvSpPr>
          <p:spPr>
            <a:xfrm>
              <a:off x="1791720" y="3354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Přímá spojnice 20"/>
            <p:cNvSpPr/>
            <p:nvPr/>
          </p:nvSpPr>
          <p:spPr>
            <a:xfrm>
              <a:off x="2354040" y="33541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Přímá spojnice 21"/>
            <p:cNvSpPr/>
            <p:nvPr/>
          </p:nvSpPr>
          <p:spPr>
            <a:xfrm>
              <a:off x="2896200" y="3273120"/>
              <a:ext cx="0" cy="33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Přímá spojnice 22"/>
            <p:cNvSpPr/>
            <p:nvPr/>
          </p:nvSpPr>
          <p:spPr>
            <a:xfrm>
              <a:off x="782640" y="3442320"/>
              <a:ext cx="251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ál 23"/>
            <p:cNvSpPr/>
            <p:nvPr/>
          </p:nvSpPr>
          <p:spPr>
            <a:xfrm>
              <a:off x="2290320" y="2976120"/>
              <a:ext cx="1207080" cy="2018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A46F-3AFE-45B3-93CE-77E33CE8A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67120" y="2204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 od letošního rok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od letošního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395280" y="1197000"/>
            <a:ext cx="8064360" cy="106884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áběh M17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aždoroční hodnocení H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98" name="Obdélník 25"/>
            <p:cNvSpPr/>
            <p:nvPr/>
          </p:nvSpPr>
          <p:spPr>
            <a:xfrm>
              <a:off x="459720" y="2939040"/>
              <a:ext cx="2951640" cy="24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ové pole 2"/>
            <p:cNvSpPr/>
            <p:nvPr/>
          </p:nvSpPr>
          <p:spPr>
            <a:xfrm>
              <a:off x="817200" y="3192480"/>
              <a:ext cx="391320" cy="16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ové pole 2"/>
            <p:cNvSpPr/>
            <p:nvPr/>
          </p:nvSpPr>
          <p:spPr>
            <a:xfrm>
              <a:off x="2550960" y="311760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ové pole 2"/>
            <p:cNvSpPr/>
            <p:nvPr/>
          </p:nvSpPr>
          <p:spPr>
            <a:xfrm>
              <a:off x="1997640" y="319356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ové pole 2"/>
            <p:cNvSpPr/>
            <p:nvPr/>
          </p:nvSpPr>
          <p:spPr>
            <a:xfrm>
              <a:off x="1419840" y="319392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Obdélník 30" descr=""/>
            <p:cNvPicPr/>
            <p:nvPr/>
          </p:nvPicPr>
          <p:blipFill>
            <a:blip r:embed="rId2"/>
            <a:stretch/>
          </p:blipFill>
          <p:spPr>
            <a:xfrm>
              <a:off x="395280" y="2637000"/>
              <a:ext cx="289332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Obdélník 31" descr=""/>
            <p:cNvPicPr/>
            <p:nvPr/>
          </p:nvPicPr>
          <p:blipFill>
            <a:blip r:embed="rId3"/>
            <a:stretch/>
          </p:blipFill>
          <p:spPr>
            <a:xfrm>
              <a:off x="2280240" y="3700080"/>
              <a:ext cx="90648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délník 32" descr=""/>
            <p:cNvPicPr/>
            <p:nvPr/>
          </p:nvPicPr>
          <p:blipFill>
            <a:blip r:embed="rId4"/>
            <a:stretch/>
          </p:blipFill>
          <p:spPr>
            <a:xfrm>
              <a:off x="574200" y="3700080"/>
              <a:ext cx="1688040" cy="5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římá spojnice 33"/>
            <p:cNvSpPr/>
            <p:nvPr/>
          </p:nvSpPr>
          <p:spPr>
            <a:xfrm>
              <a:off x="10126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Přímá spojnice 34"/>
            <p:cNvSpPr/>
            <p:nvPr/>
          </p:nvSpPr>
          <p:spPr>
            <a:xfrm>
              <a:off x="1616040" y="3396960"/>
              <a:ext cx="0" cy="1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římá spojnice 35"/>
            <p:cNvSpPr/>
            <p:nvPr/>
          </p:nvSpPr>
          <p:spPr>
            <a:xfrm>
              <a:off x="2192400" y="3395880"/>
              <a:ext cx="0" cy="1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Přímá spojnice 36"/>
            <p:cNvSpPr/>
            <p:nvPr/>
          </p:nvSpPr>
          <p:spPr>
            <a:xfrm>
              <a:off x="2748240" y="331524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Přímá spojnice 37"/>
            <p:cNvSpPr/>
            <p:nvPr/>
          </p:nvSpPr>
          <p:spPr>
            <a:xfrm>
              <a:off x="582120" y="3484080"/>
              <a:ext cx="2575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ál 38"/>
            <p:cNvSpPr/>
            <p:nvPr/>
          </p:nvSpPr>
          <p:spPr>
            <a:xfrm>
              <a:off x="534240" y="2899080"/>
              <a:ext cx="1807200" cy="20919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5757-E859-4C3C-A8CA-0D4222DC2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lavní nezměněné parame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2004-5D0C-49CB-8628-0682229D0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lavní úpra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F125-B2EA-4D95-BC47-43A05EF42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3640" y="2133720"/>
            <a:ext cx="85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vždy další cyklus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uziv</cp:lastModifiedBy>
  <cp:lastPrinted>2018-11-19T13:34:56Z</cp:lastPrinted>
  <dcterms:modified xsi:type="dcterms:W3CDTF">2018-11-20T11:31:15Z</dcterms:modified>
  <cp:revision>141</cp:revision>
  <dc:subject/>
  <dc:title>Prezentace aplikace PowerPoint</dc:title>
</cp:coreProperties>
</file>