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2225-982C-4DBD-96DD-DCD5702C0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EE0-2B23-4051-BDEB-E863F8CBA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D4F7-CBAC-4EC6-B235-A30EEADB6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C74-88B1-4EDC-A03E-8FFAAA93F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F81-ECFB-491E-B915-18132D52A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0F4-16A8-4C06-B3A8-6081EFAFD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A580-6367-45FD-8848-53645EBEA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4F8B-86BE-482C-8E2B-EB0530A41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744C-6F27-4017-BDBE-A7C9CDE60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9E1-D9FF-4131-953F-821D69C16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252-1BD7-4AAC-B484-0C2052506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109-B71E-45AE-B2E4-15F130F8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220-2FF3-419E-933E-C82446E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3AC-1745-4EBE-B2DA-35257732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D3D-B3B1-4EA9-B408-C50F7A8E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399-5F27-44FB-AC59-E3602A1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883-5093-4E78-8FD3-B5151DD7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A68-12E5-4354-B6FC-6746331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7A1-E427-4E75-8B7D-98B4F4D6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F94-0599-4583-8D22-A6ECD4ED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D26-C5F3-4C7D-8A2A-4276726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189-0040-4245-A87E-2B475C43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FBE-87EF-44F7-A9AF-FE7E7DF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5241-F248-47E5-9377-8B225C456F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19AF-7604-463E-8A8A-765DBA0347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listopadu 2018, Ost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4024-E8E9-4863-9F82-91F4601E45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A46-218A-4BFB-90D9-DC15F1DFDE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977A-5E03-4BCE-AE3E-4E2E0F1EEB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9FF-656D-4D33-8339-4BA2D0D1A3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evidováni v databázi 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ACB2-1708-42D9-8F54-D65D8FD9CF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oborovým skupinám podle OECD (Frascati Manu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předseda, místopředseda + 2 panelisté za každý obor FORD (Fields of Research and Developement, např. 1.1 Mathematics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C19F-D052-40B5-B0CC-A71BB644FE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dí (po odsouhlasení druhým oborovým panelistou) s pomocí aplikace SKV k výsledkům vhodné hodnotitele z databáz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podle vybraného kritéria  hodnocení 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DF91-76AA-4E87-A179-0D741CE3C7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130-7243-43B2-A547-D19592579A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D6C-DB7F-4387-A10C-C489CB8916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F6F-FFB9-4833-9606-774BE0B74A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Pávková Markéta</cp:lastModifiedBy>
  <cp:lastPrinted>2018-03-13T15:15:38Z</cp:lastPrinted>
  <dcterms:modified xsi:type="dcterms:W3CDTF">2018-11-22T15:31:57Z</dcterms:modified>
  <cp:revision>97</cp:revision>
  <dc:subject/>
  <dc:title>Prezentace aplikace PowerPoint</dc:title>
</cp:coreProperties>
</file>