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3C1B-775B-4F43-9E6B-96969A0CF3E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C52B-3C09-4FB5-ACD4-05A978797F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2EE4-E6E5-4CEA-86D7-4B95027F38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1C6-5537-4ED8-8F65-0B4BCA3F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B41-2C9A-448E-8AE3-08231C2D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C35-5F6C-4364-B5ED-85B3A729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778-11BF-4709-8EF9-5BB82621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08D-76D2-40B8-BFDE-327A9C05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AD8-5203-4EDB-A38E-057B4F78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B83-0F87-4D04-A788-7B24B7A1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B65-D4AC-4AF2-BAC1-5C53DE74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D05-4A4B-4825-89E9-9038DE69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BDE-C654-4AC8-AB73-E6332AE2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D7B-2EA8-4FC1-9A2B-48CC6E65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ACC-D229-4927-870F-BBE2969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C64E-E26F-4654-94C2-709A35E3E5BA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janli\Desktop\marek\power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janli\Desktop\marek\power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dvorak\Desktop\final zdroje k powerpointu\zmensene slidy 3 a 4\power-2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vorak\Desktop\final zdroje k powerpointu\zmensene slidy 3 a 4\power-3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31640" y="620280"/>
            <a:ext cx="5783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Útvar Zmocněnce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pro udržitelnost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výzkumných cen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4735080" y="4292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39880" y="2643120"/>
          <a:ext cx="5904000" cy="267516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novaný rok ukonče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</a:tbl>
          </a:graphicData>
        </a:graphic>
      </p:graphicFrame>
      <p:sp>
        <p:nvSpPr>
          <p:cNvPr id="225" name="TextovéPole 4"/>
          <p:cNvSpPr/>
          <p:nvPr/>
        </p:nvSpPr>
        <p:spPr>
          <a:xfrm>
            <a:off x="642960" y="57862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6a6a6"/>
                </a:solidFill>
                <a:latin typeface="Arial"/>
              </a:rPr>
              <a:t>Zdroje: Technické popisy projektů, monitorovací zprávy projek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990720" y="1600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ntra ve fázi realizace musejí naplnit  pro úspěšné ukončení projektu větší počet monitorovacích indikáto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rokázat, že došlo k věcnému naplnění účel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staveb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chna navštívená centra ve fázi udržitelnosti mají zbudované, nebo rekonstruované prostory zkolaudované a v provozu stejně jako dvě centra ve fázi realizace ( p.č. 0077 a 008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078 prochází kolaudací (listopad 2014), ale z poznatků získaných na míst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hadujeme zpoždění na Q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08 je v mírném skluzu oproti harmonogramu (instalace antivibračních stavebních opatření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16 sklad v provozu, hlavní budova bude v provozu k 03/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finanční zdroje pro udržitelnost N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880" y="1428480"/>
            <a:ext cx="8153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m navštíveným centrům ve fázi udržitelnosti byla přidělena podpora z Národního programu udržitelnosti (NPU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krepance mezi aktualizovanými odhady center k srpnu 2014 a Informačním systémem výzkumu, experimentálního vývoje a inov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2571840"/>
          <a:ext cx="8143920" cy="3357360"/>
        </p:xfrm>
        <a:graphic>
          <a:graphicData uri="http://schemas.openxmlformats.org/drawingml/2006/table">
            <a:tbl>
              <a:tblPr/>
              <a:tblGrid>
                <a:gridCol w="1357200"/>
                <a:gridCol w="1819440"/>
                <a:gridCol w="611280"/>
                <a:gridCol w="645840"/>
                <a:gridCol w="648000"/>
                <a:gridCol w="647640"/>
                <a:gridCol w="647640"/>
                <a:gridCol w="646200"/>
                <a:gridCol w="647640"/>
                <a:gridCol w="47304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8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5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4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provoz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600200"/>
            <a:ext cx="7696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 koncem letošního roku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ět center završí první rok fáze udržitelnosti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tedy na základě reálných provozních výdajů a příjmů bude mož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korekce odhadů i zpřesnění výhled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em nutnosti takových zpětných korekcí může být centrum, které v posledním roce své realizace (2013) mělo vytvořen dostatečný počet nových pracovních míst (dle všech závazných indikátorů), a přesto odhad mzdových prostředků v roce 2014 roste o 72 % a pokračuje v růstu v dalších lete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centrem očekávané ostatní zdroje financování (tj. zdroje mimo účelovou a institucionální podporu, mezinárodní granty a smluvní výzkum) jsou odhadovány na 110 mil. Kč ke konci roku 20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tj. 55 % celkového rozpočtu centra) a 50 mil. v roce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upina pracuje na rozkladu provozních výdajů a zdrojů financování, který bude dále zpřesňovat na základě dat získaných při návštěvách center a dat ze schválených monitorovacích zpráv za rok 2013, 2014 a dalších podklad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Harmonogram monitoringu výzkumn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844640"/>
          <a:ext cx="8075880" cy="348768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S - Nové technologie pro informační společ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nov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 Tomáše Bati ve Zl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bezpečnostních, informačních a pokročilý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ME Centre (Nové technologie pro strojírenství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senzorických, informačních a komunikačních systémů (SI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přístrojové techn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kační a vývojové laboratoře pokročilých mikrotechnologií a nano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systémové biologie a ekologie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Globe - Centrum pro studium dopadů globální změny klim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teoretické a aplikované mechaniky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excelence Tel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1280" y="1125000"/>
            <a:ext cx="475308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br>
              <a:rPr sz="3300"/>
            </a:b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Osnova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1564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lň činnosti Útvar Zmocněnce pro udržitelnost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ální stav v monitoringu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ogram návštěv do konce roku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Charakteristika výchozího stavu - udrž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62828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NAŘÍZENÍ RADY (ES) č. 1083/2006 ze dne 11. července 2006 o obecných ustanoveních o Evropském fondu pro regionální rozvoj, Evropském sociálním fondu a Fondu soudržnosti a o zrušení nařízení (ES) č. 1260/1999 vymezuje udržitelnost jako „stálost operací“, investice musí být po dobu 5 let od ukončení realizace zachována ke stanovenému účelu, nesmí dojít ke změně činnosti nebo k provádění aktivit, které by zakládaly nepovolenou veřejnou podporu. Rovněž nesmí dojít ke změně formy vlastnictví infrastruktury pořízené z do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ská republ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ostřednictvím Rady pro výzkum, vývoj a inovace („RVVI“)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avázal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 zajištění udržitelnosti podpořených VaV center po dobu 5ti let po ukončení podpory z OP VaV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náplň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vštěvách na místě zjišťujeme a zpřesňujeme především in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věřujíc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plnění účelu projekt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v období udržitelnos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nění indikátorů udržitel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yly stanoveny při schvalování projektu 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případě center ve fázi udržitelnosti informace o jeji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álných provozních výdaj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v případě center ve fázi realizace informace zpřesňující predikce provozních výdajů a příjmů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konstituování a dosavadním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gování výzkumných tým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udou pracovat v nově otevíraných či dostavovaných výzkumných centre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termín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stav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zprovozně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možný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ikacích a nových probléme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činnosti c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složení ú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mocněnec pro udržitelnost výzkumných cent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eva.kislingerova@msmt.cz, tel.: 234 813 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lenové monitoringu útvaru Zmocněnce pro udržitelnost výzkumných c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Karel Pavel - generální ředitel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karel.pavel@msmt.cz, tel.: 602 374 6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NDr. Jan Mikeska, CSc. - vedoucí oddělení výzkumu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jan.mikeska@msmt.cz, tel.: 777 651 6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Petr Kubant - odborník z oblasti stavebnictv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petr.kubant@msmt.cz, tel.:602 746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Markéta Hlavinková - garant kontrol OP VaV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marketa.hlavinkova@msmt.cz, tel.: 773 001 7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c. Dana Léwová – analytik, asis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dana.lew@msmt.cz, tel.: 604 646 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U lužického semináře 90/13, Malá Strana, 118 00 Praha 1, kancelář č.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844640"/>
          <a:ext cx="8075880" cy="371016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9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stav molekulární genet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technologické a biomedicínské centrum Akademie věd a Univerzity Karlo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ÚTS,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ozvoje strojírenského výzkumu Liber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ká Univerzita v Liber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nanomateriály, pokročilé technologie a inov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výzkumu Řež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držitelná Energe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ychiatrické centrum 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rodní ústav duševního zdraví (NUD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a šlechtitelský ústav ovocnářský Holovousy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ocnářský výzkumný instit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ústav veterinárního lékařství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aplikovanou mikrobiologii a imunologii ve veterinární medic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medicína pro regionální rozvoj a lidské zdroje (BIOMEDRE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egionu Haná pro biotechnologický a zemědělský výzk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844640"/>
          <a:ext cx="8075880" cy="37195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ální centrum pokročil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ain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ánové inovační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á univerzita v Českých Budějovic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é výzkumné centrum akvakultury a biodiverzity hydrocenóz (CENAKV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é vysoké učení technické v Pra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řízení technologie pro Centrum vozidel udržitelné mobility (CVU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TES FHT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padočeské materiálově metalurgické centrum (ZMM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arykova univerzita, B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TOCO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MaS - Pokročilé stavební materiály, konstrukce a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krobiologický ústav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řasových biotechnologií Třeboň (Algate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excelence IT4Innov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844640"/>
          <a:ext cx="8075880" cy="32497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ET - Energetické jednotky pro využití netradiční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ální materiálově technologické výzkumné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čistých technologií těžby a užití energetických surov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environmentální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ce pro efektivitu 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 materiálového výzkumu na FCH VUT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výzkumu a využití obnovitelný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600200"/>
            <a:ext cx="7696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všech navštíven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enter ve fázi udržitelnosti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ři závěrečném hodnocení shledá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 naplnila věcný účel projektu i přesto, že nebyly naplněny všechny závazné indiká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hlediska plněn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azných indikátor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dobu 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společným problémem objem smluvního výzkumu, který se nepodařilo žádnému, vyjma jediného, z center napl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486240"/>
          <a:ext cx="8064360" cy="245412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35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18:25Z</dcterms:created>
  <dc:creator>Dana Léwová</dc:creator>
  <dc:description>Předkládá prof. Kislingerová, připravila Dana Léwová</dc:description>
  <dc:language>en-US</dc:language>
  <cp:lastModifiedBy>Dana</cp:lastModifiedBy>
  <cp:lastPrinted>2014-10-23T13:48:19Z</cp:lastPrinted>
  <dcterms:modified xsi:type="dcterms:W3CDTF">2014-11-27T14:27:55Z</dcterms:modified>
  <cp:revision>617</cp:revision>
  <dc:subject/>
  <dc:title>Seminář pro žadatele  OP VaVpI v rámci PO 4</dc:title>
</cp:coreProperties>
</file>