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D66B-83EC-4B27-A35E-FCF3D47CF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56F7-9081-4071-B0D7-E0246AED5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19B9-B570-4260-96F7-1BFE0B391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B64-BBFB-4225-AD95-EA18E5396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F184-66BF-49C0-8807-CC8C648E2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F00-9E40-4F2C-9925-AD2B60920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F6CC-1E22-4186-88BF-AE6E66BFD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9263-15B3-47B6-A738-8082F1600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9201-E976-4521-BCFF-3BC93684E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8B2-5D31-4B70-9ABF-533864988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6FCF-41DE-4630-837D-713B73B35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8EF3-80A6-480C-8A6B-959C8038C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C289-396C-470A-869D-4B992CE9E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0E4E-D71A-4667-A692-66DF3A87E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9D0-94A3-4112-A619-F038B750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A6B-B8BA-446C-8E95-72E7EB8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A58-8C17-4F5B-BDEF-45D42797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3EB-DE7E-4C6E-85F3-3FF5930F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6ED-BA03-4C7A-B389-5E262EE0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840-9C6D-495A-BF5D-5CF4F8CB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910-586B-4986-A0A2-FC59C3CD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23F-BE2D-4DD0-96C6-54DBEF66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659-3D25-4F6C-ABC7-034F241C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380-6597-4772-A97D-04C85BF0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2F0-1D09-41B8-AB08-16C87E2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9CB-99B0-465D-BE1E-AEFEB8C5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246-2469-4D2E-9D9A-4C745802A9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F3A5-5E80-496D-94AC-338A27950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AC93-84AF-4D1B-A791-0D77EF925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2C8B-A584-4F5D-9524-369734EAB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8480" y="2017080"/>
              <a:ext cx="1859400" cy="3582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7880" y="2008800"/>
              <a:ext cx="3049560" cy="3582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080"/>
              <a:ext cx="3195000" cy="3582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5120" y="2082600"/>
              <a:ext cx="1786320" cy="4482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7400" y="2080080"/>
              <a:ext cx="1815120" cy="45108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6640" y="2080080"/>
              <a:ext cx="1575000" cy="414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200" y="4563720"/>
                <a:ext cx="758160" cy="47124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480" y="3663720"/>
                <a:ext cx="970200" cy="40824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50400"/>
              <a:ext cx="1469520" cy="194256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2560" y="4619160"/>
                <a:ext cx="757800" cy="47124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2840" y="3653280"/>
                <a:ext cx="96984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4720"/>
                <a:ext cx="974160" cy="194256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5880" y="4615560"/>
                <a:ext cx="757800" cy="47124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160" y="3650400"/>
                <a:ext cx="969840" cy="40824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7320" y="4623840"/>
              <a:ext cx="115740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720" y="5657760"/>
              <a:ext cx="1433880" cy="6818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50040"/>
              <a:ext cx="183744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4160" y="4619160"/>
              <a:ext cx="149148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040" y="5658120"/>
              <a:ext cx="1696680" cy="7902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8480" y="2017080"/>
              <a:ext cx="7950600" cy="358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600" y="5658120"/>
              <a:ext cx="977760" cy="4708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480"/>
              <a:ext cx="97776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20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5F73-51B7-4D89-873B-C770E1EEA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bory a převodní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6F2B-D382-493D-BAC0-1B922AF96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, užitečné zejména v kombinaci s předchozím bod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44AA-3A78-495A-A4DD-D44F5E35B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předpokládané zprovoznění 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4946-3982-48D4-BBF3-CDCFBEAF3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112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áběh M17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672320" cy="354168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593640" y="5519880"/>
            <a:ext cx="59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E9A8-032C-4E26-BA47-DD14CF021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44560" y="1773360"/>
            <a:ext cx="71676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05A1-76E7-492A-854B-300FBCBFA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6761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27F-15BA-4D32-9E41-6C08E2E51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249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oba modulů M3, M4 a M5 má být schválen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+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ompletní hodnocen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6200" y="2535120"/>
              <a:ext cx="280728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11960" y="3149640"/>
              <a:ext cx="38196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3960" y="307476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396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60020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200"/>
              <a:ext cx="2817360" cy="77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36840" y="3657240"/>
              <a:ext cx="88452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57240"/>
              <a:ext cx="164124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202760" y="33544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91720" y="3354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4040" y="33541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6200" y="3273120"/>
              <a:ext cx="0" cy="33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82640" y="3442320"/>
              <a:ext cx="251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290320" y="2976120"/>
              <a:ext cx="1207080" cy="2018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F4D0-5B27-4D93-9E6A-F2561F8CF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106884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ždoroční hodnocení H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9720" y="2939040"/>
              <a:ext cx="2951640" cy="24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7200" y="3192480"/>
              <a:ext cx="39132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50960" y="311760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7640" y="319356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9840" y="319392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933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80240" y="3700080"/>
              <a:ext cx="90648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200" y="3700080"/>
              <a:ext cx="1688040" cy="5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126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6040" y="339696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92400" y="339588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8240" y="331524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82120" y="3484080"/>
              <a:ext cx="257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34240" y="2899080"/>
              <a:ext cx="1807200" cy="2091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AAF8-FA27-4E16-965B-0121371D1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nezměněné parame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85F-F1A6-4553-92D5-C8A8CA0CA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DD6-251D-43EE-BB8B-81C4B6941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720"/>
            <a:ext cx="85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vždy další cyklus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uziv</cp:lastModifiedBy>
  <cp:lastPrinted>2018-11-19T13:34:56Z</cp:lastPrinted>
  <dcterms:modified xsi:type="dcterms:W3CDTF">2018-11-20T11:31:15Z</dcterms:modified>
  <cp:revision>141</cp:revision>
  <dc:subject/>
  <dc:title>Prezentace aplikace PowerPoint</dc:title>
</cp:coreProperties>
</file>