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325A-48B3-45C2-A37A-3EB27B8BF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78D2-CAEF-4F8C-A7AF-B10539AAB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1AEE-05C1-4B16-BBD0-7838E4EDD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2E7E-CF8F-46DD-9ED8-9D80FCA29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CD66-302E-4254-BE04-4E8ABBF3E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5482-475D-4446-A294-E82A164EE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6E2F-72B6-4DFF-A220-056F4025E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AAF2-BA95-4970-ABE2-C3E982156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D9A4-9700-46F7-BAC5-DC2CC7CE2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F507-87F6-4B04-B96D-F0BE583D8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B47E-6ED9-40BC-8FFB-B378E01A6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816-CB22-43E1-A926-17CC6707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661-D1BE-421B-9812-E274E9D5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992-7EBF-4DD8-941A-80049DB3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229-F610-4BE6-BB97-F0234176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9330-71AA-471F-8747-1C65EA8D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197-E234-46C3-9293-AC0ABD8F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F76-060E-443B-A048-F977A32E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4F9-4271-40BA-B14B-E0A54CA9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FB4-E44E-468B-B491-4E2272D8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5828-7BAD-4C91-BFF5-19738F2C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3D3-8F8D-45AB-B7A3-3790D383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E0A-0E9E-458A-9C41-CD957D11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51FF-6317-4FEA-95E5-4D48493E82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5F7F-BC13-42E2-8178-2D2628891F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ustomShape 1"/>
          <p:cNvSpPr/>
          <p:nvPr/>
        </p:nvSpPr>
        <p:spPr>
          <a:xfrm>
            <a:off x="1332000" y="4076640"/>
            <a:ext cx="6456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ybrané výsledky METODIKA 2017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. listopadu 2018, Ostr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440" y="6410160"/>
            <a:ext cx="914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E356-3924-455A-AA02-527AEB8C31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ontrola rozhodování, podja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utí garanta (přiřazení hodnotitele resp. výsledné známky) vžd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tvrzuje druhý 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Pokud nesouhlasí, může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nedosáhnou oba panelisté konsenzu, rozhoduje předseda (případně místopředseda) pane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je garant hodnocení v kolizi s pravidly ošetřujícími nepodjatost, navrhuje hodnotitele k danému výsledku (případně výslednou známku) druhý panelista. Garant hodnocení může vyslovit nesouhlas a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34D2-521E-4991-BA9E-E1EE82223C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ritéria střetu zá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ve střetu zájmů, poku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poluau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výsledků, které by měl hodnotit nebo byl zapojen do jejich přípra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zaměstnán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formou pracovní smlouvy či dohody u právnické osoby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blízké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rodinné vazb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např. manžel/ka, partner/ka, dítě, sourozenec, rodič, žijící i nežijící ve společné domácnosti) nebo jiné úzké osobní vazby s osobou, která je autorem výsledků, které budou hodnoceny nebo která je z jednotky, která bude hodnocena, nebo s vedoucím jednotky, která bude hodnocena, nebo s jakýmkoliv statutárním zástupcem právnické osob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zapojen d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řízení právnické osob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nebo měl vztah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vědecké rivalit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bo profesionálního nepřátelství s některým spoluautorem výstupů a výsledků, které budou hodnoceny, či s vedoucím jednotk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nebo byl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men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nebo byl mentorován některým spoluautorem hodnocených výsledk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i přidělování výsledků hodnotitelům se vyžadu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panelist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uz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podjatost ve smyslu bodu 1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případě rozhodování o výsledné známce platí ustanovení v plném rozsah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BF70-8885-45D1-A507-4C82842821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Hodnocení vybra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12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0 % z celkového počt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ibliometrizovatel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ků (jiných než 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imp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Sc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) uplatněných 2016, evidovaných v RIV k 1. 7.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ečné výsledky se každé VO započítávaj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ez ohledu na velikost podí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ocenit přínos dané VO ke společnému výsledku je zodpovědností hodnoti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ké“ výzkumné organizace (typicky vysoké školy, velké ústavy AVČR) uvádí přehle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stoupení funkčních celk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typicky fakult) na celkovém objemu vybraných výsledků a zdůvodnění tohoto pomě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305D-10F3-4C1C-88B6-6CD69A3DC0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Vzdálení hodnotitel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i ve smyslu M17+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í recenzen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Jsou to odborníci, kteří distančně posuzují vybrané výstupy předložené k hodnoc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jsou členy odborných pane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evidováni v databázi spolu s údaji o svém odborném zaměření odpovídajícím oborům (FORD a DETAILED FORD) s uvedením další specializace pomocí klíčových slov, a to i s ohledem na posuzování aplikovaného výzku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povinni respektovat práva k duševnímu vlastnictví vážící se k posuzovaným výsledků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užití odborníků se zkušenostmi s hodnocením AV ČR, EP a OV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2E64-0692-4764-9F73-1FDA5585FC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9"/>
          <p:cNvSpPr/>
          <p:nvPr/>
        </p:nvSpPr>
        <p:spPr>
          <a:xfrm>
            <a:off x="395280" y="1413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Odborné pa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est panelů odpovídajících oborovým skupinám podle OECD (Frascati Manual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ngineering and technolo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edical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gricultural and veterinary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umanities and the 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nel = předseda, místopředseda + 2 panelisté za každý obor FORD (Fields of Research and Developement, např. 1.1 Mathematics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en z panelistů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e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užití odborníků se zkušenostmi s hodnocením AV ČR, EP a OV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757E-C8A3-45B3-B9E8-396628982A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řadí (po odsouhlasení druhým oborovým panelistou) s pomocí aplikace SKV k výsledkům vhodné hodnotitele z databáz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ý výsledek je posuzován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věm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ými hodnotitel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ohodnotí přidělený výsledek podle vybraného kritéria  hodnocení (společenská relevance i přínos k poznání) na stupnici 1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usí své rozhodnut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důvod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ůže vypracovávat více posu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7F5E-0A21-4B80-AEE8-D3C56069B5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společenská relev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špičkov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world-leading), jehož využití v praxi přinese zásadní změnu s mezinárodním ekonomickým dopadem (reálný předpoklad širokého uplatnění na více zahraničních trzích atd.), nebo změnu s mimořádným dopadem mezinárodního charakteru na společnost (reálný předpoklad zásadního uplatnění na mezinárodní úrovni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ynikající úrovn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excellent), jehož využití v praxi přinese změnu s mezinárodním ekonomickým dopadem (reálný předpoklad uplatnění na zahraničním trhu atd.), nebo změnu s významným dopadem na společnost (reálný předpoklad zásadn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elmi dobr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změnu s ekonomickým dopadem na českém trhu nebo změnu s dopadem na společnost (reálný předpoklad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dílčí změnu s ekonomickým dopadem na českém trhu nebo dílčí změnu s dopadem na českou společnost (reálný předpoklad dílč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d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ravděpodobně nepřinese žádnou změnu s ekonomickým dopadem ani změnu s dopadem na českou společnost (není reálný předpoklad uplatnění v oblastech veřejného zájmu)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A767-C016-4ACB-8700-B9AA68D773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přínos k poz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špičkové světové úrovni (world-leadin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vynikající mezinárodní úrovni, ale nedosahuje nejvyšší úrovně excelence (excell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mezinárodně uznáva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árodně uznatel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nesplňuje standard národně uznatelné výzkumné prá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9036-BA1E-47D5-8B6B-2ED053F175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– výsledná znám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se oba 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hodno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uj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nou známku shodnou s hodnotit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s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více než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např. 2 vs. 4 nebo 1 vs. 3), může být zadáno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řetímu hodnotitel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se pak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lednou známku schvaluje druhý panel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číslo snímku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72A8-45B3-4FFE-83EF-FC3A16DDEC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9"/>
          <p:cNvSpPr/>
          <p:nvPr/>
        </p:nvSpPr>
        <p:spPr>
          <a:xfrm>
            <a:off x="395280" y="1268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roz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odůvodněných případech mohou oborově příslušní panelisté ve vzájemné shodě rozhodnout, že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ude postoupen hodnotitelů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í výsledku nejnižší známku a své rozhodnutí zdůvodní. Jejich rozhodnutí schvaluje předse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e všech případech právo udělit výsledné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který je dán hodnotitel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ůvodně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řípadech právo udělit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dva stup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daném hodnotiteli. S hodnocením musí souhlasit nejen garant bibliometrické analýzy, ale též předseda Odborného panelu, který má právo vyvolat společné jednání příslušného panel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ásadně nesouhlasí s výslednou známkou, má právo vyvolat společné jednání příslušného panelu a poté může tuto známk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měnit maximálně o jeden stupeň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nět k projednání výsledné známky s následným rozhodnutím předsedy mohou podat předsedovi také členové příslušného Odborného pane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Pávková Markéta</cp:lastModifiedBy>
  <cp:lastPrinted>2018-03-13T15:15:38Z</cp:lastPrinted>
  <dcterms:modified xsi:type="dcterms:W3CDTF">2018-11-22T15:31:57Z</dcterms:modified>
  <cp:revision>97</cp:revision>
  <dc:subject/>
  <dc:title>Prezentace aplikace PowerPoint</dc:title>
</cp:coreProperties>
</file>