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E3E-F763-4203-9264-EEDDA3C8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C35-7BB2-4456-B9FA-2F12852B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1EB-C56A-4B9F-8757-5BD00F8E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110-A75C-43EB-9F35-29EBDC17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08C1-C38E-49DE-9B6E-967D4F72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A955-F22C-4917-B26F-13020901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7251-04E2-490F-9F22-7CC9365C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5F9E-C4B1-46D0-A8EC-86FECD8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DDA1-2891-4500-8954-D3DEECF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15D6-0137-4B9A-AD76-2ABE290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A394-385D-41F0-AECF-B50054F1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983-989C-4B63-8A16-0B2F3CE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0440-3C9A-44DB-8986-36B27E7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4E91-636D-4B75-9589-4D6A45B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B6BD-77DC-4D60-A7E8-5EAB7B7D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FBB8-CD1F-4C64-AAD3-8FDEDC8B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963D-3D4B-4907-AA77-290379C3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2CBD4-696B-4D63-BA64-C9F1AABB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1FF1A-97D0-404A-AD68-8FBBEB5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F33B2-CBFF-40F7-8252-6EBE4A26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9F21B-4294-40CE-B637-12ADCFE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D3FE9-C2AC-4583-A092-0F7E3C01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B88-392C-48C4-85B8-595A6999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B1EC9-29BF-4674-9388-C531A7F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C3676-FF8D-40B2-BE49-5ACC4DF6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E7494-49EB-4DD2-BA76-085DB3E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D806E-3698-4285-A840-11F3A99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144A6-474C-48A7-A440-389CC02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B88BD-402C-493E-87DA-AEC2A2B1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CBE38-6F52-4AE0-B775-6192AFA6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A23-195E-41C9-BEAC-79CC59B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973-DE58-4838-BB17-A1B2004A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8B0-CA98-4F90-AC55-28CDA97C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537-962A-4CB3-83A3-1134A89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30A-D2D6-499E-AEBB-2C4F038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E99-54B3-4AAC-AF38-16B77D6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BD89-C780-433F-9DC7-1719A7A3B63E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9C16-212F-4C3C-BD1C-13B26AF1713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338-9DCC-4AF1-9B25-9AE79F9449A7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0A3-40B7-4F0C-BB29-14DB712A915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9C8F-74D5-45CA-92E5-EE23184C725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EF34-FD0A-484C-BC4B-A602FEFB0D39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714920" y="3141360"/>
            <a:ext cx="4000320" cy="20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rik Arnold, Technopo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DI Council 26 June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9" name="Straight Arrow Connector 16"/>
          <p:cNvCxnSpPr/>
          <p:nvPr/>
        </p:nvCxnSpPr>
        <p:spPr>
          <a:xfrm>
            <a:off x="1547640" y="3284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verview of the funding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7E5A-4CE3-4182-85F8-1D7978118B5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0320" y="2708280"/>
            <a:ext cx="624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1619280" y="1979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tr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268360" y="2708280"/>
            <a:ext cx="3589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564000" y="313704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3564000" y="393372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3564000" y="5084640"/>
            <a:ext cx="147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c on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372360" y="2852640"/>
            <a:ext cx="2663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6372360" y="3933720"/>
            <a:ext cx="266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372360" y="443700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786840" y="1989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71719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/>
          <p:nvPr/>
        </p:nvCxnSpPr>
        <p:spPr>
          <a:xfrm>
            <a:off x="1547640" y="4076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0"/>
          <p:cNvCxnSpPr/>
          <p:nvPr/>
        </p:nvCxnSpPr>
        <p:spPr>
          <a:xfrm>
            <a:off x="1547640" y="5300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2"/>
          <p:cNvCxnSpPr/>
          <p:nvPr/>
        </p:nvCxnSpPr>
        <p:spPr>
          <a:xfrm>
            <a:off x="5148360" y="32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Straight Arrow Connector 23"/>
          <p:cNvCxnSpPr/>
          <p:nvPr/>
        </p:nvCxnSpPr>
        <p:spPr>
          <a:xfrm>
            <a:off x="5148360" y="4076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Straight Arrow Connector 24"/>
          <p:cNvCxnSpPr/>
          <p:nvPr/>
        </p:nvCxnSpPr>
        <p:spPr>
          <a:xfrm>
            <a:off x="5148360" y="5300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FS at a more detailed leve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12F-CBDB-4FBF-8971-30B5FB40DA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"/>
          <p:cNvGrpSpPr/>
          <p:nvPr/>
        </p:nvGrpSpPr>
        <p:grpSpPr>
          <a:xfrm>
            <a:off x="0" y="1413000"/>
            <a:ext cx="8964720" cy="4895640"/>
            <a:chOff x="0" y="1413000"/>
            <a:chExt cx="8964720" cy="4895640"/>
          </a:xfrm>
        </p:grpSpPr>
        <p:grpSp>
          <p:nvGrpSpPr>
            <p:cNvPr id="301" name="Group 6"/>
            <p:cNvGrpSpPr/>
            <p:nvPr/>
          </p:nvGrpSpPr>
          <p:grpSpPr>
            <a:xfrm>
              <a:off x="1403280" y="2133720"/>
              <a:ext cx="936360" cy="647640"/>
              <a:chOff x="1403280" y="2133720"/>
              <a:chExt cx="936360" cy="647640"/>
            </a:xfrm>
          </p:grpSpPr>
          <p:sp>
            <p:nvSpPr>
              <p:cNvPr id="302" name="Cloud 4"/>
              <p:cNvSpPr/>
              <p:nvPr/>
            </p:nvSpPr>
            <p:spPr>
              <a:xfrm>
                <a:off x="1403280" y="21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5"/>
              <p:cNvSpPr/>
              <p:nvPr/>
            </p:nvSpPr>
            <p:spPr>
              <a:xfrm>
                <a:off x="1423800" y="22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7"/>
            <p:cNvGrpSpPr/>
            <p:nvPr/>
          </p:nvGrpSpPr>
          <p:grpSpPr>
            <a:xfrm>
              <a:off x="1403280" y="2997360"/>
              <a:ext cx="936360" cy="647640"/>
              <a:chOff x="1403280" y="2997360"/>
              <a:chExt cx="936360" cy="647640"/>
            </a:xfrm>
          </p:grpSpPr>
          <p:sp>
            <p:nvSpPr>
              <p:cNvPr id="305" name="Cloud 8"/>
              <p:cNvSpPr/>
              <p:nvPr/>
            </p:nvSpPr>
            <p:spPr>
              <a:xfrm>
                <a:off x="1403280" y="29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9"/>
              <p:cNvSpPr/>
              <p:nvPr/>
            </p:nvSpPr>
            <p:spPr>
              <a:xfrm>
                <a:off x="1423800" y="30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0"/>
            <p:cNvGrpSpPr/>
            <p:nvPr/>
          </p:nvGrpSpPr>
          <p:grpSpPr>
            <a:xfrm>
              <a:off x="1403280" y="3933720"/>
              <a:ext cx="936360" cy="647640"/>
              <a:chOff x="1403280" y="3933720"/>
              <a:chExt cx="936360" cy="647640"/>
            </a:xfrm>
          </p:grpSpPr>
          <p:sp>
            <p:nvSpPr>
              <p:cNvPr id="308" name="Cloud 11"/>
              <p:cNvSpPr/>
              <p:nvPr/>
            </p:nvSpPr>
            <p:spPr>
              <a:xfrm>
                <a:off x="1403280" y="39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"/>
              <p:cNvSpPr/>
              <p:nvPr/>
            </p:nvSpPr>
            <p:spPr>
              <a:xfrm>
                <a:off x="1423800" y="40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1403280" y="4797360"/>
              <a:ext cx="936360" cy="647640"/>
              <a:chOff x="1403280" y="4797360"/>
              <a:chExt cx="936360" cy="647640"/>
            </a:xfrm>
          </p:grpSpPr>
          <p:sp>
            <p:nvSpPr>
              <p:cNvPr id="311" name="Cloud 14"/>
              <p:cNvSpPr/>
              <p:nvPr/>
            </p:nvSpPr>
            <p:spPr>
              <a:xfrm>
                <a:off x="1403280" y="47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5"/>
              <p:cNvSpPr/>
              <p:nvPr/>
            </p:nvSpPr>
            <p:spPr>
              <a:xfrm>
                <a:off x="1423800" y="48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Box 16"/>
            <p:cNvSpPr/>
            <p:nvPr/>
          </p:nvSpPr>
          <p:spPr>
            <a:xfrm>
              <a:off x="107640" y="2205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agement &amp;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7"/>
            <p:cNvSpPr/>
            <p:nvPr/>
          </p:nvSpPr>
          <p:spPr>
            <a:xfrm>
              <a:off x="0" y="2997360"/>
              <a:ext cx="140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bership of research 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8"/>
            <p:cNvSpPr/>
            <p:nvPr/>
          </p:nvSpPr>
          <p:spPr>
            <a:xfrm>
              <a:off x="107640" y="3933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"/>
            <p:cNvSpPr/>
            <p:nvPr/>
          </p:nvSpPr>
          <p:spPr>
            <a:xfrm>
              <a:off x="107640" y="4849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0"/>
            <p:cNvSpPr/>
            <p:nvPr/>
          </p:nvSpPr>
          <p:spPr>
            <a:xfrm>
              <a:off x="1331640" y="15364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1"/>
            <p:cNvSpPr/>
            <p:nvPr/>
          </p:nvSpPr>
          <p:spPr>
            <a:xfrm>
              <a:off x="2916360" y="14842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276720" y="2133720"/>
              <a:ext cx="431640" cy="417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ight Arrow 23"/>
            <p:cNvSpPr/>
            <p:nvPr/>
          </p:nvSpPr>
          <p:spPr>
            <a:xfrm>
              <a:off x="2700360" y="2349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ight Arrow 25"/>
            <p:cNvSpPr/>
            <p:nvPr/>
          </p:nvSpPr>
          <p:spPr>
            <a:xfrm>
              <a:off x="2700360" y="321300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ight Arrow 26"/>
            <p:cNvSpPr/>
            <p:nvPr/>
          </p:nvSpPr>
          <p:spPr>
            <a:xfrm>
              <a:off x="2700360" y="40766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ight Arrow 27"/>
            <p:cNvSpPr/>
            <p:nvPr/>
          </p:nvSpPr>
          <p:spPr>
            <a:xfrm>
              <a:off x="2700360" y="5013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9"/>
            <p:cNvSpPr/>
            <p:nvPr/>
          </p:nvSpPr>
          <p:spPr>
            <a:xfrm>
              <a:off x="3924360" y="213372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924360" y="299736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1"/>
            <p:cNvSpPr/>
            <p:nvPr/>
          </p:nvSpPr>
          <p:spPr>
            <a:xfrm>
              <a:off x="3924360" y="39146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2"/>
            <p:cNvSpPr/>
            <p:nvPr/>
          </p:nvSpPr>
          <p:spPr>
            <a:xfrm>
              <a:off x="3924360" y="4707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1403280" y="5589720"/>
              <a:ext cx="936360" cy="647640"/>
              <a:chOff x="1403280" y="5589720"/>
              <a:chExt cx="936360" cy="647640"/>
            </a:xfrm>
          </p:grpSpPr>
          <p:sp>
            <p:nvSpPr>
              <p:cNvPr id="329" name="Cloud 34"/>
              <p:cNvSpPr/>
              <p:nvPr/>
            </p:nvSpPr>
            <p:spPr>
              <a:xfrm>
                <a:off x="1403280" y="5589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"/>
              <p:cNvSpPr/>
              <p:nvPr/>
            </p:nvSpPr>
            <p:spPr>
              <a:xfrm>
                <a:off x="1423800" y="5661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6"/>
            <p:cNvSpPr/>
            <p:nvPr/>
          </p:nvSpPr>
          <p:spPr>
            <a:xfrm>
              <a:off x="107640" y="57135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cietal relev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ight Arrow 37"/>
            <p:cNvSpPr/>
            <p:nvPr/>
          </p:nvSpPr>
          <p:spPr>
            <a:xfrm>
              <a:off x="2700360" y="580572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8"/>
            <p:cNvSpPr/>
            <p:nvPr/>
          </p:nvSpPr>
          <p:spPr>
            <a:xfrm>
              <a:off x="3924360" y="5499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/>
            <p:cNvSpPr/>
            <p:nvPr/>
          </p:nvSpPr>
          <p:spPr>
            <a:xfrm>
              <a:off x="5292720" y="1413000"/>
              <a:ext cx="201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ney ‘pot’ per RO type and assessment crite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1"/>
            <p:cNvGrpSpPr/>
            <p:nvPr/>
          </p:nvGrpSpPr>
          <p:grpSpPr>
            <a:xfrm>
              <a:off x="5598720" y="2276280"/>
              <a:ext cx="1369800" cy="307080"/>
              <a:chOff x="5598720" y="2276280"/>
              <a:chExt cx="1369800" cy="307080"/>
            </a:xfrm>
          </p:grpSpPr>
          <p:sp>
            <p:nvSpPr>
              <p:cNvPr id="336" name="TextBox 46"/>
              <p:cNvSpPr/>
              <p:nvPr/>
            </p:nvSpPr>
            <p:spPr>
              <a:xfrm>
                <a:off x="559872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47"/>
              <p:cNvSpPr/>
              <p:nvPr/>
            </p:nvSpPr>
            <p:spPr>
              <a:xfrm>
                <a:off x="594288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48"/>
              <p:cNvSpPr/>
              <p:nvPr/>
            </p:nvSpPr>
            <p:spPr>
              <a:xfrm>
                <a:off x="6287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49"/>
              <p:cNvSpPr/>
              <p:nvPr/>
            </p:nvSpPr>
            <p:spPr>
              <a:xfrm>
                <a:off x="6629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2"/>
            <p:cNvGrpSpPr/>
            <p:nvPr/>
          </p:nvGrpSpPr>
          <p:grpSpPr>
            <a:xfrm>
              <a:off x="5582520" y="3141720"/>
              <a:ext cx="1369800" cy="307080"/>
              <a:chOff x="5582520" y="3141720"/>
              <a:chExt cx="1369800" cy="307080"/>
            </a:xfrm>
          </p:grpSpPr>
          <p:sp>
            <p:nvSpPr>
              <p:cNvPr id="341" name="TextBox 53"/>
              <p:cNvSpPr/>
              <p:nvPr/>
            </p:nvSpPr>
            <p:spPr>
              <a:xfrm>
                <a:off x="558252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54"/>
              <p:cNvSpPr/>
              <p:nvPr/>
            </p:nvSpPr>
            <p:spPr>
              <a:xfrm>
                <a:off x="592668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55"/>
              <p:cNvSpPr/>
              <p:nvPr/>
            </p:nvSpPr>
            <p:spPr>
              <a:xfrm>
                <a:off x="6271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6"/>
              <p:cNvSpPr/>
              <p:nvPr/>
            </p:nvSpPr>
            <p:spPr>
              <a:xfrm>
                <a:off x="6613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7"/>
            <p:cNvGrpSpPr/>
            <p:nvPr/>
          </p:nvGrpSpPr>
          <p:grpSpPr>
            <a:xfrm>
              <a:off x="5582520" y="4005360"/>
              <a:ext cx="1369800" cy="307080"/>
              <a:chOff x="5582520" y="4005360"/>
              <a:chExt cx="1369800" cy="307080"/>
            </a:xfrm>
          </p:grpSpPr>
          <p:sp>
            <p:nvSpPr>
              <p:cNvPr id="346" name="TextBox 58"/>
              <p:cNvSpPr/>
              <p:nvPr/>
            </p:nvSpPr>
            <p:spPr>
              <a:xfrm>
                <a:off x="558252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59"/>
              <p:cNvSpPr/>
              <p:nvPr/>
            </p:nvSpPr>
            <p:spPr>
              <a:xfrm>
                <a:off x="592668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60"/>
              <p:cNvSpPr/>
              <p:nvPr/>
            </p:nvSpPr>
            <p:spPr>
              <a:xfrm>
                <a:off x="6271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61"/>
              <p:cNvSpPr/>
              <p:nvPr/>
            </p:nvSpPr>
            <p:spPr>
              <a:xfrm>
                <a:off x="6613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2"/>
            <p:cNvGrpSpPr/>
            <p:nvPr/>
          </p:nvGrpSpPr>
          <p:grpSpPr>
            <a:xfrm>
              <a:off x="5582520" y="4921200"/>
              <a:ext cx="1369800" cy="307080"/>
              <a:chOff x="5582520" y="4921200"/>
              <a:chExt cx="1369800" cy="307080"/>
            </a:xfrm>
          </p:grpSpPr>
          <p:sp>
            <p:nvSpPr>
              <p:cNvPr id="351" name="TextBox 63"/>
              <p:cNvSpPr/>
              <p:nvPr/>
            </p:nvSpPr>
            <p:spPr>
              <a:xfrm>
                <a:off x="558252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64"/>
              <p:cNvSpPr/>
              <p:nvPr/>
            </p:nvSpPr>
            <p:spPr>
              <a:xfrm>
                <a:off x="592668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65"/>
              <p:cNvSpPr/>
              <p:nvPr/>
            </p:nvSpPr>
            <p:spPr>
              <a:xfrm>
                <a:off x="6271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66"/>
              <p:cNvSpPr/>
              <p:nvPr/>
            </p:nvSpPr>
            <p:spPr>
              <a:xfrm>
                <a:off x="6613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7"/>
            <p:cNvGrpSpPr/>
            <p:nvPr/>
          </p:nvGrpSpPr>
          <p:grpSpPr>
            <a:xfrm>
              <a:off x="5582520" y="5713560"/>
              <a:ext cx="1369800" cy="307080"/>
              <a:chOff x="5582520" y="5713560"/>
              <a:chExt cx="1369800" cy="307080"/>
            </a:xfrm>
          </p:grpSpPr>
          <p:sp>
            <p:nvSpPr>
              <p:cNvPr id="356" name="TextBox 68"/>
              <p:cNvSpPr/>
              <p:nvPr/>
            </p:nvSpPr>
            <p:spPr>
              <a:xfrm>
                <a:off x="558252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69"/>
              <p:cNvSpPr/>
              <p:nvPr/>
            </p:nvSpPr>
            <p:spPr>
              <a:xfrm>
                <a:off x="592668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70"/>
              <p:cNvSpPr/>
              <p:nvPr/>
            </p:nvSpPr>
            <p:spPr>
              <a:xfrm>
                <a:off x="6271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1"/>
              <p:cNvSpPr/>
              <p:nvPr/>
            </p:nvSpPr>
            <p:spPr>
              <a:xfrm>
                <a:off x="6613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ight Arrow 72"/>
            <p:cNvSpPr/>
            <p:nvPr/>
          </p:nvSpPr>
          <p:spPr>
            <a:xfrm>
              <a:off x="5077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73"/>
            <p:cNvSpPr/>
            <p:nvPr/>
          </p:nvSpPr>
          <p:spPr>
            <a:xfrm>
              <a:off x="5077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74"/>
            <p:cNvSpPr/>
            <p:nvPr/>
          </p:nvSpPr>
          <p:spPr>
            <a:xfrm>
              <a:off x="5077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ight Arrow 75"/>
            <p:cNvSpPr/>
            <p:nvPr/>
          </p:nvSpPr>
          <p:spPr>
            <a:xfrm>
              <a:off x="5077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76"/>
            <p:cNvSpPr/>
            <p:nvPr/>
          </p:nvSpPr>
          <p:spPr>
            <a:xfrm>
              <a:off x="5077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ight Arrow 77"/>
            <p:cNvSpPr/>
            <p:nvPr/>
          </p:nvSpPr>
          <p:spPr>
            <a:xfrm>
              <a:off x="7309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ight Arrow 78"/>
            <p:cNvSpPr/>
            <p:nvPr/>
          </p:nvSpPr>
          <p:spPr>
            <a:xfrm>
              <a:off x="7309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ight Arrow 79"/>
            <p:cNvSpPr/>
            <p:nvPr/>
          </p:nvSpPr>
          <p:spPr>
            <a:xfrm>
              <a:off x="7309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ight Arrow 80"/>
            <p:cNvSpPr/>
            <p:nvPr/>
          </p:nvSpPr>
          <p:spPr>
            <a:xfrm>
              <a:off x="7309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ight Arrow 81"/>
            <p:cNvSpPr/>
            <p:nvPr/>
          </p:nvSpPr>
          <p:spPr>
            <a:xfrm>
              <a:off x="7309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3"/>
            <p:cNvSpPr/>
            <p:nvPr/>
          </p:nvSpPr>
          <p:spPr>
            <a:xfrm>
              <a:off x="7885440" y="3645000"/>
              <a:ext cx="1079280" cy="1159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Institutional research funding per evaluated 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-evaluation and interaction with the assessment generates a learn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 Method encourages improved research management in the organis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 positioning for international collaboration, eg Framework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inputs to th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ing an ‘Olympic’ bench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ependence and objectivity of pe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 for both policy and organisational levels, to underpin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– giving incentives but also a basis for plann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st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s for past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ategic ‘space’ for future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58B2-4E96-4FA1-94D5-F380A4EBBA9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rpe diem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window of opportunity for r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 interest in improvement also within the research and innovatio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N project has created momentum – we need to act while we still have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al way to implement is to adopt all the elements of NER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’s designed to address to totality of needs in its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dular implementation is possible – but would be slower and more expens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orm needs capacity building and modifications to the nationa Research Information Syst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the interim Evaluation Methodology in 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 across to NERO in time for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3A3-676A-48F2-ACC6-66E88847CC4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770000" y="3428640"/>
            <a:ext cx="4000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ěkujeme za pozornost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6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blems in the research and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research quality is improving but still lags the global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ed research system, often lagging international practice in research strategy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very high proportion of research funding is contestable in the short term, undermining development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or research-industry links in many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ufficient rate of innovation to derive adequate competitiveness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&amp;I evaluation is not fit for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ther at the level of the ‘coffee mill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is methodologically unsound, causing instability and perverse behaviou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should train the community for the Olymp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in practice trains for the national ga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more widely at the level of understanding societal impacts and informing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51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0D7E-9C4F-498F-B0CF-747AC84846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&amp;I are keys to the functioning of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A45E-17D6-477A-99C6-7E4D24532D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95280" y="602784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95280" y="160668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851040" y="1628640"/>
            <a:ext cx="74516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912960" y="1792440"/>
            <a:ext cx="7634160" cy="4613040"/>
            <a:chOff x="912960" y="1792440"/>
            <a:chExt cx="7634160" cy="4613040"/>
          </a:xfrm>
        </p:grpSpPr>
        <p:sp>
          <p:nvSpPr>
            <p:cNvPr id="136" name="Slide Number Placeholder 3"/>
            <p:cNvSpPr/>
            <p:nvPr/>
          </p:nvSpPr>
          <p:spPr>
            <a:xfrm>
              <a:off x="7709040" y="6100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21E42BB-D988-4F84-B3D0-885470747A1E}" type="slidenum">
                <a:rPr b="0" lang="en-US" sz="1200" spc="-1" strike="noStrike">
                  <a:solidFill>
                    <a:srgbClr val="898989"/>
                  </a:solidFill>
                  <a:latin typeface="Calibri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6396480" y="5920560"/>
              <a:ext cx="1649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9160"/>
                  <a:tab algn="l" pos="998640"/>
                  <a:tab algn="l" pos="1249200"/>
                  <a:tab algn="l" pos="1498680"/>
                  <a:tab algn="l" pos="1749600"/>
                  <a:tab algn="l" pos="1998720"/>
                  <a:tab algn="l" pos="2249640"/>
                  <a:tab algn="l" pos="2498760"/>
                  <a:tab algn="l" pos="2749680"/>
                  <a:tab algn="l" pos="2998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eorgia Bold"/>
                  <a:ea typeface="Georgia Bold"/>
                </a:rPr>
                <a:t>Source: </a:t>
              </a:r>
              <a:r>
                <a:rPr b="0" lang="en-US" sz="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Arnold &amp; Kuhlmann, 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"/>
            <p:cNvSpPr/>
            <p:nvPr/>
          </p:nvSpPr>
          <p:spPr>
            <a:xfrm>
              <a:off x="1969920" y="2292480"/>
              <a:ext cx="6256440" cy="384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cd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2701800" y="4729320"/>
              <a:ext cx="1787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The potential reach</a:t>
              </a:r>
              <a:br>
                <a:rPr sz="1400"/>
              </a:b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of public policies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912960" y="1792440"/>
              <a:ext cx="7124400" cy="4608000"/>
              <a:chOff x="912960" y="1792440"/>
              <a:chExt cx="7124400" cy="4608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912960" y="5622840"/>
                <a:ext cx="5201280" cy="7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"/>
              <p:cNvSpPr/>
              <p:nvPr/>
            </p:nvSpPr>
            <p:spPr>
              <a:xfrm>
                <a:off x="5569560" y="1792440"/>
                <a:ext cx="2170080" cy="780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Framework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inancial environment; taxation and incentives; propensity to innovation and entrepreneurship; mobility</a:t>
                </a:r>
                <a:r>
                  <a:rPr b="0" lang="en-GB" sz="1000" spc="-1" strike="noStrike">
                    <a:solidFill>
                      <a:srgbClr val="ffff00"/>
                    </a:solidFill>
                    <a:latin typeface="Arial"/>
                  </a:rPr>
                  <a:t> .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457056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9"/>
              <p:cNvSpPr/>
              <p:nvPr/>
            </p:nvSpPr>
            <p:spPr>
              <a:xfrm>
                <a:off x="4732920" y="3049560"/>
                <a:ext cx="121896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Education and 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Research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"/>
              <p:cNvSpPr/>
              <p:nvPr/>
            </p:nvSpPr>
            <p:spPr>
              <a:xfrm>
                <a:off x="472284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fessional education and tra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1"/>
              <p:cNvSpPr/>
              <p:nvPr/>
            </p:nvSpPr>
            <p:spPr>
              <a:xfrm>
                <a:off x="4724280" y="4147920"/>
                <a:ext cx="130248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Higher education and 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2"/>
              <p:cNvSpPr/>
              <p:nvPr/>
            </p:nvSpPr>
            <p:spPr>
              <a:xfrm>
                <a:off x="4732920" y="4878360"/>
                <a:ext cx="12992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ublic sector </a:t>
                </a:r>
                <a:br>
                  <a:rPr sz="1100"/>
                </a:b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3"/>
              <p:cNvSpPr/>
              <p:nvPr/>
            </p:nvSpPr>
            <p:spPr>
              <a:xfrm>
                <a:off x="1074960" y="3092400"/>
                <a:ext cx="11372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dustrial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4"/>
              <p:cNvSpPr/>
              <p:nvPr/>
            </p:nvSpPr>
            <p:spPr>
              <a:xfrm>
                <a:off x="983160" y="347508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Large compan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5"/>
              <p:cNvSpPr/>
              <p:nvPr/>
            </p:nvSpPr>
            <p:spPr>
              <a:xfrm>
                <a:off x="983160" y="420696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Mature SM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983160" y="4830840"/>
                <a:ext cx="1392840" cy="478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New, technology-     based fi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2944800" y="3755880"/>
                <a:ext cx="1049760" cy="685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ter-mediar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Research institu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1460160" y="26161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 flipH="1">
                <a:off x="4934520" y="2468520"/>
                <a:ext cx="2880" cy="42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1460160" y="53593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4934520" y="5359320"/>
                <a:ext cx="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 flipV="1">
                <a:off x="2476440" y="4025520"/>
                <a:ext cx="4543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4082040" y="4030560"/>
                <a:ext cx="443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2504520" y="3413160"/>
                <a:ext cx="1971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2456640" y="4678200"/>
                <a:ext cx="2059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1725480" y="2084400"/>
                <a:ext cx="2763000" cy="460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Consumers (final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ducers (intermediate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7"/>
              <p:cNvSpPr/>
              <p:nvPr/>
            </p:nvSpPr>
            <p:spPr>
              <a:xfrm>
                <a:off x="2817720" y="1876320"/>
                <a:ext cx="6505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8"/>
              <p:cNvSpPr/>
              <p:nvPr/>
            </p:nvSpPr>
            <p:spPr>
              <a:xfrm>
                <a:off x="935280" y="1812960"/>
                <a:ext cx="4448160" cy="77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9"/>
              <p:cNvSpPr/>
              <p:nvPr/>
            </p:nvSpPr>
            <p:spPr>
              <a:xfrm>
                <a:off x="935280" y="2884320"/>
                <a:ext cx="151704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2131920" y="3938400"/>
                <a:ext cx="1080" cy="8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1"/>
              <p:cNvSpPr/>
              <p:nvPr/>
            </p:nvSpPr>
            <p:spPr>
              <a:xfrm>
                <a:off x="1074960" y="5908680"/>
                <a:ext cx="10947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Banking, </a:t>
                </a:r>
                <a:br>
                  <a:rPr sz="1100"/>
                </a:b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venture capit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32"/>
              <p:cNvSpPr/>
              <p:nvPr/>
            </p:nvSpPr>
            <p:spPr>
              <a:xfrm>
                <a:off x="2294280" y="5897520"/>
                <a:ext cx="1056960" cy="442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PR and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33"/>
              <p:cNvSpPr/>
              <p:nvPr/>
            </p:nvSpPr>
            <p:spPr>
              <a:xfrm>
                <a:off x="3513600" y="5902200"/>
                <a:ext cx="1257120" cy="4377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nnovation and business suppo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4"/>
              <p:cNvSpPr/>
              <p:nvPr/>
            </p:nvSpPr>
            <p:spPr>
              <a:xfrm>
                <a:off x="4894920" y="5911920"/>
                <a:ext cx="10749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Standards and no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5"/>
              <p:cNvSpPr/>
              <p:nvPr/>
            </p:nvSpPr>
            <p:spPr>
              <a:xfrm>
                <a:off x="3025080" y="5676840"/>
                <a:ext cx="974880" cy="18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 flipV="1">
                <a:off x="1310400" y="3714480"/>
                <a:ext cx="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 flipV="1">
                <a:off x="1310400" y="444492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8"/>
              <p:cNvSpPr/>
              <p:nvPr/>
            </p:nvSpPr>
            <p:spPr>
              <a:xfrm>
                <a:off x="652068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9"/>
              <p:cNvSpPr/>
              <p:nvPr/>
            </p:nvSpPr>
            <p:spPr>
              <a:xfrm>
                <a:off x="6838200" y="3049560"/>
                <a:ext cx="97488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0"/>
              <p:cNvSpPr/>
              <p:nvPr/>
            </p:nvSpPr>
            <p:spPr>
              <a:xfrm>
                <a:off x="667296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1"/>
              <p:cNvSpPr/>
              <p:nvPr/>
            </p:nvSpPr>
            <p:spPr>
              <a:xfrm>
                <a:off x="6674760" y="4147920"/>
                <a:ext cx="130356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&amp;I polic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6683040" y="4878360"/>
                <a:ext cx="13010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6094440" y="6108120"/>
              <a:ext cx="21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17114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urce: Kuhlmann &amp; Arnold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4"/>
            <p:cNvSpPr/>
            <p:nvPr/>
          </p:nvSpPr>
          <p:spPr>
            <a:xfrm>
              <a:off x="3757680" y="2554200"/>
              <a:ext cx="162540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5"/>
            <p:cNvGrpSpPr/>
            <p:nvPr/>
          </p:nvGrpSpPr>
          <p:grpSpPr>
            <a:xfrm>
              <a:off x="2335320" y="2478240"/>
              <a:ext cx="4200480" cy="3403080"/>
              <a:chOff x="2335320" y="2478240"/>
              <a:chExt cx="4200480" cy="3403080"/>
            </a:xfrm>
          </p:grpSpPr>
          <p:sp>
            <p:nvSpPr>
              <p:cNvPr id="181" name="Freeform 46"/>
              <p:cNvSpPr/>
              <p:nvPr/>
            </p:nvSpPr>
            <p:spPr>
              <a:xfrm>
                <a:off x="2335320" y="2592360"/>
                <a:ext cx="4200480" cy="1485360"/>
              </a:xfrm>
              <a:custGeom>
                <a:avLst/>
                <a:gdLst/>
                <a:ahLst/>
                <a:rect l="l" t="t" r="r" b="b"/>
                <a:pathLst>
                  <a:path w="2976" h="936">
                    <a:moveTo>
                      <a:pt x="2976" y="936"/>
                    </a:moveTo>
                    <a:cubicBezTo>
                      <a:pt x="2776" y="588"/>
                      <a:pt x="2576" y="240"/>
                      <a:pt x="2160" y="120"/>
                    </a:cubicBezTo>
                    <a:cubicBezTo>
                      <a:pt x="1744" y="0"/>
                      <a:pt x="840" y="80"/>
                      <a:pt x="480" y="216"/>
                    </a:cubicBezTo>
                    <a:cubicBezTo>
                      <a:pt x="120" y="352"/>
                      <a:pt x="60" y="644"/>
                      <a:pt x="0" y="9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4028760" y="2706480"/>
                <a:ext cx="417960" cy="3174840"/>
              </a:xfrm>
              <a:custGeom>
                <a:avLst/>
                <a:gdLst/>
                <a:ahLst/>
                <a:rect l="l" t="t" r="r" b="b"/>
                <a:pathLst>
                  <a:path w="296" h="2000">
                    <a:moveTo>
                      <a:pt x="240" y="0"/>
                    </a:moveTo>
                    <a:cubicBezTo>
                      <a:pt x="140" y="0"/>
                      <a:pt x="40" y="0"/>
                      <a:pt x="48" y="288"/>
                    </a:cubicBezTo>
                    <a:cubicBezTo>
                      <a:pt x="56" y="576"/>
                      <a:pt x="296" y="1456"/>
                      <a:pt x="288" y="1728"/>
                    </a:cubicBezTo>
                    <a:cubicBezTo>
                      <a:pt x="280" y="2000"/>
                      <a:pt x="140" y="1960"/>
                      <a:pt x="0" y="19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4209480" y="2706480"/>
                <a:ext cx="632160" cy="1371240"/>
              </a:xfrm>
              <a:custGeom>
                <a:avLst/>
                <a:gdLst/>
                <a:ahLst/>
                <a:rect l="l" t="t" r="r" b="b"/>
                <a:pathLst>
                  <a:path w="448" h="864">
                    <a:moveTo>
                      <a:pt x="208" y="0"/>
                    </a:moveTo>
                    <a:cubicBezTo>
                      <a:pt x="120" y="60"/>
                      <a:pt x="32" y="120"/>
                      <a:pt x="16" y="240"/>
                    </a:cubicBezTo>
                    <a:cubicBezTo>
                      <a:pt x="0" y="360"/>
                      <a:pt x="40" y="616"/>
                      <a:pt x="112" y="720"/>
                    </a:cubicBezTo>
                    <a:cubicBezTo>
                      <a:pt x="184" y="824"/>
                      <a:pt x="316" y="844"/>
                      <a:pt x="448" y="8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2877120" y="2478240"/>
                <a:ext cx="1219320" cy="266400"/>
              </a:xfrm>
              <a:custGeom>
                <a:avLst/>
                <a:gdLst/>
                <a:ahLst/>
                <a:rect l="l" t="t" r="r" b="b"/>
                <a:pathLst>
                  <a:path w="864" h="168">
                    <a:moveTo>
                      <a:pt x="864" y="144"/>
                    </a:moveTo>
                    <a:cubicBezTo>
                      <a:pt x="648" y="156"/>
                      <a:pt x="432" y="168"/>
                      <a:pt x="288" y="144"/>
                    </a:cubicBezTo>
                    <a:cubicBezTo>
                      <a:pt x="144" y="120"/>
                      <a:pt x="72" y="6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3339720" y="2706480"/>
                <a:ext cx="959760" cy="990360"/>
              </a:xfrm>
              <a:custGeom>
                <a:avLst/>
                <a:gdLst/>
                <a:ahLst/>
                <a:rect l="l" t="t" r="r" b="b"/>
                <a:pathLst>
                  <a:path w="680" h="624">
                    <a:moveTo>
                      <a:pt x="680" y="0"/>
                    </a:moveTo>
                    <a:cubicBezTo>
                      <a:pt x="444" y="68"/>
                      <a:pt x="208" y="136"/>
                      <a:pt x="104" y="240"/>
                    </a:cubicBezTo>
                    <a:cubicBezTo>
                      <a:pt x="0" y="344"/>
                      <a:pt x="28" y="484"/>
                      <a:pt x="56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5857920" y="2554200"/>
                <a:ext cx="203040" cy="685440"/>
              </a:xfrm>
              <a:custGeom>
                <a:avLst/>
                <a:gdLst/>
                <a:ahLst/>
                <a:rect l="l" t="t" r="r" b="b"/>
                <a:pathLst>
                  <a:path w="144" h="432">
                    <a:moveTo>
                      <a:pt x="144" y="432"/>
                    </a:moveTo>
                    <a:cubicBezTo>
                      <a:pt x="72" y="348"/>
                      <a:pt x="0" y="264"/>
                      <a:pt x="0" y="192"/>
                    </a:cubicBezTo>
                    <a:cubicBezTo>
                      <a:pt x="0" y="120"/>
                      <a:pt x="72" y="6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52"/>
              <p:cNvSpPr/>
              <p:nvPr/>
            </p:nvSpPr>
            <p:spPr>
              <a:xfrm>
                <a:off x="3418920" y="2554200"/>
                <a:ext cx="1761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c3003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171144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Co-evol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valuation properly understood: accountability, impacts, system im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1D2-45FB-4808-8D40-8D596B2DBD8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219320" y="1812960"/>
            <a:ext cx="6553080" cy="4282920"/>
            <a:chOff x="1219320" y="1812960"/>
            <a:chExt cx="6553080" cy="4282920"/>
          </a:xfrm>
        </p:grpSpPr>
        <p:grpSp>
          <p:nvGrpSpPr>
            <p:cNvPr id="192" name="Group 20"/>
            <p:cNvGrpSpPr/>
            <p:nvPr/>
          </p:nvGrpSpPr>
          <p:grpSpPr>
            <a:xfrm>
              <a:off x="1461960" y="1950840"/>
              <a:ext cx="6067800" cy="4006440"/>
              <a:chOff x="1461960" y="1950840"/>
              <a:chExt cx="6067800" cy="4006440"/>
            </a:xfrm>
          </p:grpSpPr>
          <p:sp>
            <p:nvSpPr>
              <p:cNvPr id="193" name="Text Box 21"/>
              <p:cNvSpPr/>
              <p:nvPr/>
            </p:nvSpPr>
            <p:spPr>
              <a:xfrm>
                <a:off x="1461960" y="2917800"/>
                <a:ext cx="133488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ci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conom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2"/>
              <p:cNvSpPr/>
              <p:nvPr/>
            </p:nvSpPr>
            <p:spPr>
              <a:xfrm>
                <a:off x="1461960" y="3884760"/>
                <a:ext cx="133488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lic Interven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3"/>
              <p:cNvSpPr/>
              <p:nvPr/>
            </p:nvSpPr>
            <p:spPr>
              <a:xfrm>
                <a:off x="1461960" y="5542920"/>
                <a:ext cx="1091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4"/>
              <p:cNvSpPr/>
              <p:nvPr/>
            </p:nvSpPr>
            <p:spPr>
              <a:xfrm>
                <a:off x="1461960" y="1950840"/>
                <a:ext cx="6067800" cy="165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5"/>
              <p:cNvSpPr/>
              <p:nvPr/>
            </p:nvSpPr>
            <p:spPr>
              <a:xfrm>
                <a:off x="1461960" y="3746880"/>
                <a:ext cx="606780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6"/>
              <p:cNvSpPr/>
              <p:nvPr/>
            </p:nvSpPr>
            <p:spPr>
              <a:xfrm>
                <a:off x="1461960" y="4575600"/>
                <a:ext cx="6067800" cy="13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7"/>
              <p:cNvSpPr/>
              <p:nvPr/>
            </p:nvSpPr>
            <p:spPr>
              <a:xfrm>
                <a:off x="2553840" y="2088720"/>
                <a:ext cx="97056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e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8"/>
              <p:cNvSpPr/>
              <p:nvPr/>
            </p:nvSpPr>
            <p:spPr>
              <a:xfrm>
                <a:off x="3039480" y="3884760"/>
                <a:ext cx="109188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9"/>
              <p:cNvSpPr/>
              <p:nvPr/>
            </p:nvSpPr>
            <p:spPr>
              <a:xfrm>
                <a:off x="4253040" y="3884760"/>
                <a:ext cx="84924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30"/>
              <p:cNvSpPr/>
              <p:nvPr/>
            </p:nvSpPr>
            <p:spPr>
              <a:xfrm>
                <a:off x="5223960" y="388476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1"/>
              <p:cNvSpPr/>
              <p:nvPr/>
            </p:nvSpPr>
            <p:spPr>
              <a:xfrm>
                <a:off x="5830560" y="291780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2"/>
              <p:cNvSpPr/>
              <p:nvPr/>
            </p:nvSpPr>
            <p:spPr>
              <a:xfrm>
                <a:off x="6437520" y="208872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mp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3"/>
              <p:cNvSpPr/>
              <p:nvPr/>
            </p:nvSpPr>
            <p:spPr>
              <a:xfrm>
                <a:off x="3646080" y="2503440"/>
                <a:ext cx="0" cy="138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3524400" y="25034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413172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510264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 flipV="1">
                <a:off x="6437520" y="333216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7044480" y="250344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6194880" y="402300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0"/>
              <p:cNvSpPr/>
              <p:nvPr/>
            </p:nvSpPr>
            <p:spPr>
              <a:xfrm>
                <a:off x="6801480" y="3193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V="1">
                <a:off x="2796840" y="2779560"/>
                <a:ext cx="0" cy="221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2"/>
              <p:cNvSpPr/>
              <p:nvPr/>
            </p:nvSpPr>
            <p:spPr>
              <a:xfrm flipV="1">
                <a:off x="364608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3"/>
              <p:cNvSpPr/>
              <p:nvPr/>
            </p:nvSpPr>
            <p:spPr>
              <a:xfrm>
                <a:off x="2796840" y="4989960"/>
                <a:ext cx="849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V="1">
                <a:off x="473832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5"/>
              <p:cNvSpPr/>
              <p:nvPr/>
            </p:nvSpPr>
            <p:spPr>
              <a:xfrm flipV="1">
                <a:off x="570924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6"/>
              <p:cNvSpPr/>
              <p:nvPr/>
            </p:nvSpPr>
            <p:spPr>
              <a:xfrm>
                <a:off x="4738320" y="4989960"/>
                <a:ext cx="970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 flipV="1">
                <a:off x="3767760" y="4299480"/>
                <a:ext cx="0" cy="1105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6558840" y="3332160"/>
                <a:ext cx="0" cy="207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3767760" y="5404680"/>
                <a:ext cx="279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 flipV="1">
                <a:off x="7165800" y="2503440"/>
                <a:ext cx="0" cy="3315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2675520" y="2779560"/>
                <a:ext cx="0" cy="303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>
                <a:off x="2675520" y="5819040"/>
                <a:ext cx="4490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27259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Relev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47383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icienc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4495680" y="5128200"/>
                <a:ext cx="1334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ective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6"/>
              <p:cNvSpPr/>
              <p:nvPr/>
            </p:nvSpPr>
            <p:spPr>
              <a:xfrm>
                <a:off x="4010400" y="5542920"/>
                <a:ext cx="23058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Utility and Sustainabil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7"/>
            <p:cNvSpPr/>
            <p:nvPr/>
          </p:nvSpPr>
          <p:spPr>
            <a:xfrm>
              <a:off x="1219320" y="1812960"/>
              <a:ext cx="6553080" cy="428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makers as ‘bottleneck analysts and breakers’ in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identify and strengthen weak points across the whole research and innovation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lism is also necessary at the level of sub-systems such as research organisations, in the system is to perform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us NERO should tackle development needs across the research performing sectors – not merely focus on the needs of some over those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not a zero-sum reallocation game like the coffee mill (competition +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a positive-sum development game that that supports learning and improvement (competition + learning + connection to national needs/policy + some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2AC-E2AB-482C-B6E7-EFDAE6C6FA6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4"/>
          <p:cNvSpPr/>
          <p:nvPr/>
        </p:nvSpPr>
        <p:spPr>
          <a:xfrm>
            <a:off x="826920" y="3284640"/>
            <a:ext cx="72741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 development and implementation are at the heart of the new method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4C7-EC02-4836-8E59-93C3D0A1630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8000" y="3645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5636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652356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635280" y="4941720"/>
            <a:ext cx="172872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776040" y="51577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635280" y="1916280"/>
            <a:ext cx="1728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774960" y="213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eft-Right Arrow 12"/>
          <p:cNvSpPr/>
          <p:nvPr/>
        </p:nvSpPr>
        <p:spPr>
          <a:xfrm>
            <a:off x="2987640" y="3645000"/>
            <a:ext cx="2879640" cy="288720"/>
          </a:xfrm>
          <a:prstGeom prst="leftRightArrow">
            <a:avLst>
              <a:gd name="adj1" fmla="val 50000"/>
              <a:gd name="adj2" fmla="val 5005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eft-Right Arrow 13"/>
          <p:cNvSpPr/>
          <p:nvPr/>
        </p:nvSpPr>
        <p:spPr>
          <a:xfrm rot="16200000">
            <a:off x="3563640" y="3644280"/>
            <a:ext cx="1871640" cy="287280"/>
          </a:xfrm>
          <a:prstGeom prst="left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eft-Right Arrow 17"/>
          <p:cNvSpPr/>
          <p:nvPr/>
        </p:nvSpPr>
        <p:spPr>
          <a:xfrm rot="19800000">
            <a:off x="1660320" y="2560320"/>
            <a:ext cx="1861920" cy="35712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eft-Right Arrow 18"/>
          <p:cNvSpPr/>
          <p:nvPr/>
        </p:nvSpPr>
        <p:spPr>
          <a:xfrm rot="19800000">
            <a:off x="5479920" y="47192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eft-Right Arrow 21"/>
          <p:cNvSpPr/>
          <p:nvPr/>
        </p:nvSpPr>
        <p:spPr>
          <a:xfrm rot="1800000">
            <a:off x="1655640" y="47354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22"/>
          <p:cNvSpPr/>
          <p:nvPr/>
        </p:nvSpPr>
        <p:spPr>
          <a:xfrm rot="1800000">
            <a:off x="5471640" y="2575080"/>
            <a:ext cx="1863720" cy="355320"/>
          </a:xfrm>
          <a:prstGeom prst="left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ey princi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olicy objectiv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&amp;D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s = to act as source for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rategic inform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directly inform public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stitutional fun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resea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mprehens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ll dimensions of the research activities and its outputs, outcomes and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t the level of field-defined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esearch U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U) within an Evaluated Unit, i.e. a research organisation or in the case of the public HEI, a facul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ver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ll research organis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 critical size, on a voluntary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process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ormed peer re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ased on a mix of appropriate quantitative and qualitative data to support their professional jud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ir and egalitari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: a single framework for assessment while allowing for a reasonable level of field- and RO typology-specific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nimum possi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and burden to deliver a robust and defensibl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B64-F346-4BA0-ABB6-0DBB7A30C5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3492360" y="2133720"/>
            <a:ext cx="237492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sessment is based on peer judgements, not calc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9C5-66B4-4CC7-A52A-A663683C2747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0800" y="2637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368784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765000" y="3903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bli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64640" y="5084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059280" y="2924280"/>
            <a:ext cx="3217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management and developmen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of the (world)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research excel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et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75640" y="2421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386840" y="2637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U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6875640" y="3645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7173720" y="3860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875640" y="4869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7174440" y="5084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3719880" y="2205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er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>
            <a:stCxn id="256" idx="3"/>
          </p:cNvCxnSpPr>
          <p:nvPr/>
        </p:nvCxnSpPr>
        <p:spPr>
          <a:xfrm>
            <a:off x="2484360" y="2816280"/>
            <a:ext cx="504000" cy="1117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30"/>
          <p:cNvCxnSpPr>
            <a:stCxn id="258" idx="3"/>
            <a:endCxn id="262" idx="1"/>
          </p:cNvCxnSpPr>
          <p:nvPr/>
        </p:nvCxnSpPr>
        <p:spPr>
          <a:xfrm flipV="1">
            <a:off x="2484000" y="4079160"/>
            <a:ext cx="575640" cy="3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2" name="Straight Arrow Connector 33"/>
          <p:cNvCxnSpPr>
            <a:stCxn id="260" idx="3"/>
          </p:cNvCxnSpPr>
          <p:nvPr/>
        </p:nvCxnSpPr>
        <p:spPr>
          <a:xfrm flipV="1">
            <a:off x="2484360" y="4291920"/>
            <a:ext cx="504000" cy="973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3" name="Straight Arrow Connector 34"/>
          <p:cNvCxnSpPr/>
          <p:nvPr/>
        </p:nvCxnSpPr>
        <p:spPr>
          <a:xfrm flipV="1">
            <a:off x="6300360" y="4075920"/>
            <a:ext cx="575640" cy="5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35"/>
          <p:cNvCxnSpPr/>
          <p:nvPr/>
        </p:nvCxnSpPr>
        <p:spPr>
          <a:xfrm flipV="1">
            <a:off x="6300720" y="2851920"/>
            <a:ext cx="504000" cy="97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5" name="Straight Arrow Connector 36"/>
          <p:cNvCxnSpPr/>
          <p:nvPr/>
        </p:nvCxnSpPr>
        <p:spPr>
          <a:xfrm>
            <a:off x="6300720" y="4292640"/>
            <a:ext cx="504000" cy="111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me of what the ‘users’ ge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630520"/>
          <a:ext cx="8229600" cy="23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U/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icym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H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ing at nation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s of goo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al R&amp;D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ies for performanc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 with RDI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D83-7F87-431D-88F5-A86567B1E575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Erik Arnold</cp:lastModifiedBy>
  <dcterms:modified xsi:type="dcterms:W3CDTF">2015-06-25T17:58:06Z</dcterms:modified>
  <cp:revision>126</cp:revision>
  <dc:subject/>
  <dc:title>nadpis</dc:title>
</cp:coreProperties>
</file>