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FEC63-0FCF-44F2-99A4-D00E1A112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E7530-812B-481E-B255-33B8DB7F7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59687-FEC2-488D-824A-41B94C8A8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A4E72-9A29-4B26-8D33-0B13F361E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33EB5-9768-4049-B02C-0DBD8C7E3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393CF-7B79-4CDC-9967-A46498540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EC974-3AE0-42C9-87DA-20923C5FA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B3DD2-BB29-4309-991D-E60F3F1EE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0B826-AA54-49EE-9E47-731D8BDC3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6543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770B5-FA1A-42CB-A22B-83248A2BC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B97B7-A362-4D01-A205-8F174B287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B998E-3947-4FB5-9783-BFF8283B9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7C9B5-81BB-4BAA-B89E-A11403391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E74F3-6BA8-4B46-AFF5-3F9D47D99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A70ED-F498-4FF1-8408-E86DEE14E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820CE-C898-4320-80E8-C3E37EC94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756EE-83F9-4506-BA3B-8C54998EF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2DE450B-7B9A-4025-B80A-5062A49DC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44923EB-F3D8-42A6-8C07-78E9F23F5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E1F02EC-97AD-4D56-A9D0-06B0EEA27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9338EAA-D160-4E66-A148-4B53D9FAE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05D412A-1618-4A96-B6AA-4C6FF7FB2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E73E7-C7BC-4228-8A55-5F8EE2B85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6543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F33ECB1-C8D2-437C-973F-87B1EE49A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FF5C45F-67C4-4D7F-BE14-9B9F2B351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C1A9419-8170-4038-AF73-2ECB723AC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71B1E46-52F0-49B7-8BC1-E65C1E64C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A17F3A4-69A4-4817-A050-4FD003DAB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CC2C0DA-07A8-4BD6-A05C-AA63D0B8C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5D8C842-EA61-4620-A447-9E8F5856C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D8881-854D-4A43-AFA3-6A071F30D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C6D46-DBCA-4DFE-820F-9BAA80D27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6543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03002-F1EE-4115-8310-A39BD4F0E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30FC6-C5B8-42B6-811B-5C7E7FBC8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069BB-0471-49FE-9F90-237609797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F2C2D-241C-4FFE-A029-C24B84387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c30039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25aae1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7db03d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E5B31-E024-45AA-B570-EBCAB2AFBDCE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8D30C-22A4-4118-B27C-E578A07C94C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F7259-F44E-4360-A27B-3B8434CA316C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C3552-4F29-40E6-B265-E747E31D8A3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Obrázek 6" descr=""/>
          <p:cNvPicPr/>
          <p:nvPr/>
        </p:nvPicPr>
        <p:blipFill>
          <a:blip r:embed="rId2"/>
          <a:stretch/>
        </p:blipFill>
        <p:spPr>
          <a:xfrm>
            <a:off x="-3240" y="0"/>
            <a:ext cx="915048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c30039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25aae1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7db03d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Num" idx="7"/>
          </p:nvPr>
        </p:nvSpPr>
        <p:spPr>
          <a:xfrm>
            <a:off x="7786440" y="6286680"/>
            <a:ext cx="785880" cy="4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63AEA-F04C-471A-8CE7-36FE5E2D884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5951B-9848-4D88-8C8D-B21EFE067986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metodika.reformy-msmt.cz/?utm_source=Prezentace&amp;utm_medium=Soubory&amp;utm_campaign=prez_metodika" TargetMode="External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metodika.reformy-msmt.cz/" TargetMode="External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Obrázek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4067280" y="836280"/>
            <a:ext cx="4897440" cy="417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IPN Metodika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stav ke konci řešení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  <a:ea typeface="Tahoma"/>
              </a:rPr>
              <a:t>Jitka Moravcová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ovéPole 7"/>
          <p:cNvSpPr/>
          <p:nvPr/>
        </p:nvSpPr>
        <p:spPr>
          <a:xfrm>
            <a:off x="1131840" y="6300720"/>
            <a:ext cx="37861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c30039"/>
                </a:solidFill>
                <a:uFillTx/>
                <a:latin typeface="Candara"/>
                <a:ea typeface="Arial"/>
                <a:hlinkClick r:id="rId2"/>
              </a:rPr>
              <a:t>www.metodika.reformy-msmt.c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2"/>
          <p:cNvSpPr/>
          <p:nvPr/>
        </p:nvSpPr>
        <p:spPr>
          <a:xfrm>
            <a:off x="1154160" y="573264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  <a:ea typeface="Arial"/>
              </a:rPr>
              <a:t>RVV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  <a:ea typeface="Arial"/>
              </a:rPr>
              <a:t>26.6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.201</a:t>
            </a:r>
            <a:r>
              <a:rPr b="1" lang="cs-CZ" sz="2000" spc="-1" strike="noStrike">
                <a:solidFill>
                  <a:srgbClr val="000000"/>
                </a:solidFill>
                <a:latin typeface="Calibri"/>
                <a:ea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  <a:ea typeface="Arial"/>
              </a:rPr>
              <a:t>Nejčastější námitk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Zástupný symbol pro číslo snímku 3"/>
          <p:cNvSpPr/>
          <p:nvPr/>
        </p:nvSpPr>
        <p:spPr>
          <a:xfrm>
            <a:off x="7790040" y="6286680"/>
            <a:ext cx="78552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B69A3-FE60-451B-BC1E-A6AE7FB99D9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traight Connector 2"/>
          <p:cNvSpPr/>
          <p:nvPr/>
        </p:nvSpPr>
        <p:spPr>
          <a:xfrm>
            <a:off x="608040" y="1125360"/>
            <a:ext cx="6843600" cy="0"/>
          </a:xfrm>
          <a:prstGeom prst="line">
            <a:avLst/>
          </a:prstGeom>
          <a:ln w="316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2372040" y="1125360"/>
            <a:ext cx="442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Calibri"/>
              </a:rPr>
              <a:t>Hodnocení bude příliš drahé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ovéPole 5"/>
          <p:cNvSpPr/>
          <p:nvPr/>
        </p:nvSpPr>
        <p:spPr>
          <a:xfrm>
            <a:off x="620280" y="1622520"/>
            <a:ext cx="6630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0000"/>
                </a:solidFill>
                <a:latin typeface="Calibri"/>
              </a:rPr>
              <a:t>2011 – 4 užitné vz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Calibri"/>
              </a:rPr>
              <a:t>Palivo na bázi zbytků z čaj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Calibri"/>
              </a:rPr>
              <a:t>Palivo na bázi zbytků z káv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Calibri"/>
              </a:rPr>
              <a:t>Palivo na bázi zbytků z řezu bobulovi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Calibri"/>
              </a:rPr>
              <a:t>Palivová briketa na bázi zbytků z gastronom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0000"/>
                </a:solidFill>
                <a:latin typeface="Calibri"/>
              </a:rPr>
              <a:t>2012 – 23 užitných vzorů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Calibri"/>
              </a:rPr>
              <a:t>Palivo na bázi pseudoobilovi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Calibri"/>
              </a:rPr>
              <a:t>Palivo na bázi zbytků z řezu ovocných stromů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Calibri"/>
              </a:rPr>
              <a:t>Palivo vyrobené z obilovi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Calibri"/>
              </a:rPr>
              <a:t>Palivo vyrobené z odpadu vznikajícího při zpracování bavln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Calibri"/>
              </a:rPr>
              <a:t>Palivo vyrobené z odpadu vzniklého při výrobě alkoholických nápojů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Calibri"/>
              </a:rPr>
              <a:t>Palivo vyrobené z odpadu vzniklého z vyplozených substrátů z pěstování hub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Calibri"/>
              </a:rPr>
              <a:t>Palivo vyrobené z palic kukuřic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Calibri"/>
              </a:rPr>
              <a:t>Palivo vyrobené ze spalitelných zahradních zbytků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Calibri"/>
              </a:rPr>
              <a:t>Palivo vyrobené ze stabilizované biomasy s využitím gastroodpadů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Calibri"/>
              </a:rPr>
              <a:t>Palivo vyrobené ze stabilizované biomasy s využitím kostí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Calibri"/>
              </a:rPr>
              <a:t>Palivo vyrobené ze stabilizované biomasy s využitím odpadu z výroby papíru a celulóz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Calibri"/>
              </a:rPr>
              <a:t>Palivo vytvořené z kork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Calibri"/>
              </a:rPr>
              <a:t>Palivo vytvořené z kůry jehličnanů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Calibri"/>
              </a:rPr>
              <a:t>Palivo vytvořené z kůry listnatých stromů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Calibri"/>
              </a:rPr>
              <a:t>Palivo vytvořené z máku setéh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Calibri"/>
              </a:rPr>
              <a:t>Palivo vytvořené z obilov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Calibri"/>
              </a:rPr>
              <a:t>Palivo vyrobené z odpadu vznikajícího při zpracování bavln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Calibri"/>
              </a:rPr>
              <a:t>Palivo vyrobené z odpadu vzniklého při výrobě alkoholických nápojů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  <a:ea typeface="Arial"/>
              </a:rPr>
              <a:t>Nejčastější námitk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Zástupný symbol pro číslo snímku 3"/>
          <p:cNvSpPr/>
          <p:nvPr/>
        </p:nvSpPr>
        <p:spPr>
          <a:xfrm>
            <a:off x="7790040" y="6286680"/>
            <a:ext cx="78552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A0022-3FF9-4E4F-BB1B-97E73E7A687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Straight Connector 2"/>
          <p:cNvSpPr/>
          <p:nvPr/>
        </p:nvSpPr>
        <p:spPr>
          <a:xfrm>
            <a:off x="608040" y="1125360"/>
            <a:ext cx="6843600" cy="0"/>
          </a:xfrm>
          <a:prstGeom prst="line">
            <a:avLst/>
          </a:prstGeom>
          <a:ln w="316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7"/>
          <p:cNvSpPr/>
          <p:nvPr/>
        </p:nvSpPr>
        <p:spPr>
          <a:xfrm>
            <a:off x="2372040" y="1125360"/>
            <a:ext cx="442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Calibri"/>
              </a:rPr>
              <a:t>Hodnocení bude příliš drahé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ovéPole 5"/>
          <p:cNvSpPr/>
          <p:nvPr/>
        </p:nvSpPr>
        <p:spPr>
          <a:xfrm>
            <a:off x="625680" y="1631880"/>
            <a:ext cx="5706720" cy="48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Calibri"/>
              </a:rPr>
              <a:t>Palivo vyrobené z odpadu vzniklého z vyplozených substrátů z pěstování hub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Calibri"/>
              </a:rPr>
              <a:t>Palivo vyrobené z palic kukuři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Calibri"/>
              </a:rPr>
              <a:t>Palivo vyrobené ze spalitelných zahradních zbytků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Calibri"/>
              </a:rPr>
              <a:t>Palivo vyrobené ze stabilizované biomasy s využitím gastroodpadů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Calibri"/>
              </a:rPr>
              <a:t>Palivo vyrobené ze stabilizované biomasy s využitím kostí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Calibri"/>
              </a:rPr>
              <a:t>Palivo vyrobené ze stabilizované biomasy s využitím odpadu z výroby papíru a celulóz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Calibri"/>
              </a:rPr>
              <a:t>Palivo vytvořené z korku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Calibri"/>
              </a:rPr>
              <a:t>Palivo vytvořené z kůry jehličnanů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Calibri"/>
              </a:rPr>
              <a:t>Palivo vytvořené z kůry listnatých stromů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Calibri"/>
              </a:rPr>
              <a:t>Palivo vytvořené z máku setéh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Calibri"/>
              </a:rPr>
              <a:t>Palivo vytvořené z obilov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Calibri"/>
              </a:rPr>
              <a:t>Palivo vytvořené ze šišek jehličnanů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Calibri"/>
              </a:rPr>
              <a:t>Palivo z kůry listnatých stromů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Calibri"/>
              </a:rPr>
              <a:t>Palivová briketa z kukuři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Calibri"/>
              </a:rPr>
              <a:t>Palivová briketa z kůry jehličnanů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Calibri"/>
              </a:rPr>
              <a:t>Palivová briketa z listů listnatých stromů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Calibri"/>
              </a:rPr>
              <a:t>Palivová briketa z obilov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Calibri"/>
              </a:rPr>
              <a:t>Palivová briketa ze šišek jehličnanů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Calibri"/>
              </a:rPr>
              <a:t>Palivová peleta ze spalitelných zahradních zbytků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ff0000"/>
                </a:solidFill>
                <a:latin typeface="Calibri"/>
              </a:rPr>
              <a:t>2013 – 6 užitných vzor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Calibri"/>
              </a:rPr>
              <a:t>Palivo vyrobené z kej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Calibri"/>
              </a:rPr>
              <a:t>Palivo vyrobené z odpadu vznikajícího při čištění a zpracování obilov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Calibri"/>
              </a:rPr>
              <a:t>Palivo vyrobené z odpadu vznikajícího při lisování olejnatých sem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Calibri"/>
              </a:rPr>
              <a:t>Palivo vyrobené z odpadu vzniklého v textilním průmysl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Calibri"/>
              </a:rPr>
              <a:t>Palivo vyrobené z odpadu vzniklého z mlýnských a pekárenských výrobk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Calibri"/>
              </a:rPr>
              <a:t>Palivo vyrobené z pokrut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ovéPole 4"/>
          <p:cNvSpPr/>
          <p:nvPr/>
        </p:nvSpPr>
        <p:spPr>
          <a:xfrm>
            <a:off x="4441320" y="3141720"/>
            <a:ext cx="36507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Calibri"/>
              </a:rPr>
              <a:t>2011, 4 užitné vz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Calibri"/>
              </a:rPr>
              <a:t>2012, 32 užitných vzor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Calibri"/>
              </a:rPr>
              <a:t>2013, 6 užitných vzor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  <a:ea typeface="Arial"/>
              </a:rPr>
              <a:t>Nejčastější námitk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Zástupný symbol pro číslo snímku 3"/>
          <p:cNvSpPr/>
          <p:nvPr/>
        </p:nvSpPr>
        <p:spPr>
          <a:xfrm>
            <a:off x="7790040" y="6286680"/>
            <a:ext cx="78552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1BE1E-F7D3-40A8-A7DB-DF4F8BFE964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traight Connector 2"/>
          <p:cNvSpPr/>
          <p:nvPr/>
        </p:nvSpPr>
        <p:spPr>
          <a:xfrm>
            <a:off x="608040" y="1125360"/>
            <a:ext cx="6843600" cy="0"/>
          </a:xfrm>
          <a:prstGeom prst="line">
            <a:avLst/>
          </a:prstGeom>
          <a:ln w="316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7"/>
          <p:cNvSpPr/>
          <p:nvPr/>
        </p:nvSpPr>
        <p:spPr>
          <a:xfrm>
            <a:off x="885240" y="1125360"/>
            <a:ext cx="732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Calibri"/>
              </a:rPr>
              <a:t>Hodnocení nepřinese žádnou přidanou hodnot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8"/>
          <p:cNvSpPr/>
          <p:nvPr/>
        </p:nvSpPr>
        <p:spPr>
          <a:xfrm>
            <a:off x="290520" y="1557360"/>
            <a:ext cx="84978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alibri"/>
              </a:rPr>
              <a:t>Důsledkem našich minulých i stávající Metodiky je obecné povědomí, že každý výsledek musí být oceněn institucionální podporou (IP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alibri"/>
              </a:rPr>
              <a:t>každá VO má vlastně na IP „nárok“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alibri"/>
              </a:rPr>
              <a:t>hodnocení bylo pouhým přepočtem bodů na peníz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alibri"/>
              </a:rPr>
              <a:t>nevýhoda metrik: rezignace na hodnocení kval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Group 10"/>
          <p:cNvGrpSpPr/>
          <p:nvPr/>
        </p:nvGrpSpPr>
        <p:grpSpPr>
          <a:xfrm>
            <a:off x="577800" y="3673440"/>
            <a:ext cx="8077320" cy="1771560"/>
            <a:chOff x="577800" y="3673440"/>
            <a:chExt cx="8077320" cy="1771560"/>
          </a:xfrm>
        </p:grpSpPr>
        <p:pic>
          <p:nvPicPr>
            <p:cNvPr id="184" name="Picture 6" descr=""/>
            <p:cNvPicPr/>
            <p:nvPr/>
          </p:nvPicPr>
          <p:blipFill>
            <a:blip r:embed="rId1"/>
            <a:stretch/>
          </p:blipFill>
          <p:spPr>
            <a:xfrm>
              <a:off x="577800" y="3682800"/>
              <a:ext cx="1200240" cy="175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7" descr=""/>
            <p:cNvPicPr/>
            <p:nvPr/>
          </p:nvPicPr>
          <p:blipFill>
            <a:blip r:embed="rId2"/>
            <a:stretch/>
          </p:blipFill>
          <p:spPr>
            <a:xfrm>
              <a:off x="1805400" y="3821040"/>
              <a:ext cx="1238400" cy="147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8" descr=""/>
            <p:cNvPicPr/>
            <p:nvPr/>
          </p:nvPicPr>
          <p:blipFill>
            <a:blip r:embed="rId3"/>
            <a:stretch/>
          </p:blipFill>
          <p:spPr>
            <a:xfrm>
              <a:off x="3087000" y="3716280"/>
              <a:ext cx="1228680" cy="16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7" name="Picture 9" descr=""/>
            <p:cNvPicPr/>
            <p:nvPr/>
          </p:nvPicPr>
          <p:blipFill>
            <a:blip r:embed="rId4"/>
            <a:stretch/>
          </p:blipFill>
          <p:spPr>
            <a:xfrm>
              <a:off x="4364280" y="3673440"/>
              <a:ext cx="1209600" cy="1771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" name="Picture 10" descr=""/>
            <p:cNvPicPr/>
            <p:nvPr/>
          </p:nvPicPr>
          <p:blipFill>
            <a:blip r:embed="rId5"/>
            <a:stretch/>
          </p:blipFill>
          <p:spPr>
            <a:xfrm>
              <a:off x="5637240" y="3692160"/>
              <a:ext cx="1019160" cy="173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9" name="Picture 11" descr=""/>
            <p:cNvPicPr/>
            <p:nvPr/>
          </p:nvPicPr>
          <p:blipFill>
            <a:blip r:embed="rId6"/>
            <a:stretch/>
          </p:blipFill>
          <p:spPr>
            <a:xfrm>
              <a:off x="6703920" y="3782880"/>
              <a:ext cx="857160" cy="1552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0" name="Picture 12" descr=""/>
            <p:cNvPicPr/>
            <p:nvPr/>
          </p:nvPicPr>
          <p:blipFill>
            <a:blip r:embed="rId7"/>
            <a:stretch/>
          </p:blipFill>
          <p:spPr>
            <a:xfrm>
              <a:off x="7607520" y="3720960"/>
              <a:ext cx="1047600" cy="1676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1" name="Rectangle 18"/>
          <p:cNvSpPr/>
          <p:nvPr/>
        </p:nvSpPr>
        <p:spPr>
          <a:xfrm>
            <a:off x="174600" y="5438880"/>
            <a:ext cx="8785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alibri"/>
                <a:ea typeface="Arial"/>
              </a:rPr>
              <a:t>7 užitných vzorů uplatněných v roce 2010 vyneslo v roce 201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cs-CZ" sz="2200" spc="-1" strike="noStrike">
                <a:solidFill>
                  <a:srgbClr val="ff0000"/>
                </a:solidFill>
                <a:latin typeface="Calibri"/>
                <a:ea typeface="Arial"/>
              </a:rPr>
              <a:t>IP 400 000 Kč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alibri"/>
                <a:ea typeface="Arial"/>
              </a:rPr>
              <a:t>Variabilní stropní svítidl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alibri"/>
                <a:ea typeface="Arial"/>
              </a:rPr>
              <a:t>Metodika 2013 už užitné vzory nezahrnuj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  <a:ea typeface="Arial"/>
              </a:rPr>
              <a:t>Nejčastější námitk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7790040" y="6286680"/>
            <a:ext cx="78552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DB42C-C50B-4CBD-A748-E7D80E614D4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Straight Connector 2"/>
          <p:cNvSpPr/>
          <p:nvPr/>
        </p:nvSpPr>
        <p:spPr>
          <a:xfrm>
            <a:off x="608040" y="1125360"/>
            <a:ext cx="6843600" cy="0"/>
          </a:xfrm>
          <a:prstGeom prst="line">
            <a:avLst/>
          </a:prstGeom>
          <a:ln w="316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7"/>
          <p:cNvSpPr/>
          <p:nvPr/>
        </p:nvSpPr>
        <p:spPr>
          <a:xfrm>
            <a:off x="885240" y="1125360"/>
            <a:ext cx="732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Calibri"/>
              </a:rPr>
              <a:t>Hodnocení nepřinese žádnou přidanou hodnot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>
            <a:off x="322200" y="1631880"/>
            <a:ext cx="8497800" cy="49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Příklad Portugalska, strategická restrukturalizace VO v roce 2013 (peer-review hodnocení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Hodnoceno 322 VO (30 880 výzkumníků) za období 2008-2012 a strategii na 2015-20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7 hlavních panel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1. fáze (vyřazovací): dobrý, průměrný, špatn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178 VO (55 %) do fáze 2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81 VO (25 %) nepostoupilo, jen 80 % 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62 VO (20 %), nedostalo 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2. fáze: výjimečný, excelentní, velmi dobrý (strategické financování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Hodnocení v 5 dimenzích: Productivity,  Sci and technol merit, Relevance, Feasibility of the work plan, Impact of outpu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Angličtina, jen název a abstrakt v portugalštin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VO si samy navrhovaly výši institucionální podp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  <a:ea typeface="Arial"/>
              </a:rPr>
              <a:t>Nejčastější námitk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Zástupný symbol pro číslo snímku 3"/>
          <p:cNvSpPr/>
          <p:nvPr/>
        </p:nvSpPr>
        <p:spPr>
          <a:xfrm>
            <a:off x="7790040" y="6286680"/>
            <a:ext cx="78552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491AE-F135-4E80-906F-9C648BD255D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Straight Connector 2"/>
          <p:cNvSpPr/>
          <p:nvPr/>
        </p:nvSpPr>
        <p:spPr>
          <a:xfrm>
            <a:off x="608040" y="1125360"/>
            <a:ext cx="6843600" cy="0"/>
          </a:xfrm>
          <a:prstGeom prst="line">
            <a:avLst/>
          </a:prstGeom>
          <a:ln w="316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7"/>
          <p:cNvSpPr/>
          <p:nvPr/>
        </p:nvSpPr>
        <p:spPr>
          <a:xfrm>
            <a:off x="2081520" y="1125360"/>
            <a:ext cx="496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Calibri"/>
              </a:rPr>
              <a:t>Hodnocení bude zkorumpované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6"/>
          <p:cNvSpPr/>
          <p:nvPr/>
        </p:nvSpPr>
        <p:spPr>
          <a:xfrm>
            <a:off x="307800" y="1622520"/>
            <a:ext cx="849816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Peer-review je subjektivní pro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Zahraniční hodnotitelé bez vazby na Č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Zveřejnění složení oborových panel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Kombinace: bibliometrie + indikátory + posouzení pane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Jasná pravidla pro práci oborových panelů (hodnotí) a hlavních panelů (dohlíží, koncipují doporučení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Účast českých zástupců v hlavních panelech a konzultantů pro v oborových panele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Kalibr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MŠMT má dobrou zkušenost s peer-review hodnocením výzkumných infrastrukt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AV ČR má zkušenost s peer-review hodnocení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Zkušenosti KHV a RVVI z Metodiky 2013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Zkušenosti z pilotních ověř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  <a:ea typeface="Arial"/>
              </a:rPr>
              <a:t>Cesta k NER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Zástupný symbol pro číslo snímku 3"/>
          <p:cNvSpPr/>
          <p:nvPr/>
        </p:nvSpPr>
        <p:spPr>
          <a:xfrm>
            <a:off x="7790040" y="6286680"/>
            <a:ext cx="78552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48B55-9EF2-4D8D-8452-8B5B71C7542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Straight Connector 2"/>
          <p:cNvSpPr/>
          <p:nvPr/>
        </p:nvSpPr>
        <p:spPr>
          <a:xfrm>
            <a:off x="608040" y="1125360"/>
            <a:ext cx="6843600" cy="0"/>
          </a:xfrm>
          <a:prstGeom prst="line">
            <a:avLst/>
          </a:prstGeom>
          <a:ln w="316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5"/>
          <p:cNvSpPr/>
          <p:nvPr/>
        </p:nvSpPr>
        <p:spPr>
          <a:xfrm>
            <a:off x="538200" y="1341360"/>
            <a:ext cx="84978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Calibri"/>
              </a:rPr>
              <a:t>Zkušenosti z veřejného projednávání dokument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Ne-seznámení se s materiá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Ne-odůvodněnost připomín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Ne-znal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Ne-záj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Ne-nadh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Ne-akceptování jiného názor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Zástupný symbol pro číslo snímku 3"/>
          <p:cNvSpPr/>
          <p:nvPr/>
        </p:nvSpPr>
        <p:spPr>
          <a:xfrm>
            <a:off x="7790040" y="6286680"/>
            <a:ext cx="78552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DEDC5-3341-4E48-96D0-859890A67F3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Straight Connector 2"/>
          <p:cNvSpPr/>
          <p:nvPr/>
        </p:nvSpPr>
        <p:spPr>
          <a:xfrm>
            <a:off x="608040" y="1125360"/>
            <a:ext cx="6843600" cy="0"/>
          </a:xfrm>
          <a:prstGeom prst="line">
            <a:avLst/>
          </a:prstGeom>
          <a:ln w="316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29920" y="18864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  <a:ea typeface="Arial"/>
              </a:rPr>
              <a:t>Cesta k NERO (?)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5"/>
          <p:cNvSpPr/>
          <p:nvPr/>
        </p:nvSpPr>
        <p:spPr>
          <a:xfrm>
            <a:off x="307800" y="1414440"/>
            <a:ext cx="8498160" cy="397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National Evaluation of Research Organisations (NER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Hodnocení 2016 podle (upravené?) Metodiky 20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Legislativní změny, 2016 – 2017 (pokud budou nutné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Personální zajištění, 2016 - 20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Realizace NERO, 20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Institucionální financování, 2019 (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Role RVVI a KH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Politické rozhodnutí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29920" y="18864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  <a:ea typeface="Arial"/>
              </a:rPr>
              <a:t>Pilotní ověření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7790040" y="6286680"/>
            <a:ext cx="78552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7E79C-9284-4255-9264-67149089A45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traight Connector 2"/>
          <p:cNvSpPr/>
          <p:nvPr/>
        </p:nvSpPr>
        <p:spPr>
          <a:xfrm>
            <a:off x="608040" y="1125360"/>
            <a:ext cx="6843600" cy="0"/>
          </a:xfrm>
          <a:prstGeom prst="line">
            <a:avLst/>
          </a:prstGeom>
          <a:ln w="316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14"/>
          <p:cNvSpPr/>
          <p:nvPr/>
        </p:nvSpPr>
        <p:spPr>
          <a:xfrm>
            <a:off x="307800" y="1268280"/>
            <a:ext cx="849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Harmon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641520" y="1844640"/>
            <a:ext cx="79200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>
              <a:lnSpc>
                <a:spcPct val="100000"/>
              </a:lnSpc>
              <a:buClr>
                <a:srgbClr val="4f81bd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10.2.2015 pracovní seminář s vybranými 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buClr>
                <a:srgbClr val="4f81bd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on-line administrativní a podpůrný systém APS, helpde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buClr>
                <a:srgbClr val="4f81bd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kontrola seznamu výzkumníků v HJ, </a:t>
            </a:r>
            <a:r>
              <a:rPr b="1" lang="cs-CZ" sz="2000" spc="-1" strike="noStrike">
                <a:solidFill>
                  <a:srgbClr val="ff0000"/>
                </a:solidFill>
                <a:latin typeface="Calibri"/>
              </a:rPr>
              <a:t>do 1. břez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buClr>
                <a:srgbClr val="4f81bd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kontrola výstupů výzkumníků v HJ, </a:t>
            </a:r>
            <a:r>
              <a:rPr b="1" lang="cs-CZ" sz="2000" spc="-1" strike="noStrike">
                <a:solidFill>
                  <a:srgbClr val="ff0000"/>
                </a:solidFill>
                <a:latin typeface="Calibri"/>
              </a:rPr>
              <a:t>do 1. břez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buClr>
                <a:srgbClr val="4f81bd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rozdělení výzkumníků do RU, přihlášení se, </a:t>
            </a:r>
            <a:r>
              <a:rPr b="1" lang="cs-CZ" sz="2000" spc="-1" strike="noStrike">
                <a:solidFill>
                  <a:srgbClr val="ff0000"/>
                </a:solidFill>
                <a:latin typeface="Calibri"/>
              </a:rPr>
              <a:t>do 15. břez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buClr>
                <a:srgbClr val="4f81bd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vybrat excelentní výsledky, </a:t>
            </a:r>
            <a:r>
              <a:rPr b="1" lang="cs-CZ" sz="2000" spc="-1" strike="noStrike">
                <a:solidFill>
                  <a:srgbClr val="ff0000"/>
                </a:solidFill>
                <a:latin typeface="Calibri"/>
              </a:rPr>
              <a:t>do</a:t>
            </a: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2000" spc="-1" strike="noStrike">
                <a:solidFill>
                  <a:srgbClr val="ff0000"/>
                </a:solidFill>
                <a:latin typeface="Calibri"/>
              </a:rPr>
              <a:t>15. břez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buClr>
                <a:srgbClr val="4f81bd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vypracovat sebehodnotící zprávu, </a:t>
            </a:r>
            <a:r>
              <a:rPr b="1" lang="cs-CZ" sz="2000" spc="-1" strike="noStrike">
                <a:solidFill>
                  <a:srgbClr val="ff0000"/>
                </a:solidFill>
                <a:latin typeface="Calibri"/>
              </a:rPr>
              <a:t>do</a:t>
            </a: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2000" spc="-1" strike="noStrike">
                <a:solidFill>
                  <a:srgbClr val="ff0000"/>
                </a:solidFill>
                <a:latin typeface="Calibri"/>
              </a:rPr>
              <a:t>30. dub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buClr>
                <a:srgbClr val="4f81bd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přijmout expertní panel pro prezenční návštěvu HJ, </a:t>
            </a:r>
            <a:r>
              <a:rPr b="1" lang="cs-CZ" sz="2000" spc="-1" strike="noStrike">
                <a:solidFill>
                  <a:srgbClr val="ff0000"/>
                </a:solidFill>
                <a:latin typeface="Calibri"/>
              </a:rPr>
              <a:t>do konce červ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buClr>
                <a:srgbClr val="4f81bd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vypracovat komentář k hodnotící zprávě, </a:t>
            </a:r>
            <a:r>
              <a:rPr b="1" lang="cs-CZ" sz="2000" spc="-1" strike="noStrike">
                <a:solidFill>
                  <a:srgbClr val="ff0000"/>
                </a:solidFill>
                <a:latin typeface="Calibri"/>
              </a:rPr>
              <a:t>konec zář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Zástupný symbol pro číslo snímku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D9D7E-4A2E-4789-8306-CBEE5ABA28C1}" type="slidenum">
              <a:rPr b="0" lang="cs-CZ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Obrázek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7" name="TextovéPole 7"/>
          <p:cNvSpPr/>
          <p:nvPr/>
        </p:nvSpPr>
        <p:spPr>
          <a:xfrm>
            <a:off x="720720" y="6084360"/>
            <a:ext cx="378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c30039"/>
                </a:solidFill>
                <a:uFillTx/>
                <a:latin typeface="Arial"/>
                <a:ea typeface="Arial"/>
                <a:hlinkClick r:id="rId2"/>
              </a:rPr>
              <a:t>www.metodika.reformy-msmt.c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Obdélník 6"/>
          <p:cNvSpPr/>
          <p:nvPr/>
        </p:nvSpPr>
        <p:spPr>
          <a:xfrm>
            <a:off x="1835280" y="4437000"/>
            <a:ext cx="64008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Aft>
                <a:spcPts val="1400"/>
              </a:spcAft>
              <a:tabLst>
                <a:tab algn="l" pos="0"/>
                <a:tab algn="l" pos="1244520"/>
                <a:tab algn="l" pos="2489040"/>
                <a:tab algn="l" pos="3733920"/>
                <a:tab algn="l" pos="4978440"/>
                <a:tab algn="l" pos="6222960"/>
                <a:tab algn="l" pos="7467480"/>
                <a:tab algn="l" pos="8712360"/>
                <a:tab algn="l" pos="995688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Bez kvalitního hodnocení nebude kvalitní a efektivní říz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  <a:ea typeface="Arial"/>
              </a:rPr>
              <a:t>Obsah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Zástupný symbol pro číslo snímku 3"/>
          <p:cNvSpPr/>
          <p:nvPr/>
        </p:nvSpPr>
        <p:spPr>
          <a:xfrm>
            <a:off x="7790040" y="6286680"/>
            <a:ext cx="78552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87EE4-0333-4633-8D7F-B3ACE98DD5C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traight Connector 2"/>
          <p:cNvSpPr/>
          <p:nvPr/>
        </p:nvSpPr>
        <p:spPr>
          <a:xfrm>
            <a:off x="608040" y="1125360"/>
            <a:ext cx="6843600" cy="0"/>
          </a:xfrm>
          <a:prstGeom prst="line">
            <a:avLst/>
          </a:prstGeom>
          <a:ln w="316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5"/>
          <p:cNvSpPr/>
          <p:nvPr/>
        </p:nvSpPr>
        <p:spPr>
          <a:xfrm>
            <a:off x="314280" y="1646280"/>
            <a:ext cx="8496360" cy="13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Druhé pilotní ověř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Nejčastější námit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Cesta k NERO (National Evaluation of Research Organisation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  <a:ea typeface="Arial"/>
              </a:rPr>
              <a:t>Veřejná zakázka - Technopoli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Zástupný symbol pro číslo snímku 3"/>
          <p:cNvSpPr/>
          <p:nvPr/>
        </p:nvSpPr>
        <p:spPr>
          <a:xfrm>
            <a:off x="7790040" y="6286680"/>
            <a:ext cx="78552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5382A-EEE9-4805-8728-FB3CDAF7609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Straight Connector 2"/>
          <p:cNvSpPr/>
          <p:nvPr/>
        </p:nvSpPr>
        <p:spPr>
          <a:xfrm>
            <a:off x="608040" y="1125360"/>
            <a:ext cx="6843600" cy="0"/>
          </a:xfrm>
          <a:prstGeom prst="line">
            <a:avLst/>
          </a:prstGeom>
          <a:ln w="316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7"/>
          <p:cNvSpPr/>
          <p:nvPr/>
        </p:nvSpPr>
        <p:spPr>
          <a:xfrm>
            <a:off x="520560" y="1268280"/>
            <a:ext cx="8067960" cy="52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31.5.2015 skonči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Plnění zakázky bylo v souladu se smlouvo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Všechny dílčí a závěrečná zpráva byly MŠMT přija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1. DZ – Hodnocení výzkumných organizac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2. DZ – Institucionální financová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3. DZ – Malé pilotní ověř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Závěrečná zpráva: Summary Report + přílo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Pomoc při pilotním ověření realizovaném tým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Konzultace road 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Jednání s nám. Marksem, seminář pro ČKR, vystoupení na RVV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  <a:ea typeface="Arial"/>
              </a:rPr>
              <a:t>Druhé pilotní ověření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Zástupný symbol pro číslo snímku 3"/>
          <p:cNvSpPr/>
          <p:nvPr/>
        </p:nvSpPr>
        <p:spPr>
          <a:xfrm>
            <a:off x="7790040" y="6286680"/>
            <a:ext cx="78552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CAD92-39EC-48AD-86A7-F9E037D2EF7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traight Connector 2"/>
          <p:cNvSpPr/>
          <p:nvPr/>
        </p:nvSpPr>
        <p:spPr>
          <a:xfrm>
            <a:off x="608040" y="1125360"/>
            <a:ext cx="6843600" cy="0"/>
          </a:xfrm>
          <a:prstGeom prst="line">
            <a:avLst/>
          </a:prstGeom>
          <a:ln w="316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4"/>
          <p:cNvSpPr/>
          <p:nvPr/>
        </p:nvSpPr>
        <p:spPr>
          <a:xfrm>
            <a:off x="520560" y="1585800"/>
            <a:ext cx="8067960" cy="38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5696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on-line systém (ČVUT): bibliometrické zprávy pro VJ, sebeevaluační zprávy, vyžádané informace k hodnoc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5696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jsou obsazeny pozice v hlavních a hodnotících panele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5696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složení panelů je na webových stránkách projek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5696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kalibrační schůzky 14.5.2015 (Eng&amp;Tech), 20.5.2015 (Humanities), 21.5.2015 (NatScienc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5696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obsazení pozic hodnotitelů pro vybrané výsled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5696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celkem asi 80 zahraničních odborník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5696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návštěvy na míst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Zástupný symbol pro číslo snímku 3"/>
          <p:cNvSpPr/>
          <p:nvPr/>
        </p:nvSpPr>
        <p:spPr>
          <a:xfrm>
            <a:off x="7790040" y="6286680"/>
            <a:ext cx="78552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CA6F1-6175-46AA-82AF-3887387F598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traight Connector 2"/>
          <p:cNvSpPr/>
          <p:nvPr/>
        </p:nvSpPr>
        <p:spPr>
          <a:xfrm>
            <a:off x="608040" y="1125360"/>
            <a:ext cx="6843600" cy="0"/>
          </a:xfrm>
          <a:prstGeom prst="line">
            <a:avLst/>
          </a:prstGeom>
          <a:ln w="316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14"/>
          <p:cNvSpPr/>
          <p:nvPr/>
        </p:nvSpPr>
        <p:spPr>
          <a:xfrm>
            <a:off x="307800" y="1125360"/>
            <a:ext cx="849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Vybrané hodnocené jednot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4"/>
          <p:cNvSpPr/>
          <p:nvPr/>
        </p:nvSpPr>
        <p:spPr>
          <a:xfrm>
            <a:off x="706320" y="1557360"/>
            <a:ext cx="7559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Fakulta chemické technologie Univerzity Pardub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Fakulta chemicko-technologická VŠCHT Prah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Fakulta technologie ochrany prostředí VŠCHT Prah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Fakulta potravinářské a biochemické technologie VŠCHT Prah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Fakulta chemicko-inženýrská VŠCHT Prah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Fakulta chemická VUT v Brn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Heyrovského ústav fyzikální chemie AV ČR v.v.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Ústav chemických procesů AVČR, v.v.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Výzkumný ústav anorganické chemie Ústí n.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Centrum organické chemie s.r.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29920" y="18864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Calibri"/>
                <a:ea typeface="Arial"/>
              </a:rPr>
              <a:t>Druhé pilotní ověření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7"/>
          <p:cNvSpPr/>
          <p:nvPr/>
        </p:nvSpPr>
        <p:spPr>
          <a:xfrm>
            <a:off x="671400" y="4653000"/>
            <a:ext cx="554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Historický ústav AV ČR v.v.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Ústav pro soudobé dějiny AV ČR v.v.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Filosofická fakulta Jihočeské univerzity České Budějovi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Filosofická fakulta Univerzity Pardubi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árodní technické muze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árodní arch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Straight Connector 5"/>
          <p:cNvSpPr/>
          <p:nvPr/>
        </p:nvSpPr>
        <p:spPr>
          <a:xfrm>
            <a:off x="755640" y="1754280"/>
            <a:ext cx="48801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  <a:ea typeface="Arial"/>
              </a:rPr>
              <a:t>Druhé pilotní ověření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7790040" y="6286680"/>
            <a:ext cx="78552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C4EEB-01BE-45B8-9A13-3BA46339DD0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traight Connector 2"/>
          <p:cNvSpPr/>
          <p:nvPr/>
        </p:nvSpPr>
        <p:spPr>
          <a:xfrm>
            <a:off x="608040" y="1125360"/>
            <a:ext cx="6843600" cy="0"/>
          </a:xfrm>
          <a:prstGeom prst="line">
            <a:avLst/>
          </a:prstGeom>
          <a:ln w="316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4"/>
          <p:cNvSpPr/>
          <p:nvPr/>
        </p:nvSpPr>
        <p:spPr>
          <a:xfrm>
            <a:off x="520560" y="1197000"/>
            <a:ext cx="8067960" cy="53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5696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zasedání hlavních a oborových panel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5696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5696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5696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5696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5696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5696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5696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5696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5696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5696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srpen - září, zprávy oborových a hlavních panel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5696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září – zpětná vazba hodnocených jednot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900000" y="1628640"/>
          <a:ext cx="7128000" cy="3840120"/>
        </p:xfrm>
        <a:graphic>
          <a:graphicData uri="http://schemas.openxmlformats.org/drawingml/2006/table">
            <a:tbl>
              <a:tblPr/>
              <a:tblGrid>
                <a:gridCol w="2905200"/>
                <a:gridCol w="2903400"/>
                <a:gridCol w="1319400"/>
              </a:tblGrid>
              <a:tr h="610200">
                <a:tc rowSpan="2"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 Natural Science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.4 Chemical Science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9.6. - 3.7.20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1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6 Biological Science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.6. - 1.7.20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55680">
                <a:tc rowSpan="4"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 Engineering and Technology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4 Chemical Engineer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rowSpan="4"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.6. - 2.7.20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55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5 Materials Engineer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5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7 Environmental Engineering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5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9 Industrial Biotechnology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5680">
                <a:tc rowSpan="3"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6 Humanitie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1 History and Archeology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rowSpan="3"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7. - 9.7.20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55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2 Languages and Literatur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3 Philosophy, Ethics and Religion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  <a:ea typeface="Arial"/>
              </a:rPr>
              <a:t>Druhé pilotní ověření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Zástupný symbol pro číslo snímku 3"/>
          <p:cNvSpPr/>
          <p:nvPr/>
        </p:nvSpPr>
        <p:spPr>
          <a:xfrm>
            <a:off x="7790040" y="6286680"/>
            <a:ext cx="78552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05C78-21A2-4E22-924D-E99265F9421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Straight Connector 2"/>
          <p:cNvSpPr/>
          <p:nvPr/>
        </p:nvSpPr>
        <p:spPr>
          <a:xfrm>
            <a:off x="608040" y="1125360"/>
            <a:ext cx="6843600" cy="0"/>
          </a:xfrm>
          <a:prstGeom prst="line">
            <a:avLst/>
          </a:prstGeom>
          <a:ln w="316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4"/>
          <p:cNvSpPr/>
          <p:nvPr/>
        </p:nvSpPr>
        <p:spPr>
          <a:xfrm>
            <a:off x="608040" y="1666800"/>
            <a:ext cx="8067600" cy="39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5696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prof. Vlastimil Růžička, garant KA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5696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prof. Vorel, prof. Mayer, ing. Kopři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5696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tajemníci panelů (student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5696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manažerka projek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5696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ekonom projek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5696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5696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celkem asi 80 zahraničních odborník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5696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návštěvy na míst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5696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kvalitní administrativní podpo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5"/>
          <p:cNvSpPr/>
          <p:nvPr/>
        </p:nvSpPr>
        <p:spPr>
          <a:xfrm>
            <a:off x="307800" y="1125360"/>
            <a:ext cx="849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Personální zajiště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  <a:ea typeface="Arial"/>
              </a:rPr>
              <a:t>Nejčastější námitk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Zástupný symbol pro číslo snímku 3"/>
          <p:cNvSpPr/>
          <p:nvPr/>
        </p:nvSpPr>
        <p:spPr>
          <a:xfrm>
            <a:off x="7790040" y="6286680"/>
            <a:ext cx="78552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77947-2B52-420F-84D9-5FC68017CDC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traight Connector 2"/>
          <p:cNvSpPr/>
          <p:nvPr/>
        </p:nvSpPr>
        <p:spPr>
          <a:xfrm>
            <a:off x="608040" y="1125360"/>
            <a:ext cx="6843600" cy="0"/>
          </a:xfrm>
          <a:prstGeom prst="line">
            <a:avLst/>
          </a:prstGeom>
          <a:ln w="316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5"/>
          <p:cNvSpPr/>
          <p:nvPr/>
        </p:nvSpPr>
        <p:spPr>
          <a:xfrm>
            <a:off x="307800" y="1630440"/>
            <a:ext cx="8498160" cy="50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1f497d"/>
                </a:solidFill>
                <a:latin typeface="Calibri"/>
              </a:rPr>
              <a:t>max 1% z rozpočtu na institucionální podporu na přímé i nepřímé náklad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Calibri"/>
              </a:rPr>
              <a:t>cena současného hodnocení podle Metodiky není znám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Calibri"/>
              </a:rPr>
              <a:t>není známo, kolik prostředků se vynakládá </a:t>
            </a:r>
            <a:r>
              <a:rPr b="1" lang="cs-CZ" sz="2600" spc="-1" strike="noStrike">
                <a:solidFill>
                  <a:srgbClr val="ff0000"/>
                </a:solidFill>
                <a:latin typeface="Calibri"/>
              </a:rPr>
              <a:t>neefektivně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Calibri"/>
              </a:rPr>
              <a:t>není odhad nepřímých nákladů (VB 83 %, Itálie 84 %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Calibri"/>
              </a:rPr>
              <a:t>institucionální podpora 2015: 13 264 688 792 Kč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Calibri"/>
              </a:rPr>
              <a:t>z toho: 355 848 945 (TA ČR, GA ČR, Úřad vlády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Calibri"/>
              </a:rPr>
              <a:t>zbývá: 12 908 819 847 Kč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1f497d"/>
                </a:solidFill>
                <a:latin typeface="Calibri"/>
              </a:rPr>
              <a:t>1% z rozpočtu na institucionální podporu je cca 129 mil. Kč/ro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7"/>
          <p:cNvSpPr/>
          <p:nvPr/>
        </p:nvSpPr>
        <p:spPr>
          <a:xfrm>
            <a:off x="2372040" y="1125360"/>
            <a:ext cx="442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Calibri"/>
              </a:rPr>
              <a:t>Hodnocení bude příliš drahé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  <a:ea typeface="Arial"/>
              </a:rPr>
              <a:t>Nejčastější námitk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7790040" y="6286680"/>
            <a:ext cx="78552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B889A-3CCA-44EB-9C7D-6F231B474FB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Straight Connector 2"/>
          <p:cNvSpPr/>
          <p:nvPr/>
        </p:nvSpPr>
        <p:spPr>
          <a:xfrm>
            <a:off x="608040" y="1125360"/>
            <a:ext cx="6843600" cy="0"/>
          </a:xfrm>
          <a:prstGeom prst="line">
            <a:avLst/>
          </a:prstGeom>
          <a:ln w="316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7"/>
          <p:cNvSpPr/>
          <p:nvPr/>
        </p:nvSpPr>
        <p:spPr>
          <a:xfrm>
            <a:off x="2372040" y="1125360"/>
            <a:ext cx="442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Calibri"/>
              </a:rPr>
              <a:t>Hodnocení bude příliš drahé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6"/>
          <p:cNvSpPr/>
          <p:nvPr/>
        </p:nvSpPr>
        <p:spPr>
          <a:xfrm>
            <a:off x="34920" y="1816200"/>
            <a:ext cx="9036000" cy="456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Calibri"/>
              </a:rPr>
              <a:t>Celkové náklady závisí na cíli hodnocení a jeho detailnosti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Calibri"/>
              </a:rPr>
              <a:t>Obecné pravidlo: čím detailnější hodnocení, tím dražší, ale tím vyšší poměr výkon/cen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Calibri"/>
              </a:rPr>
              <a:t>Přímé náklady závisí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Calibri"/>
              </a:rPr>
              <a:t>na počtu jednání panelů, na kvalitě administrativní podpory, komunikaci přes internet (skype, telekonference)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Calibri"/>
              </a:rPr>
              <a:t>na zavedení návštěv panelů na místě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Calibri"/>
              </a:rPr>
              <a:t>Součástí projektu je vypracování Studie proveditelnosti s posouzením různých varia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Calibri"/>
              </a:rPr>
              <a:t>Detailnost hodnocení je téma pro implementaci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28T17:44:45Z</dcterms:created>
  <dc:creator>martina</dc:creator>
  <dc:description/>
  <dc:language>en-US</dc:language>
  <cp:lastModifiedBy>Moravcová Jitka</cp:lastModifiedBy>
  <dcterms:modified xsi:type="dcterms:W3CDTF">2015-06-26T06:27:08Z</dcterms:modified>
  <cp:revision>314</cp:revision>
  <dc:subject/>
  <dc:title>nadpis</dc:title>
</cp:coreProperties>
</file>