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27A1-9C9F-4476-9408-6E3E18C5B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633C-F160-465A-9A3B-0BF7B8085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D1A7-A85B-4A1C-88F1-1BAF6CB8F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9DD2-E664-4AAE-A4F0-F36B99DFB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5A63-FB4A-4548-B1A8-B8B270318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2E2-C274-4888-8BA2-D25903631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DE8D-EA81-4365-9AE1-8ECC7E053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CF7A-2924-401E-92A6-A10580A08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FCE-263C-4472-9B06-28520B407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846D-2AFD-46CC-B1DF-C746D5D5B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5643-E489-41AD-98FE-4974F2967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C11-96B5-4827-95DA-47CC79B1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E22-4CEB-4813-BDDA-AF0741ED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71D-0956-4199-B27F-8688CBF0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799-505B-44DD-B68A-EE30E4B5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9A6-3F82-4851-AB36-C881F18C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32D-DF18-4800-A9D7-61C8D4CD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FC0-C1E5-48D3-A3EC-A96CA91E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FD2-9548-4C38-A5E5-B327B370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90A-808D-475B-B529-B5B157EA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832-DB85-4A8F-A171-6E2874CA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026-0BF4-4537-BE01-7DECF8C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203-9925-4A4E-ADC5-2236097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7EAA-D3E2-430F-9089-47C06221C1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919C-85E8-4ACF-A3AA-81FC88A61B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18. 12. 2018, Lichtenštejnský palác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9AD3-549B-408B-B76B-D9D1B21F30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BD9E-F036-452E-82A2-C7EE03231C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C30A-0CF7-45FE-BAFB-A1154C41AC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5A42-BBB1-4E88-AF44-995D598F9F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C0C4-0689-404D-AFAD-8EBA800098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E24-EEFC-4348-97D1-7D42E7DF3F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D564-BE77-4EE6-BF17-B604FBD9C5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FD55-F389-42DB-9A2B-4045D1D750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5E6F-A2A3-406F-80B9-DA4F44D4F0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ED3-AE4F-4C14-84AE-2BF58DC8EC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majer</cp:lastModifiedBy>
  <cp:lastPrinted>2018-03-13T15:15:38Z</cp:lastPrinted>
  <dcterms:modified xsi:type="dcterms:W3CDTF">2018-12-18T11:34:22Z</dcterms:modified>
  <cp:revision>109</cp:revision>
  <dc:subject/>
  <dc:title>Prezentace aplikace PowerPoint</dc:title>
</cp:coreProperties>
</file>