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AC9-E1E1-4286-91A5-7A8DBEA91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25E6-948E-44A2-AAE1-1C169F3CB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0EB-53B6-4F6E-96BF-46B55B3C5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14C1-3887-4EC4-B07F-380130B94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050-3C4C-45F3-AA6E-12837342F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F11E-ECAC-4B9D-AB4E-E61891075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232-7CD3-440A-91AC-8A04904E1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C9EE-6862-40CF-8EC1-6D1EECD54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6F45-ED6D-4EF4-8DB1-2DE46D8D4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B00E-388F-407C-9AEC-14D791CDA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2C1A-E905-444B-96E4-8AA8C2AFF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1A2-316A-45E2-94F5-D65B8A4D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2B0-D6A9-4064-9769-05AD7C81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FB4-72C3-46EB-8E99-245B3F22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670-72CF-4D78-AB7C-A526DA54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CA1-1A88-4D39-B5ED-E8A8209B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DA1-B0C4-43E9-8FC7-4A746331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4E2-9DAD-4970-9309-2B1325E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59B-7DDF-40A7-AC1D-05479E9A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3E1-AE58-4DD4-8C05-52A6E382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234-A0F8-44A9-9EEE-86AB036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731-2D85-40B0-9593-21E9546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0FF-FACC-4E3B-A1D0-9B6A9F9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A0A-3ADD-4F2D-A355-D434D9B46F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4752-9427-445A-B006-99FCEEC753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listopadu 2018, Ost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370-6FC5-4DEA-8669-BF97F67411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249-6460-46B5-ACB4-480019FBE6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6A53-7F38-41FD-B5F0-B081728061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50D6-46F3-4A6E-9D32-40B2208A3B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evidováni v databázi 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5B1-87EC-4A89-A426-4E14D994CB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oborovým skupinám podle OECD (Frascati Manu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předseda, místopředseda + 2 panelisté za každý obor FORD (Fields of Research and Developement, např. 1.1 Mathematics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9B7-A6F6-4593-A1EC-1623E4C35C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dí (po odsouhlasení druhým oborovým panelistou) s pomocí aplikace SKV k výsledkům vhodné hodnotitele z databáz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podle vybraného kritéria  hodnocení 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F9F2-FD07-4D5C-9CCB-C05A7B51ED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A8D-4EF7-466E-BCF0-0EB27CD36A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D89-C912-4C5C-87C8-EA3772248D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A74-365D-43BE-AAF6-CE08A2C988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Pávková Markéta</cp:lastModifiedBy>
  <cp:lastPrinted>2018-03-13T15:15:38Z</cp:lastPrinted>
  <dcterms:modified xsi:type="dcterms:W3CDTF">2018-11-22T15:31:57Z</dcterms:modified>
  <cp:revision>97</cp:revision>
  <dc:subject/>
  <dc:title>Prezentace aplikace PowerPoint</dc:title>
</cp:coreProperties>
</file>