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A2E9-E06B-4A13-B436-B4254CB3712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C593-D731-4A08-B07D-B899A65330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70E5-D1A1-4076-96A5-D6C6389E23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CCF-4214-4CFE-8758-FCDFB5B5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790-16BB-47F2-A13E-5ED29D25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A1D-4A02-47DC-83F4-2A60F78A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753-E651-4934-9A0F-37CBC654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960-D36B-41D7-82EE-180E534C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CDF-F6AE-4909-8C5E-8AB71A4A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166-2E85-4E94-A50B-7F42908A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FCB-C9D5-41E4-8A2D-89942137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996-BD0D-48EA-8852-0BB8418E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646-A68A-49C4-9767-42D2BCDE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2CA-B2A6-4348-93A3-6888AB28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642-41E4-48D8-A2DA-2D68E2CB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CB45-5E0B-42E7-B700-3F775C52DA56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janli\Desktop\marek\power-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janli\Desktop\marek\power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dvorak\Desktop\final zdroje k powerpointu\zmensene slidy 3 a 4\power-2 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dvorak\Desktop\final zdroje k powerpointu\zmensene slidy 3 a 4\power-3 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31640" y="620280"/>
            <a:ext cx="578340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Útvar Zmocněnce </a:t>
            </a:r>
            <a:br>
              <a:rPr sz="3300"/>
            </a:b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pro udržitelnost </a:t>
            </a:r>
            <a:br>
              <a:rPr sz="3300"/>
            </a:b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výzkumných cen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ovéPole 1"/>
          <p:cNvSpPr/>
          <p:nvPr/>
        </p:nvSpPr>
        <p:spPr>
          <a:xfrm>
            <a:off x="4735080" y="42926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f. Ing. Eva Kislingerová, C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indikátory udrž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739880" y="2643120"/>
          <a:ext cx="5904000" cy="2675160"/>
        </p:xfrm>
        <a:graphic>
          <a:graphicData uri="http://schemas.openxmlformats.org/drawingml/2006/table">
            <a:tbl>
              <a:tblPr/>
              <a:tblGrid>
                <a:gridCol w="2303640"/>
                <a:gridCol w="720720"/>
                <a:gridCol w="718920"/>
                <a:gridCol w="720720"/>
                <a:gridCol w="719280"/>
                <a:gridCol w="720720"/>
              </a:tblGrid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ánovaný rok ukonče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m smluvního výzkumu (tis. Kč) 11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zaměstnanci VaV -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výzkumní pracovníci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šířené nebo zrekonstru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bud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</a:tbl>
          </a:graphicData>
        </a:graphic>
      </p:graphicFrame>
      <p:sp>
        <p:nvSpPr>
          <p:cNvPr id="225" name="TextovéPole 4"/>
          <p:cNvSpPr/>
          <p:nvPr/>
        </p:nvSpPr>
        <p:spPr>
          <a:xfrm>
            <a:off x="642960" y="5786280"/>
            <a:ext cx="735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a6a6a6"/>
                </a:solidFill>
                <a:latin typeface="Arial"/>
              </a:rPr>
              <a:t>Zdroje: Technické popisy projektů, monitorovací zprávy projekt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obsah 3"/>
          <p:cNvSpPr/>
          <p:nvPr/>
        </p:nvSpPr>
        <p:spPr>
          <a:xfrm>
            <a:off x="990720" y="16002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entra ve fázi realizace musejí naplnit  pro úspěšné ukončení projektu větší počet monitorovacích indikátor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prokázat, že došlo k věcnému naplnění účel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stavební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šechna navštívená centra ve fázi udržitelnosti mají zbudované, nebo rekonstruované prostory zkolaudované a v provozu stejně jako dvě centra ve fázi realizace ( p.č. 0077 a 008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078 prochází kolaudací (listopad 2014), ale z poznatků získaných na míst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dhadujeme zpoždění na Q 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108 je v mírném skluzu oproti harmonogramu (instalace antivibračních stavebních opatření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116 sklad v provozu, hlavní budova bude v provozu k 03/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finanční zdroje pro udržitelnost N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32880" y="1428480"/>
            <a:ext cx="8153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šem navštíveným centrům ve fázi udržitelnosti byla přidělena podpora z Národního programu udržitelnosti (NPU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iskrepance mezi aktualizovanými odhady center k srpnu 2014 a Informačním systémem výzkumu, experimentálního vývoje a inov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00040" y="2571840"/>
          <a:ext cx="8143920" cy="3357360"/>
        </p:xfrm>
        <a:graphic>
          <a:graphicData uri="http://schemas.openxmlformats.org/drawingml/2006/table">
            <a:tbl>
              <a:tblPr/>
              <a:tblGrid>
                <a:gridCol w="1357200"/>
                <a:gridCol w="1819440"/>
                <a:gridCol w="611280"/>
                <a:gridCol w="645840"/>
                <a:gridCol w="648000"/>
                <a:gridCol w="647640"/>
                <a:gridCol w="647640"/>
                <a:gridCol w="646200"/>
                <a:gridCol w="647640"/>
                <a:gridCol w="473040"/>
              </a:tblGrid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3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5 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3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 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3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8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 8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3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5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6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3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3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9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2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8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8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9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 0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 5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 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 9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 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 4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 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 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 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5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5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8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4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 8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 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8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4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 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 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5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provozní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1600200"/>
            <a:ext cx="76960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 koncem letošního roku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ět center završí první rok fáze udržitelnosti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tedy na základě reálných provozních výdajů a příjmů bude možná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pětná korekce odhadů i zpřesnění výhled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kladem nutnosti takových zpětných korekcí může být centrum, které v posledním roce své realizace (2013) mělo vytvořen dostatečný počet nových pracovních míst (dle všech závazných indikátorů), a přesto odhad mzdových prostředků v roce 2014 roste o 72 % a pokračuje v růstu v dalších letech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bo centrem očekávané ostatní zdroje financování (tj. zdroje mimo účelovou a institucionální podporu, mezinárodní granty a smluvní výzkum) jsou odhadovány na 110 mil. Kč ke konci roku 20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tj. 55 % celkového rozpočtu centra) a 50 mil. v roce 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kupina pracuje na rozkladu provozních výdajů a zdrojů financování, který bude dále zpřesňovat na základě dat získaných při návštěvách center a dat ze schválených monitorovacích zpráv za rok 2013, 2014 a dalších podkladů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Harmonogram monitoringu výzkumn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9640" y="1844640"/>
          <a:ext cx="8075880" cy="348768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adočeská univerzita v Pl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IS - Nové technologie pro informační společn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adočeská univerzita v Pl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nových technologií a materiá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ita Tomáše Bati ve Zlí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bezpečnostních, informačních a pokročilých 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ME Centre (Nové technologie pro strojírenství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senzorických, informačních a komunikačních systémů (SI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přístrojové techniky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kační a vývojové laboratoře pokročilých mikrotechnologií a nano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systémové biologie a ekologie 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Globe - Centrum pro studium dopadů globální změny klima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teoretické a aplikované mechaniky 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excelence Tel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71280" y="1125000"/>
            <a:ext cx="4753080" cy="15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br>
              <a:rPr sz="3300"/>
            </a:b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Osnova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15640" y="2420640"/>
            <a:ext cx="7056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plň činnosti Útvar Zmocněnce pro udržitelnost výzkumný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ktuální stav v monitoringu výzkumný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rmonogram návštěv do konce roku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Charakteristika výchozího stavu - udrž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920" y="1628280"/>
            <a:ext cx="705816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udržiteln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NAŘÍZENÍ RADY (ES) č. 1083/2006 ze dne 11. července 2006 o obecných ustanoveních o Evropském fondu pro regionální rozvoj, Evropském sociálním fondu a Fondu soudržnosti a o zrušení nařízení (ES) č. 1260/1999 vymezuje udržitelnost jako „stálost operací“, investice musí být po dobu 5 let od ukončení realizace zachována ke stanovenému účelu, nesmí dojít ke změně činnosti nebo k provádění aktivit, které by zakládaly nepovolenou veřejnou podporu. Rovněž nesmí dojít ke změně formy vlastnictví infrastruktury pořízené z dot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eská republik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rostřednictvím Rady pro výzkum, vývoj a inovace („RVVI“),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avázala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 zajištění udržitelnosti podpořených VaV center po dobu 5ti let po ukončení podpory z OP VaV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Útvar Zmocněnce pro udržitelnost 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výzkumných center – náplň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návštěvách na místě zjišťujeme a zpřesňujeme především inform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věřujíc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aplnění účelu projektu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 v období udržitelnost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lnění indikátorů udržitelnost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é byly stanoveny při schvalování projektu výzkumných ce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 případě center ve fázi udržitelnosti informace o jejich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eálných provozních výdajíc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v případě center ve fázi realizace informace zpřesňující predikce provozních výdajů a příjmů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konstituování a dosavadním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fungování výzkumných tým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é budou pracovat v nově otevíraných či dostavovaných výzkumných centrec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termínu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ostavb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 zprovoznění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zkumných ce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možných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mplikacích a nových problémech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 činnosti cen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Útvar Zmocněnce pro udržitelnost 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výzkumných center – složení ú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90720" y="14284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mocněnec pro udržitelnost výzkumných cent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f. Ing. Eva Kislingerová, CS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eva.kislingerova@msmt.cz, tel.: 234 813 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lenové monitoringu útvaru Zmocněnce pro udržitelnost výzkumných cen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Karel Pavel - generální ředitel farmaceutické fi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karel.pavel@msmt.cz, tel.: 602 374 6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NDr. Jan Mikeska, CSc. - vedoucí oddělení výzkumu farmaceutické fi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jan.mikeska@msmt.cz, tel.: 777 651 6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Petr Kubant - odborník z oblasti stavebnictv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petr.kubant@msmt.cz, tel.:602 746 4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Markéta Hlavinková - garant kontrol OP VaV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marketa.hlavinkova@msmt.cz, tel.: 773 001 7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c. Dana Léwová – analytik, asis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dana.lew@msmt.cz, tel.: 604 646 7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dres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U lužického semináře 90/13, Malá Strana, 118 00 Praha 1, kancelář č.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9640" y="1844640"/>
          <a:ext cx="8075880" cy="371016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vštív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9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1.1.00/02.0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stav molekulární genetiky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technologické a biomedicínské centrum Akademie věd a Univerzity Karlov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ÚTS, a.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rozvoje strojírenského výzkumu Liber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ická Univerzita v Liber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pro nanomateriály, pokročilé technologie a inov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výzkumu Řež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držitelná Energe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sychiatrické centrum Pra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rodní ústav duševního zdraví (NUDZ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zkumný a šlechtitelský ústav ovocnářský Holovousy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ocnářský výzkumný instit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zkumný ústav veterinárního lékařství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pro aplikovanou mikrobiologii a imunologii ve veterinární medicí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medicína pro regionální rozvoj a lidské zdroje (BIOMEDRE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regionu Haná pro biotechnologický a zemědělský výzk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9640" y="1844640"/>
          <a:ext cx="8075880" cy="371952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vštív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ální centrum pokročilých technologií a materiá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mBrain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mbránové inovační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ihočeská univerzita v Českých Budějovicí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ihočeské výzkumné centrum akvakultury a biodiverzity hydrocenóz (CENAKV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eské vysoké učení technické v Pra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řízení technologie pro Centrum vozidel udržitelné mobility (CVU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TES FHT a.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padočeské materiálově metalurgické centrum (ZMM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sarykova univerzita, B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TOCO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MaS - Pokročilé stavební materiály, konstrukce a technolo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krobiologický ústav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řasových biotechnologií Třeboň (Algatec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1.1.00/02.0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excelence IT4Innov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9640" y="1844640"/>
          <a:ext cx="8075880" cy="324972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82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ET - Energetické jednotky pro využití netradičních zdrojů ener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ální materiálově technologické výzkumné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 čistých technologií těžby a užití energetických surov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 environmentálních 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ovace pro efektivitu a životní prostřed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 materiálového výzkumu na FCH VUT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výzkumu a využití obnovitelných zdrojů ener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indikátory udrž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1600200"/>
            <a:ext cx="76960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 všech navštíven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enter ve fázi udržitelnosti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ylo při závěrečném hodnocení shledán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e naplnila věcný účel projektu i přesto, že nebyly naplněny všechny závazné indiká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 hlediska plnění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ávazných indikátor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o dobu udržiteln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společným problémem objem smluvního výzkumu, který se nepodařilo žádnému, vyjma jediného, z center napl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40" y="3486240"/>
          <a:ext cx="8064360" cy="2454120"/>
        </p:xfrm>
        <a:graphic>
          <a:graphicData uri="http://schemas.openxmlformats.org/drawingml/2006/table">
            <a:tbl>
              <a:tblPr/>
              <a:tblGrid>
                <a:gridCol w="2303640"/>
                <a:gridCol w="720720"/>
                <a:gridCol w="718920"/>
                <a:gridCol w="720720"/>
                <a:gridCol w="719280"/>
                <a:gridCol w="720720"/>
                <a:gridCol w="720720"/>
                <a:gridCol w="718920"/>
                <a:gridCol w="720720"/>
              </a:tblGrid>
              <a:tr h="35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m smluvního výzkumu (tis. Kč) 11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zaměstnanci VaV -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výzkumní pracovníci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šířené nebo zrekonstru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bud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08:18:25Z</dcterms:created>
  <dc:creator>Dana Léwová</dc:creator>
  <dc:description>Předkládá prof. Kislingerová, připravila Dana Léwová</dc:description>
  <dc:language>en-US</dc:language>
  <cp:lastModifiedBy>Dana</cp:lastModifiedBy>
  <cp:lastPrinted>2014-10-23T13:48:19Z</cp:lastPrinted>
  <dcterms:modified xsi:type="dcterms:W3CDTF">2014-11-27T14:27:55Z</dcterms:modified>
  <cp:revision>617</cp:revision>
  <dc:subject/>
  <dc:title>Seminář pro žadatele  OP VaVpI v rámci PO 4</dc:title>
</cp:coreProperties>
</file>