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CD0-A5CE-490E-BE74-20861D1E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D5F-25D3-4A94-A4E1-7214B9DC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9AC-8823-4A3E-9872-2B269D62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693-E037-4C42-BD0A-CB01468C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90C1-EAF6-4883-B3C2-79071493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39E0-DE03-40FD-998A-3A73B7E6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F682-1DDA-4DD6-9E46-AD35B9BC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6C2C-FBB5-41A1-99B6-6E2BC26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CD19-90A3-4798-85B9-898E1D0E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7A27-E22E-4A40-8547-BBE4143F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58A6-DE6D-4278-8CA4-8FE35889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3E0-ABEB-42B8-8DE0-41729D7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C062-0C88-420E-AE47-9F9334CB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C191-85BE-481E-A928-667261C5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9664-F3C6-42E8-9B38-C9CC3470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22C4-CFFE-4B32-ADDD-A7E37F80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04F9-98EC-4F68-844E-A78AB073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B86A6-9813-462E-8080-6A7EC943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D88ADE-8B50-41A2-86C3-6B921042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E74C5-FEAB-40BC-AE72-4600A851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CF29CF-5771-4583-91BD-D2496695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07BC2-2A45-457F-B7F9-4263C10B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CB5-1864-4367-846F-4FC92C88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C9331F-E077-4D5D-BE6D-5A83D5F4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66AE14-742D-4F08-A336-8C2B03E3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0612F-81A0-4E98-8828-E6267E72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EFCE54-DF93-47D2-A801-AA1FA8AD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5ADA74-4798-47E5-9039-8C150667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EAF497-3DA8-43B6-81AC-67BD8444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A8627-8EE5-4F39-8358-DDB2D3EA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94A-23FA-496B-81BF-F9CE770F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4C1-6BBC-4159-88E2-DBD7E86C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B1F-A366-484F-A8B3-8656B716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176-BE17-433B-AFB3-5EB646FC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BD6-640D-42EA-A93C-3CB537ED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224-0D80-49A3-8317-D0BF6400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B3AC-B26B-4A00-8C8F-ACED79E303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9FE0-BCC0-406D-850D-413D23A9DA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E73A-7562-4159-917C-2B3BE37F64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36E4-E369-4A8C-904E-0D8A8D14C1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C056-3A14-4588-A719-E0E42604E2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0816-0FDA-4738-8E30-5D4AECEC84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metodika.reformy-msmt.c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7280" y="836280"/>
            <a:ext cx="4897440" cy="41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PN Metodik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v ke konci řešení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Jitka Moravcov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1131840" y="6300720"/>
            <a:ext cx="3786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Candara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15416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V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26.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201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C713-56B1-474C-8B54-AF28B9B48B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5"/>
          <p:cNvSpPr/>
          <p:nvPr/>
        </p:nvSpPr>
        <p:spPr>
          <a:xfrm>
            <a:off x="620280" y="1622520"/>
            <a:ext cx="6630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1 – 4 užitné vz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ča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káv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bobu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vá briketa na bázi zbytků z gastronom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2 – 23 užitných vzor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pseudo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ovocn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obilo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82E4-E505-43EC-8DEC-29EB7785A0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5"/>
          <p:cNvSpPr/>
          <p:nvPr/>
        </p:nvSpPr>
        <p:spPr>
          <a:xfrm>
            <a:off x="625680" y="1631880"/>
            <a:ext cx="5706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ork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listů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peleta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Calibri"/>
              </a:rPr>
              <a:t>2013 – 6 užitných vzo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kej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čištění a zpracování obilo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lisování olejnatých 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v textilním průmys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mlýnských a pekárenských výrob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okru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ovéPole 4"/>
          <p:cNvSpPr/>
          <p:nvPr/>
        </p:nvSpPr>
        <p:spPr>
          <a:xfrm>
            <a:off x="4441320" y="3141720"/>
            <a:ext cx="365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1, 4 užitné vz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2, 32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3, 6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649A-364D-4462-A27A-CF29E8160F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90520" y="155736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ůsledkem našich minulých i stávající Metodiky je obecné povědomí, že každý výsledek musí být oceněn institucionální podporou (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aždá VO má vlastně na IP „nárok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hodnocení bylo pouhým přepočtem bodů na pení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výhoda metrik: rezignace na hodnocení kv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577800" y="3673440"/>
            <a:ext cx="8077320" cy="1771560"/>
            <a:chOff x="577800" y="3673440"/>
            <a:chExt cx="8077320" cy="1771560"/>
          </a:xfrm>
        </p:grpSpPr>
        <p:pic>
          <p:nvPicPr>
            <p:cNvPr id="184" name="Picture 6" descr=""/>
            <p:cNvPicPr/>
            <p:nvPr/>
          </p:nvPicPr>
          <p:blipFill>
            <a:blip r:embed="rId1"/>
            <a:stretch/>
          </p:blipFill>
          <p:spPr>
            <a:xfrm>
              <a:off x="577800" y="3682800"/>
              <a:ext cx="120024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7" descr=""/>
            <p:cNvPicPr/>
            <p:nvPr/>
          </p:nvPicPr>
          <p:blipFill>
            <a:blip r:embed="rId2"/>
            <a:stretch/>
          </p:blipFill>
          <p:spPr>
            <a:xfrm>
              <a:off x="1805400" y="3821040"/>
              <a:ext cx="123840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"/>
            <p:cNvPicPr/>
            <p:nvPr/>
          </p:nvPicPr>
          <p:blipFill>
            <a:blip r:embed="rId3"/>
            <a:stretch/>
          </p:blipFill>
          <p:spPr>
            <a:xfrm>
              <a:off x="3087000" y="3716280"/>
              <a:ext cx="122868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" descr=""/>
            <p:cNvPicPr/>
            <p:nvPr/>
          </p:nvPicPr>
          <p:blipFill>
            <a:blip r:embed="rId4"/>
            <a:stretch/>
          </p:blipFill>
          <p:spPr>
            <a:xfrm>
              <a:off x="4364280" y="3673440"/>
              <a:ext cx="120960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"/>
            <p:cNvPicPr/>
            <p:nvPr/>
          </p:nvPicPr>
          <p:blipFill>
            <a:blip r:embed="rId5"/>
            <a:stretch/>
          </p:blipFill>
          <p:spPr>
            <a:xfrm>
              <a:off x="5637240" y="3692160"/>
              <a:ext cx="101916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"/>
            <p:cNvPicPr/>
            <p:nvPr/>
          </p:nvPicPr>
          <p:blipFill>
            <a:blip r:embed="rId6"/>
            <a:stretch/>
          </p:blipFill>
          <p:spPr>
            <a:xfrm>
              <a:off x="6703920" y="3782880"/>
              <a:ext cx="85716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2" descr=""/>
            <p:cNvPicPr/>
            <p:nvPr/>
          </p:nvPicPr>
          <p:blipFill>
            <a:blip r:embed="rId7"/>
            <a:stretch/>
          </p:blipFill>
          <p:spPr>
            <a:xfrm>
              <a:off x="7607520" y="3720960"/>
              <a:ext cx="104760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Rectangle 18"/>
          <p:cNvSpPr/>
          <p:nvPr/>
        </p:nvSpPr>
        <p:spPr>
          <a:xfrm>
            <a:off x="174600" y="5438880"/>
            <a:ext cx="87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7 užitných vzorů uplatněných v roce 2010 vyneslo v roc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cs-CZ" sz="2200" spc="-1" strike="noStrike">
                <a:solidFill>
                  <a:srgbClr val="ff0000"/>
                </a:solidFill>
                <a:latin typeface="Calibri"/>
                <a:ea typeface="Arial"/>
              </a:rPr>
              <a:t>IP 400 000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Variabilní stropní svít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Metodika 2013 už užitné vzory nezahrn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EE36-F6A8-4C73-8024-47CDF81B88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322200" y="1631880"/>
            <a:ext cx="8497800" cy="49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íklad Portugalska, strategická restrukturalizace VO v roce 2013 (peer-review hodno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o 322 VO (30 880 výzkumníků) za období 2008-2012 a strategii na 2015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7 hlavních pan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. fáze (vyřazovací): dobrý, průměrný, špat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78 VO (55 %) do fáze 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81 VO (25 %) nepostoupilo, jen 80 %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62 VO (20 %), nedostalo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. fáze: výjimečný, excelentní, velmi dobrý (strategické financ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í v 5 dimenzích: Productivity,  Sci and technol merit, Relevance, Feasibility of the work plan, Impact of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ngličtina, jen název a abstrakt v portugalšt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O si samy navrhovaly výši institucionální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4AB1-8D08-454C-BBDF-8609174FF2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081520" y="112536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zkorumpova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07800" y="1622520"/>
            <a:ext cx="849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er-review je subjektivní 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hraniční hodnotitelé bez vazby na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veřejnění složení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mbinace: bibliometrie + indikátory + posouzení pan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asná pravidla pro práci oborových panelů (hodnotí) a hlavních panelů (dohlíží, koncipují doporu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Účast českých zástupců v hlavních panelech a konzultantů pro v oborový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ŠMT má dobrou zkušenost s peer-review hodnocením výzkumných infra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V ČR má zkušenost s peer-review hodnoc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KHV a RVVI z Metodiky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z pilotních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96B6-31CC-4728-842E-046A71A46A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538200" y="134136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Zkušenosti z veřejného projedná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seznámení se s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odůvodněnost připomí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nad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akceptování jiného názo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A400-EAB8-4640-A7E7-9795CDA92C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 (?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07800" y="1414440"/>
            <a:ext cx="84981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ational Evaluation of Research Organisations (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odnocení 2016 podle (upravené?) Metodik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gislativní změny, 2016 – 2017 (pokud budou nut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, 2016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ealizace NERO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stitucionální financování, 2019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le RVVI a K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litické rozhodnu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  <a:ea typeface="Arial"/>
              </a:rPr>
              <a:t>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B02F-9425-4C70-A4E9-0BD6D7886B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07800" y="126828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arm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41520" y="184464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0.2.2015 pracovní seminář s vybranými 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n-line administrativní a podpůrný systém APS, help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eznamu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výstupů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ozdělení výzkumníků do RU, přihlášení se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brat excelentní výsledky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sebehodnotící zprávu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30. dub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ijmout expertní panel pro prezenční návštěvu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konce čer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komentář k hodnotící zprávě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konec zář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ástupný symbol pro číslo snímk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F915-2120-4E9E-A479-CF96C165441A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6"/>
          <p:cNvSpPr/>
          <p:nvPr/>
        </p:nvSpPr>
        <p:spPr>
          <a:xfrm>
            <a:off x="1835280" y="443700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ez kvalitního hodnocení nebude kvalitní a efektivní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Obsa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E859-305B-4A39-B4DB-A47F50EFAB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4280" y="1646280"/>
            <a:ext cx="8496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ruh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jčastější námi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sta k NERO (National Evaluation of Research Organisa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eřejná zakázka - Technopol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3134-22CA-4877-8E88-A46112E84E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20560" y="1268280"/>
            <a:ext cx="80679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1.5.2015 skonč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lnění zakázky bylo v souladu se smlou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chny dílčí a závěrečná zpráva byly MŠMT přij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. DZ – Hodnocení výzkumných 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2. DZ – Institucionální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. DZ – Mal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věrečná zpráva: Summary Report + pří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moc při pilotním ověření realizovaném tý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nzultace road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nání s nám. Marksem, seminář pro ČKR, vystoupení na RV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58CB-6FE8-4940-9D04-D6EB8B1EAE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0560" y="1585800"/>
            <a:ext cx="80679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n-line systém (ČVUT): bibliometrické zprávy pro VJ, sebeevaluační zprávy, vyžádané informace k 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sou obsazeny pozice v hlavních a hodnotící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 panelů je na webových stránká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ční schůzky 14.5.2015 (Eng&amp;Tech), 20.5.2015 (Humanities), 21.5.2015 (NatSci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sazení pozic hodnotitelů pro vybrané vý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814B-6651-46BF-B1FA-5B25E17EEF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brané hodnocen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06320" y="155736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é technologie Univerzity Pard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technologic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technologie ochrany prostředí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potravinářské a biochemické technologie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inženýrs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á VUT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eyrovského ústav fyzikální chemie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chemických procesů AVČR,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ýzkumný ústav anorganické chemie Ústí n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Centrum organické chemie s.r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71400" y="4653000"/>
            <a:ext cx="55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istorický ústav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pro soudobé dějiny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Jihočeské univerzity České Budějo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Univerzity Pardub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technické muz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arc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5"/>
          <p:cNvSpPr/>
          <p:nvPr/>
        </p:nvSpPr>
        <p:spPr>
          <a:xfrm>
            <a:off x="755640" y="1754280"/>
            <a:ext cx="488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2EE9-88A5-47DC-816F-A3F1CFC435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20560" y="1197000"/>
            <a:ext cx="80679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sedání hlavních a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rpen - září, zprávy oborových a hlavní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ří – zpětná vazba hodnocený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00000" y="1628640"/>
          <a:ext cx="7128000" cy="38401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1319400"/>
              </a:tblGrid>
              <a:tr h="6102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Natural Sci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 Chem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.6. - 3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Biolog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. - 1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5680"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Engineering and Technolog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 Chem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6. - 2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aterials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Environmental Engineer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 Industrial Biotechn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Humaniti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 History and Arche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. - 9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 Languages and Lit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 Philosophy, Ethics and Relig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F389-282F-47EF-809D-202070CE5D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8040" y="1666800"/>
            <a:ext cx="80676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lastimil Růžička, garant K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orel, prof. Mayer, ing. Kopř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ajemníci panelů (stud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nažerka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konom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valitní administrativní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83AF-FF64-4D58-994D-D4DB281DD1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07800" y="1630440"/>
            <a:ext cx="849816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max 1% z rozpočtu na institucionální podporu na přímé i nepřímé nákla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na současného hodnocení podle Metodiky není zná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známo, kolik prostředků se vynakládá </a:t>
            </a:r>
            <a:r>
              <a:rPr b="1" lang="cs-CZ" sz="2600" spc="-1" strike="noStrike">
                <a:solidFill>
                  <a:srgbClr val="ff0000"/>
                </a:solidFill>
                <a:latin typeface="Calibri"/>
              </a:rPr>
              <a:t>neefektiv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odhad nepřímých nákladů (VB 83 %, Itálie 84 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institucionální podpora 2015: 13 264 688 792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 toho: 355 848 945 (TA ČR, GA ČR, Úřad vlád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bývá: 12 908 819 847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1% z rozpočtu na institucionální podporu je cca 129 mil. Kč/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B203-EDCB-471C-8821-9D53D646B9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4920" y="1816200"/>
            <a:ext cx="90360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lkové náklady závisí na cíli hodnocení a jeho detailno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Obecné pravidlo: čím detailnější hodnocení, tím dražší, ale tím vyšší poměr výkon/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Přímé náklady závis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počtu jednání panelů, na kvalitě administrativní podpory, komunikaci přes internet (skype, telekonference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zavedení návštěv panelů na mís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oučástí projektu je vypracování Studie proveditelnosti s posouzením různých vari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Detailnost hodnocení je téma pro implementac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Moravcová Jitka</cp:lastModifiedBy>
  <dcterms:modified xsi:type="dcterms:W3CDTF">2015-06-26T06:27:08Z</dcterms:modified>
  <cp:revision>314</cp:revision>
  <dc:subject/>
  <dc:title>nadpis</dc:title>
</cp:coreProperties>
</file>