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03E-C15F-4EA4-A150-396A8F9D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CEF-2C2C-4188-A05A-EB16A043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658-CB93-44E1-8248-627B64BF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D04-48C1-4894-AA30-7E4CB981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DA8-EA32-4C5A-8244-448416BE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C129-6BE6-460F-B1CD-6AB10317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5438-97A5-4329-8527-4414CA89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9078-CDD3-4F56-9987-F879C2C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8D5-8E5F-4F43-A802-78890DE2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C7EF-A715-4238-B141-7FF8D644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A500-4602-4A70-BBAF-F4F34D0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E24-AEFB-4A08-A6DC-576FE8C9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044-9F49-450C-B98A-6BC1CC3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2BC8-5BE5-428C-B4C3-38C79B0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1036-8B3E-4B5C-95E0-5E804A9E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DF9C-C774-4614-A485-D0683113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754-C0A3-4BBF-A64E-757D1E6D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ECFB4-D4BB-4E4A-B28A-074358F4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11622-2F19-4A45-AEAB-B11C15F5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CB852-B688-4FA7-8229-F9D2A9D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3B5FA-467B-41FA-B1F7-4478EA40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C23C9-B204-4BCD-9CF1-CFB7C92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B36-C390-4EBC-9359-A2A3928D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AEB8E-CE9C-4A7F-A3AC-653A6AC9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8DB84-1463-4C54-A113-5E5FDB41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28D5A-0C14-4A71-AE7F-AAEADF7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F9760-47A9-4C34-817C-54429CC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F5BE79-19FC-4B63-9F4A-CC7E610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A1641-7AFF-4F6C-8885-905A7D1A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FC11A-3135-4744-BC09-0F9F26B9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1E5-AFBE-4C9A-9D1A-3576581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52B-3567-4F44-8888-8BA9911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43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77E-25F3-46A3-9D96-C6C490F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5A3-4DA9-434F-AFDD-BEF0E64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D33-3220-4D62-A8F7-CE43020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A2A-A865-4F24-8C0E-7802922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DC9-8996-4ED7-B38C-962B75C647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0F3D-DCD9-4DA2-8021-12EE3D4C47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6992-7A20-4398-9723-C95B17B595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6517-ABD8-4FAF-95BB-5586FD7FB6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ázek 6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3003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5aae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7db03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7786440" y="6286680"/>
            <a:ext cx="7858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248-E670-4E28-A3CB-57F8398B7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E04D-B6E8-44C3-B89A-B76391F9B7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etodika.reformy-msmt.cz/?utm_source=Prezentace&amp;utm_medium=Soubory&amp;utm_campaign=prez_metodik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etodika.reformy-msmt.cz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7280" y="836280"/>
            <a:ext cx="4897440" cy="41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PN Metodik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v ke konci řešení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Jitka Moravc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7"/>
          <p:cNvSpPr/>
          <p:nvPr/>
        </p:nvSpPr>
        <p:spPr>
          <a:xfrm>
            <a:off x="1131840" y="6300720"/>
            <a:ext cx="3786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Candara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15416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V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26.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201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B6C6-B068-449D-99AF-70ED065052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20280" y="1622520"/>
            <a:ext cx="6630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1 – 4 užitné vz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č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káv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bobu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vá briketa na bázi zbytků z gastronom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Calibri"/>
              </a:rPr>
              <a:t>2012 – 23 užitných vzo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pseudo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na bázi zbytků z řezu ovocn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bilov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tvořené z obilo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ajícího při zpracování bavl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alivo vyrobené z odpadu vzniklého při výrobě alkoholických nápoj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A17B-DD06-4800-858B-3D5ECF7E3D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25680" y="1631880"/>
            <a:ext cx="5706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vyplozených substrátů z pěstování h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alic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gastroodpad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kost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e stabilizované biomasy s využitím odpadu z výroby papíru a celulóz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or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máku seté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tvořené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z kůry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ukuř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kůry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listů listnatých strom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 obilov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briketa ze šišek jehličnan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vá peleta ze spalitelných zahradních zbytk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Calibri"/>
              </a:rPr>
              <a:t>2013 – 6 užitných vzor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kej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čištění a zpracování obilo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ajícího při lisování olejnatých 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v textilním průmys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odpadu vzniklého z mlýnských a pekárenských výrob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alivo vyrobené z pokru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ovéPole 4"/>
          <p:cNvSpPr/>
          <p:nvPr/>
        </p:nvSpPr>
        <p:spPr>
          <a:xfrm>
            <a:off x="4441320" y="3141720"/>
            <a:ext cx="365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1, 4 užitné v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2, 32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2013, 6 užitn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73A7-E264-438E-B314-29CC650F66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90520" y="155736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sledkem našich minulých i stávající Metodiky je obecné povědomí, že každý výsledek musí být oceněn institucionální podporou (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aždá VO má vlastně na IP „nárok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odnocení bylo pouhým přepočtem bodů na pení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výhoda metrik: rezignace na hodnocení kv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77800" y="3673440"/>
            <a:ext cx="8077320" cy="1771560"/>
            <a:chOff x="577800" y="3673440"/>
            <a:chExt cx="8077320" cy="1771560"/>
          </a:xfrm>
        </p:grpSpPr>
        <p:pic>
          <p:nvPicPr>
            <p:cNvPr id="184" name="Picture 6" descr=""/>
            <p:cNvPicPr/>
            <p:nvPr/>
          </p:nvPicPr>
          <p:blipFill>
            <a:blip r:embed="rId1"/>
            <a:stretch/>
          </p:blipFill>
          <p:spPr>
            <a:xfrm>
              <a:off x="577800" y="3682800"/>
              <a:ext cx="120024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7" descr=""/>
            <p:cNvPicPr/>
            <p:nvPr/>
          </p:nvPicPr>
          <p:blipFill>
            <a:blip r:embed="rId2"/>
            <a:stretch/>
          </p:blipFill>
          <p:spPr>
            <a:xfrm>
              <a:off x="1805400" y="3821040"/>
              <a:ext cx="123840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3"/>
            <a:stretch/>
          </p:blipFill>
          <p:spPr>
            <a:xfrm>
              <a:off x="3087000" y="3716280"/>
              <a:ext cx="122868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4364280" y="3673440"/>
              <a:ext cx="12096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5"/>
            <a:stretch/>
          </p:blipFill>
          <p:spPr>
            <a:xfrm>
              <a:off x="5637240" y="3692160"/>
              <a:ext cx="1019160" cy="173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6"/>
            <a:stretch/>
          </p:blipFill>
          <p:spPr>
            <a:xfrm>
              <a:off x="6703920" y="3782880"/>
              <a:ext cx="85716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" descr=""/>
            <p:cNvPicPr/>
            <p:nvPr/>
          </p:nvPicPr>
          <p:blipFill>
            <a:blip r:embed="rId7"/>
            <a:stretch/>
          </p:blipFill>
          <p:spPr>
            <a:xfrm>
              <a:off x="7607520" y="3720960"/>
              <a:ext cx="104760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Rectangle 18"/>
          <p:cNvSpPr/>
          <p:nvPr/>
        </p:nvSpPr>
        <p:spPr>
          <a:xfrm>
            <a:off x="174600" y="54388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7 užitných vzorů uplatněných v roce 2010 vyneslo v roc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cs-CZ" sz="2200" spc="-1" strike="noStrike">
                <a:solidFill>
                  <a:srgbClr val="ff0000"/>
                </a:solidFill>
                <a:latin typeface="Calibri"/>
                <a:ea typeface="Arial"/>
              </a:rPr>
              <a:t>IP 400 000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Variabilní stropní svít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Metodika 2013 už užitné vzory nezahrn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CBC6-5944-4047-BCF1-2F8D6A61BD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885240" y="1125360"/>
            <a:ext cx="73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nepřinese žádnou přidanou hodno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322200" y="1631880"/>
            <a:ext cx="849780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klad Portugalska, strategická restrukturalizace VO v roce 2013 (peer-review hodno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o 322 VO (30 880 výzkumníků) za období 2008-2012 a strategii na 2015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7 hlavních pan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fáze (vyřazovací): dobrý, průměrný, špa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78 VO (55 %) do fáze 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1 VO (25 %) nepostoupilo, jen 80 %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62 VO (20 %), nedostal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fáze: výjimečný, excelentní, velmi dobrý (strategické financ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dnocení v 5 dimenzích: Productivity,  Sci and technol merit, Relevance, Feasibility of the work plan, Impac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gličtina, jen název a abstrakt v portugalšt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si samy navrhovaly výši institucionální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CED-047E-42EA-B0D0-0F6519B38B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81520" y="112536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zkorumpova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07800" y="1622520"/>
            <a:ext cx="849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er-review je subjektiv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hraniční hodnotitelé bez vazby n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veřejnění složení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mbinace: bibliometrie + indikátory + posouzení pan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sná pravidla pro práci oborových panelů (hodnotí) a hlavních panelů (dohlíží, koncipují doporu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čast českých zástupců v hlavních panelech a konzultantů pro v oborový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ŠMT má dobrou zkušenost s peer-review hodnocením výzkumných infra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V ČR má zkušenost s peer-review hodnoc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KHV a RVVI z Metodik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kušenosti z pilotních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3853-2E01-4535-96A1-EF9840F3DC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538200" y="1341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Zkušenosti z veřejného projedná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seznámení se s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odůvodněnost připo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nad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-akceptování jiného názo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257-1963-44ED-A7D1-05E54E57EA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Cesta k NERO (?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7800" y="1414440"/>
            <a:ext cx="8498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tional Evaluation of Research Organisations (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2016 podle (upravené?) Metodik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gislativní změny, 2016 – 2017 (pokud budou nut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,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alizace NERO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stitucionální financování, 2019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le RVVI a K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cké rozhod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  <a:ea typeface="Arial"/>
              </a:rPr>
              <a:t>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AA0C-A598-466D-9EC1-DEB9C6F72D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07800" y="1268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arm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41520" y="184464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0.2.2015 pracovní seminář s vybranými 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n-line administrativní a podpůrný systém APS, hel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eznamu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výstupů výzkumníků v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 výzkumníků do RU, přihlášení se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brat excelentní výsledky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15. bře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sebehodnotící zprávu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30. dub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ijmout expertní panel pro prezenční návštěvu HJ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do konce čer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4f81b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pracovat komentář k hodnotící zprávě, 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konec zá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CF65-D42C-42D5-B1E0-8227F0F5D1E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7"/>
          <p:cNvSpPr/>
          <p:nvPr/>
        </p:nvSpPr>
        <p:spPr>
          <a:xfrm>
            <a:off x="720720" y="60843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30039"/>
                </a:solidFill>
                <a:uFillTx/>
                <a:latin typeface="Arial"/>
                <a:ea typeface="Arial"/>
                <a:hlinkClick r:id="rId2"/>
              </a:rPr>
              <a:t>www.metodika.reformy-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6"/>
          <p:cNvSpPr/>
          <p:nvPr/>
        </p:nvSpPr>
        <p:spPr>
          <a:xfrm>
            <a:off x="1835280" y="443700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ez kvalitního hodnocení nebude kvalitní a efektivní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Obsa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3C5-9EC5-4BE7-8DBC-3F52E9B9F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4280" y="1646280"/>
            <a:ext cx="8496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jčastější námi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sta k NERO (National Evaluation of Research Organis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eřejná zakázka - Technopo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BE5-9475-4FC5-B129-20B3204516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20560" y="1268280"/>
            <a:ext cx="80679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1.5.2015 skonč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lnění zakázky bylo v souladu se smlou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chny dílčí a závěrečná zpráva byly MŠMT přij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 DZ – Hodnocení výzkumných 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 DZ – 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DZ – Malé pilotní ov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ečná zpráva: Summary Report + pří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moc při pilotním ověření realizovaném tý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zultace road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ání s nám. Marksem, seminář pro ČKR, vystoupení na RV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FB7-7B55-4DC8-A3D4-0DDD2D029E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0560" y="1585800"/>
            <a:ext cx="80679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n-line systém (ČVUT): bibliometrické zprávy pro VJ, sebeevaluační zprávy, vyžádané informace k 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sou obsazeny pozice v hlavních a hodnotících pane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 panelů je na webových stránká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librační schůzky 14.5.2015 (Eng&amp;Tech), 20.5.2015 (Humanities), 21.5.2015 (Nat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zení pozic hodnotitelů pro vybrané vý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36EA-2BCB-4466-A5E5-B413447FFA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brané hodnocen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6320" y="155736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é technologie Univerzity 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technologic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technologie ochrany prostředí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potravinářské a biochemické technologie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o-inženýrská VŠCHT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akulta chemická VUT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eyrovského ústav fyzikální chemie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chemických procesů AVČR,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ýzkumný ústav anorganické chemie Ústí n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Centrum organické chemie s.r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9920" y="1886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71400" y="4653000"/>
            <a:ext cx="55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istorický ústav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Ústav pro soudobé dějiny AV ČR v.v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Jihočeské univerzity České Budějo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Filosofická fakulta Univerzity Pard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technické muz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rodní arc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5"/>
          <p:cNvSpPr/>
          <p:nvPr/>
        </p:nvSpPr>
        <p:spPr>
          <a:xfrm>
            <a:off x="755640" y="1754280"/>
            <a:ext cx="4880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66F1-3553-4FD4-9478-E3BE6E085D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20560" y="1197000"/>
            <a:ext cx="80679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asedání hlavních a oborový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rpen - září, zprávy oborových a hlavních pan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ří – zpětná vazba hodnocený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28640"/>
          <a:ext cx="7128000" cy="3840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1319400"/>
              </a:tblGrid>
              <a:tr h="6102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Natural Sci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 Chem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.6. - 3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Biological Sci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. - 1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 rowSpan="4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Engineering and Technolo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 Chem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6. - 2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aterial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Environmental Engineer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 Industrial Biotechn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Humaniti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 History and Arche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. - 9.7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 Languages and Lit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 Philosophy, Ethics and Relig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Druhé pilotní ověře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1DD6-241A-4478-8885-375006861C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8040" y="1666800"/>
            <a:ext cx="80676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lastimil Růžička, garant K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. Vorel, prof. Mayer, ing. Kopř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ajemníci panelů (stud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nažerk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kono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lkem asi 80 zahraničních odbor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vštěv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69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administrativ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07800" y="1125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rsonální za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8DE2-8023-4E39-A3BA-955B7C692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07800" y="1630440"/>
            <a:ext cx="849816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max 1% z rozpočtu na institucionální podporu na přímé i nepřímé nákl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na současného hodnocení podle Metodiky není zná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známo, kolik prostředků se vynakládá </a:t>
            </a: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efektiv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ení odhad nepřímých nákladů (VB 83 %, Itálie 84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institucionální podpora 2015: 13 264 688 792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 toho: 355 848 945 (TA ČR, GA ČR, Úřad vlád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bývá: 12 908 819 847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1% z rozpočtu na institucionální podporu je cca 129 mil. Kč/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Nejčastější námit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7790040" y="6286680"/>
            <a:ext cx="785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58A-B3BA-4536-AA9D-B7E9024220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"/>
          <p:cNvSpPr/>
          <p:nvPr/>
        </p:nvSpPr>
        <p:spPr>
          <a:xfrm>
            <a:off x="608040" y="1125360"/>
            <a:ext cx="6843600" cy="0"/>
          </a:xfrm>
          <a:prstGeom prst="line">
            <a:avLst/>
          </a:prstGeom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2040" y="11253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Hodnocení bude příliš dra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4920" y="1816200"/>
            <a:ext cx="90360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elkové náklady závisí na cíli hodnocení a jeho detail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Obecné pravidlo: čím detailnější hodnocení, tím dražší, ale tím vyšší poměr výkon/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Přímé náklady závis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počtu jednání panelů, na kvalitě administrativní podpory, komunikaci přes internet (skype, telekonference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na zavedení návštěv panelů na mís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částí projektu je vypracování Studie proveditelnosti s posouzením různých var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Detailnost hodnocení je téma pro implementa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44:45Z</dcterms:created>
  <dc:creator>martina</dc:creator>
  <dc:description/>
  <dc:language>en-US</dc:language>
  <cp:lastModifiedBy>Moravcová Jitka</cp:lastModifiedBy>
  <dcterms:modified xsi:type="dcterms:W3CDTF">2015-06-26T06:27:08Z</dcterms:modified>
  <cp:revision>314</cp:revision>
  <dc:subject/>
  <dc:title>nadpis</dc:title>
</cp:coreProperties>
</file>