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DFD0-FF14-4390-848D-8BD4EDA13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E000-3E3A-4498-943C-9D1D3C78A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AF2-D802-465A-88A5-E28037524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77A-4E14-4542-A279-9B4182EBA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CC95-35AF-4CA3-9695-AC59FF9EA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D9DC-19B6-4B2B-9B40-C340CAA8F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CBDA-1741-4C21-AB77-8902310BF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45C0-5719-45FD-BF36-7CF58058A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2203-6EDC-4579-9DD3-FA6FF2DC3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C5E6-1447-4DC0-98C2-DCFED1FD2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3EFC-D63A-4141-B059-72203327A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46B-7300-4DE8-8846-4A4ABA9A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A1E-CAFE-4EC0-BFD7-FFEB7C4F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FDD-7F2F-40BF-956F-DAFC62F2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13C-29CC-4667-B450-EA6EE902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019-CF20-4F67-83EB-E2A34C4D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4FD-D1A8-4EDB-99F2-E5457CD6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091-F2FA-4DFA-B66D-8A53A85D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782-26DB-409C-A911-3D3CF720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082-4323-4692-BCA0-2C03FC09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475-A7A1-4E45-85AB-ECE3C4C6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7C8-24B3-4B7C-92D2-261953AC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4F8-89E4-4FA4-8205-1AA9C42B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F2D5-5617-4219-B42E-A1779473F6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2818-48FD-4469-BD82-6CA067584C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332000" y="4076640"/>
            <a:ext cx="6456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METODIKA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18. 12. 2018, Lichtenštejnský palác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F05B-B478-4B5B-A567-62A0BACD0E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1492-9413-4829-9629-6955BFE7E5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4E71-21F1-4D5C-BE33-BD1C8D4540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6, evidovaných v RIV k 1. 7.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F33F-BBD6-427F-85E0-11E893C933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060280"/>
            <a:ext cx="8686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 oborů podle OECD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rascati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ovým skupin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í se n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y FOR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ields of Research and Developement) např. 1.1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, místopředseda + 2 panelist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 každý obor F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03EA-9CBB-4B2E-A848-A4EE095726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hodné hodnotitele z databáze vybír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 pomocí aplikace SK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zení odsouhlasí druhý oborový paneli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vybraného kritéria 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68DB-355A-4612-9532-6A8DEEE246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vidováni v databáz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7AE0-562D-4630-AAA6-99E4A52001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5020-E15C-45D4-9374-2858948A11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2BE9-764E-4D79-B1E6-311AB785BF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472F-4510-4FE6-8452-5B6ECC8883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majer</cp:lastModifiedBy>
  <cp:lastPrinted>2018-03-13T15:15:38Z</cp:lastPrinted>
  <dcterms:modified xsi:type="dcterms:W3CDTF">2018-12-18T11:34:22Z</dcterms:modified>
  <cp:revision>109</cp:revision>
  <dc:subject/>
  <dc:title>Prezentace aplikace PowerPoint</dc:title>
</cp:coreProperties>
</file>