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7CD6-2FCF-4370-9CE5-5F943F222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D9A3-0510-4E35-8540-862553C20C5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E9F-816A-426D-BFDD-FCBED2595E3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70C-D1DD-4765-A727-FD4D9C60220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BA8-C5B7-49AF-999C-0226BDBF1B9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C70-5160-45CA-ACE2-18877266022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EE5B-2D1A-4FC4-A8A2-90143284245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A914-0651-4D5F-85B3-09C1D406C89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B1F3-227A-4399-83AA-C54B6E535E1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8AE-994B-411F-B354-0E1E8CCFA75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ED28-F673-4BA3-9A0D-45474905819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7CA3-005B-4721-ADCB-9E667227342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88E-6E9B-43E1-88B3-630EB032F58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BCC1-C7A2-4108-8879-E7BE2F44385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935-3C93-4376-BCC4-E904EC2E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B7A-8C70-47FE-9E72-D71E8B8B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633-7214-4649-AB8C-87C2AE6A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0C7-C4CE-43CF-9E2E-EF107C99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86C-E062-4D8D-BC1D-E1B8BF2E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E99-DB44-4A83-86AD-32FE607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3AC-7B8A-430B-B556-97E85A6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550-3531-44C1-A6EF-E4C4996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97B-25FF-4F6B-BF69-94E74A1D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A0D-B48D-4329-8D8A-AB533CC2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EA4-E815-4474-82CA-9702BBC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8523-329F-42B1-B48E-BA1A9DD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4701-CE5C-415F-A197-72438771E88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CB3D-B21F-424E-86A2-F1A3182FE9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7913-A2B5-4D2B-BF5F-DF46A0B5C3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8B7E-C461-45A3-A38A-BDC6B61C8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32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40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45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49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Pravoúhlá spojnice 63"/>
            <p:cNvCxnSpPr>
              <a:stCxn id="142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56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61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D48F-441B-4C4C-A2C5-05CD5BE79A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636E-55AA-4B55-AA48-DA68011F23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prvního autora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86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A3EA-BD52-4773-9AD9-8B83A2EE4C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úp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1BE-A550-49D5-800F-939D216D8F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bdélník 8"/>
          <p:cNvSpPr/>
          <p:nvPr/>
        </p:nvSpPr>
        <p:spPr>
          <a:xfrm>
            <a:off x="593640" y="5300640"/>
            <a:ext cx="592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STUP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1 + M2 národní úroveň (gesce ÚV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3 + M4 + M5 úroveň poskytovatelů (gesce resortů/AVČ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396720" y="1989000"/>
            <a:ext cx="77756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1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7668-D1E9-45A1-A647-92D1B4271A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6"/>
          <p:cNvSpPr/>
          <p:nvPr/>
        </p:nvSpPr>
        <p:spPr>
          <a:xfrm>
            <a:off x="395280" y="112536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M17+ v kompletní po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bdélník 4"/>
          <p:cNvSpPr/>
          <p:nvPr/>
        </p:nvSpPr>
        <p:spPr>
          <a:xfrm>
            <a:off x="604800" y="480708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bdélník 5"/>
          <p:cNvSpPr/>
          <p:nvPr/>
        </p:nvSpPr>
        <p:spPr>
          <a:xfrm>
            <a:off x="4572000" y="4797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819000" y="1844640"/>
            <a:ext cx="7137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8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E85A-7EB7-4055-975D-BA6C3ABDCA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604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Implementační fáz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17+ nabíhá postupně, panely/KHV/RVVI formulují požadavky na úprav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7632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35A9-BFBB-41F1-99FF-3AFFF6450B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50920" y="2060280"/>
            <a:ext cx="4608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+ M3 + M4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– H20,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M1+M2 bude zahájeno v průběhu roku 2019 (po zformulování doporučení plynoucích z Hodnocení 18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6"/>
          <p:cNvSpPr/>
          <p:nvPr/>
        </p:nvSpPr>
        <p:spPr>
          <a:xfrm>
            <a:off x="395280" y="1197000"/>
            <a:ext cx="8064360" cy="5814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78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Obdélník 15" descr=""/>
            <p:cNvPicPr/>
            <p:nvPr/>
          </p:nvPicPr>
          <p:blipFill>
            <a:blip r:embed="rId2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délník 16" descr=""/>
            <p:cNvPicPr/>
            <p:nvPr/>
          </p:nvPicPr>
          <p:blipFill>
            <a:blip r:embed="rId3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Obdélník 17" descr=""/>
            <p:cNvPicPr/>
            <p:nvPr/>
          </p:nvPicPr>
          <p:blipFill>
            <a:blip r:embed="rId4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4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53D3-74C3-4FD5-B0A3-3574202A25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67120" y="2204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 od letošního roku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od letošního rok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aždoroční 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98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Obdélník 30" descr=""/>
            <p:cNvPicPr/>
            <p:nvPr/>
          </p:nvPicPr>
          <p:blipFill>
            <a:blip r:embed="rId2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Obdélník 31" descr=""/>
            <p:cNvPicPr/>
            <p:nvPr/>
          </p:nvPicPr>
          <p:blipFill>
            <a:blip r:embed="rId3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Obdélník 32" descr=""/>
            <p:cNvPicPr/>
            <p:nvPr/>
          </p:nvPicPr>
          <p:blipFill>
            <a:blip r:embed="rId4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F1A2-0C28-4F69-8988-F01CA64BA4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FF5D-89C8-49EA-9AF8-6BA476AC18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23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645-BC97-4EA8-A336-7F2D465ACA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8-12-18T10:29:07Z</dcterms:modified>
  <cp:revision>157</cp:revision>
  <dc:subject/>
  <dc:title>Prezentace aplikace PowerPoint</dc:title>
</cp:coreProperties>
</file>