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392F7-D897-4ADC-9C6A-8D1236883C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Zástupný symbol pro zápatí 3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Zástupný symbol pro číslo snímku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6B585-B989-4383-9CAE-48A824813D25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C4108-E9B1-489F-ADE6-99279A22D1DA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6A99B-3096-4B64-AB44-387EDC6AC6B8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62033-4FC8-4A6B-8FDA-E498384D52C2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FCE8D-982A-4877-B8EF-17B0B35369C2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B127C-99F6-44EF-8377-90B0D64889E5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D907E-5C99-4CED-BA38-A5BF591A9183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40BC3-FE43-435E-AE2B-BCECC8B0A49C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C2703-B7D3-4F51-8392-BE076AA0210F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62AB3-96AD-4C9F-8D18-D12DA298ED81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FF446-AA33-4E2F-A186-F11E0E9D5908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7F9B9-12A6-4155-88B7-6473354C529C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4E2AB-93BF-44D7-85D8-C9B281CE997B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CB25-2654-480F-8183-BB06A306F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7E88-2507-4538-BFC5-CE6577E0C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456C-39D5-4671-BA70-FB5FE6211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764C-933A-4842-9F9F-6F6F9EE86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6EEA-A259-42FF-95B5-F907C56C3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792B-2D47-4B25-9BEE-C830016E6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BA6A-3B00-4035-A740-3E64FBEFB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8DBE-A6ED-4E91-987F-364EE3AE2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4438-4563-4BE4-834B-28927FCC6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904D-96F1-4224-95B1-C963204B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B45C-8734-46E8-A6FC-CDC11790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EB82-B8AB-4D24-922E-F5A6CFB0A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BA69F-0427-401C-85E0-9D01C8A40EE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9F846-0411-4235-9758-750CFB7A0E2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Bibliometrie 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Hodno</a:t>
            </a:r>
            <a:r>
              <a:rPr b="1" i="1" lang="cs-CZ" sz="4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en</a:t>
            </a:r>
            <a:r>
              <a:rPr b="1" i="1" lang="cs-CZ" sz="4400" spc="-1" strike="noStrike">
                <a:solidFill>
                  <a:srgbClr val="000000"/>
                </a:solidFill>
                <a:latin typeface="Calibri"/>
              </a:rPr>
              <a:t>í 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0" name="Zástupný symbol pro číslo snímku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ABD1E-1E27-4E3B-A7DF-09C1FEFCAFD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Obrázek 5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128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BBC31-0F98-4C28-9ABB-014D2DADC68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ovéPole 9"/>
          <p:cNvSpPr/>
          <p:nvPr/>
        </p:nvSpPr>
        <p:spPr>
          <a:xfrm>
            <a:off x="395280" y="1197000"/>
            <a:ext cx="8064360" cy="64260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  <a:ea typeface="Arial"/>
              </a:rPr>
              <a:t>Kumulativní analýz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8428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1" name="Plátno 1"/>
          <p:cNvGrpSpPr/>
          <p:nvPr/>
        </p:nvGrpSpPr>
        <p:grpSpPr>
          <a:xfrm>
            <a:off x="324000" y="1989000"/>
            <a:ext cx="8032680" cy="4584960"/>
            <a:chOff x="324000" y="1989000"/>
            <a:chExt cx="8032680" cy="4584960"/>
          </a:xfrm>
        </p:grpSpPr>
        <p:sp>
          <p:nvSpPr>
            <p:cNvPr id="132" name="Obdélník 50"/>
            <p:cNvSpPr/>
            <p:nvPr/>
          </p:nvSpPr>
          <p:spPr>
            <a:xfrm>
              <a:off x="324000" y="1989000"/>
              <a:ext cx="8032680" cy="458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bdélník 51"/>
            <p:cNvSpPr/>
            <p:nvPr/>
          </p:nvSpPr>
          <p:spPr>
            <a:xfrm>
              <a:off x="349200" y="2017440"/>
              <a:ext cx="1858680" cy="358164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bdélník 52"/>
            <p:cNvSpPr/>
            <p:nvPr/>
          </p:nvSpPr>
          <p:spPr>
            <a:xfrm>
              <a:off x="2208240" y="2009520"/>
              <a:ext cx="3049560" cy="3581640"/>
            </a:xfrm>
            <a:prstGeom prst="rect">
              <a:avLst/>
            </a:prstGeom>
            <a:solidFill>
              <a:srgbClr val="f2d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bdélník 53"/>
            <p:cNvSpPr/>
            <p:nvPr/>
          </p:nvSpPr>
          <p:spPr>
            <a:xfrm>
              <a:off x="5104080" y="2017440"/>
              <a:ext cx="3195720" cy="3581640"/>
            </a:xfrm>
            <a:prstGeom prst="rect">
              <a:avLst/>
            </a:prstGeom>
            <a:solidFill>
              <a:srgbClr val="ebf1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ové pole 5"/>
            <p:cNvSpPr/>
            <p:nvPr/>
          </p:nvSpPr>
          <p:spPr>
            <a:xfrm>
              <a:off x="374760" y="2082600"/>
              <a:ext cx="1787400" cy="44928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9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Hodnocení v roce 201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ové pole 5"/>
            <p:cNvSpPr/>
            <p:nvPr/>
          </p:nvSpPr>
          <p:spPr>
            <a:xfrm>
              <a:off x="2778120" y="2079360"/>
              <a:ext cx="1814400" cy="452160"/>
            </a:xfrm>
            <a:prstGeom prst="rect">
              <a:avLst/>
            </a:prstGeom>
            <a:solidFill>
              <a:srgbClr val="f2d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9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Hodnocení v roce 201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ové pole 5"/>
            <p:cNvSpPr/>
            <p:nvPr/>
          </p:nvSpPr>
          <p:spPr>
            <a:xfrm>
              <a:off x="5965920" y="2079360"/>
              <a:ext cx="1574640" cy="415800"/>
            </a:xfrm>
            <a:prstGeom prst="rect">
              <a:avLst/>
            </a:prstGeom>
            <a:solidFill>
              <a:srgbClr val="ebf1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9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Hodnocení v roce 2019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" name="Skupina 57"/>
            <p:cNvGrpSpPr/>
            <p:nvPr/>
          </p:nvGrpSpPr>
          <p:grpSpPr>
            <a:xfrm>
              <a:off x="641160" y="3656520"/>
              <a:ext cx="974520" cy="1943280"/>
              <a:chOff x="641160" y="3656520"/>
              <a:chExt cx="974520" cy="1943280"/>
            </a:xfrm>
          </p:grpSpPr>
          <p:sp>
            <p:nvSpPr>
              <p:cNvPr id="140" name="Obdélník 86"/>
              <p:cNvSpPr/>
              <p:nvPr/>
            </p:nvSpPr>
            <p:spPr>
              <a:xfrm>
                <a:off x="641160" y="3656520"/>
                <a:ext cx="974520" cy="1943280"/>
              </a:xfrm>
              <a:prstGeom prst="rect">
                <a:avLst/>
              </a:prstGeom>
              <a:solidFill>
                <a:srgbClr val="8eb4e3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Textové pole 12"/>
              <p:cNvSpPr/>
              <p:nvPr/>
            </p:nvSpPr>
            <p:spPr>
              <a:xfrm>
                <a:off x="745920" y="4563000"/>
                <a:ext cx="757080" cy="471600"/>
              </a:xfrm>
              <a:prstGeom prst="rect">
                <a:avLst/>
              </a:prstGeom>
              <a:solidFill>
                <a:srgbClr val="8eb4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1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9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propojená data 201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Textové pole 12"/>
              <p:cNvSpPr/>
              <p:nvPr/>
            </p:nvSpPr>
            <p:spPr>
              <a:xfrm>
                <a:off x="645840" y="3664440"/>
                <a:ext cx="969840" cy="407880"/>
              </a:xfrm>
              <a:prstGeom prst="rect">
                <a:avLst/>
              </a:prstGeom>
              <a:solidFill>
                <a:srgbClr val="f2dcdb"/>
              </a:solidFill>
              <a:ln w="22320">
                <a:solidFill>
                  <a:srgbClr val="000000">
                    <a:alpha val="9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9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nepropojená data 201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Obdélník 58"/>
            <p:cNvSpPr/>
            <p:nvPr/>
          </p:nvSpPr>
          <p:spPr>
            <a:xfrm>
              <a:off x="3421080" y="3649680"/>
              <a:ext cx="1469880" cy="1943280"/>
            </a:xfrm>
            <a:prstGeom prst="rect">
              <a:avLst/>
            </a:prstGeom>
            <a:solidFill>
              <a:srgbClr val="f2dcdb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Skupina 59"/>
            <p:cNvGrpSpPr/>
            <p:nvPr/>
          </p:nvGrpSpPr>
          <p:grpSpPr>
            <a:xfrm>
              <a:off x="2288520" y="3646080"/>
              <a:ext cx="974160" cy="1942560"/>
              <a:chOff x="2288520" y="3646080"/>
              <a:chExt cx="974160" cy="1942560"/>
            </a:xfrm>
          </p:grpSpPr>
          <p:sp>
            <p:nvSpPr>
              <p:cNvPr id="145" name="Obdélník 83"/>
              <p:cNvSpPr/>
              <p:nvPr/>
            </p:nvSpPr>
            <p:spPr>
              <a:xfrm>
                <a:off x="2288520" y="3646080"/>
                <a:ext cx="974160" cy="1942560"/>
              </a:xfrm>
              <a:prstGeom prst="rect">
                <a:avLst/>
              </a:prstGeom>
              <a:solidFill>
                <a:srgbClr val="f2dcdb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Textové pole 3"/>
              <p:cNvSpPr/>
              <p:nvPr/>
            </p:nvSpPr>
            <p:spPr>
              <a:xfrm>
                <a:off x="2393280" y="4619880"/>
                <a:ext cx="756720" cy="470160"/>
              </a:xfrm>
              <a:prstGeom prst="rect">
                <a:avLst/>
              </a:prstGeom>
              <a:solidFill>
                <a:srgbClr val="f2dc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15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9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propojená data 201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Textové pole 12"/>
              <p:cNvSpPr/>
              <p:nvPr/>
            </p:nvSpPr>
            <p:spPr>
              <a:xfrm>
                <a:off x="2293200" y="3654000"/>
                <a:ext cx="969480" cy="408240"/>
              </a:xfrm>
              <a:prstGeom prst="rect">
                <a:avLst/>
              </a:prstGeom>
              <a:solidFill>
                <a:srgbClr val="ebf1de"/>
              </a:solidFill>
              <a:ln w="22320">
                <a:solidFill>
                  <a:srgbClr val="000000">
                    <a:alpha val="9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15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9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nepropojená data 201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" name="Skupina 60"/>
            <p:cNvGrpSpPr/>
            <p:nvPr/>
          </p:nvGrpSpPr>
          <p:grpSpPr>
            <a:xfrm>
              <a:off x="5271840" y="3650400"/>
              <a:ext cx="974160" cy="1946880"/>
              <a:chOff x="5271840" y="3650400"/>
              <a:chExt cx="974160" cy="1946880"/>
            </a:xfrm>
          </p:grpSpPr>
          <p:sp>
            <p:nvSpPr>
              <p:cNvPr id="149" name="Obdélník 80"/>
              <p:cNvSpPr/>
              <p:nvPr/>
            </p:nvSpPr>
            <p:spPr>
              <a:xfrm>
                <a:off x="5271840" y="3655080"/>
                <a:ext cx="974160" cy="1942200"/>
              </a:xfrm>
              <a:prstGeom prst="rect">
                <a:avLst/>
              </a:prstGeom>
              <a:solidFill>
                <a:srgbClr val="ebf1de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Textové pole 3"/>
              <p:cNvSpPr/>
              <p:nvPr/>
            </p:nvSpPr>
            <p:spPr>
              <a:xfrm>
                <a:off x="5376240" y="4615920"/>
                <a:ext cx="756720" cy="471600"/>
              </a:xfrm>
              <a:prstGeom prst="rect">
                <a:avLst/>
              </a:prstGeom>
              <a:solidFill>
                <a:srgbClr val="ebf1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15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9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propojená data 201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ové pole 12"/>
              <p:cNvSpPr/>
              <p:nvPr/>
            </p:nvSpPr>
            <p:spPr>
              <a:xfrm>
                <a:off x="5276520" y="3650400"/>
                <a:ext cx="969480" cy="407880"/>
              </a:xfrm>
              <a:prstGeom prst="rect">
                <a:avLst/>
              </a:prstGeom>
              <a:solidFill>
                <a:srgbClr val="e6e0ec"/>
              </a:solidFill>
              <a:ln w="22320">
                <a:solidFill>
                  <a:srgbClr val="000000">
                    <a:alpha val="9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15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9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nepropojená data 201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Textové pole 3"/>
            <p:cNvSpPr/>
            <p:nvPr/>
          </p:nvSpPr>
          <p:spPr>
            <a:xfrm>
              <a:off x="3576600" y="4624560"/>
              <a:ext cx="1157040" cy="469800"/>
            </a:xfrm>
            <a:prstGeom prst="rect">
              <a:avLst/>
            </a:prstGeom>
            <a:solidFill>
              <a:srgbClr val="f2d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9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propojená data 2016 a 201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Přímá spojnice 62"/>
            <p:cNvSpPr/>
            <p:nvPr/>
          </p:nvSpPr>
          <p:spPr>
            <a:xfrm>
              <a:off x="4155840" y="3650400"/>
              <a:ext cx="0" cy="194256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4" name="Pravoúhlá spojnice 63"/>
            <p:cNvCxnSpPr>
              <a:stCxn id="142" idx="0"/>
            </p:cNvCxnSpPr>
            <p:nvPr/>
          </p:nvCxnSpPr>
          <p:spPr>
            <a:xfrm flipH="1" flipV="1" rot="5400000">
              <a:off x="2487960" y="1996560"/>
              <a:ext cx="309240" cy="3025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5" name="Přímá spojnice se šipkou 64"/>
            <p:cNvCxnSpPr/>
            <p:nvPr/>
          </p:nvCxnSpPr>
          <p:spPr>
            <a:xfrm flipH="1">
              <a:off x="4155120" y="3354840"/>
              <a:ext cx="1080" cy="207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56" name="Textové pole 41"/>
            <p:cNvSpPr/>
            <p:nvPr/>
          </p:nvSpPr>
          <p:spPr>
            <a:xfrm>
              <a:off x="3456000" y="5658120"/>
              <a:ext cx="1434960" cy="681120"/>
            </a:xfrm>
            <a:prstGeom prst="rect">
              <a:avLst/>
            </a:prstGeom>
            <a:solidFill>
              <a:srgbClr val="f2d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Hlavní analýz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kumulovaných dat 2016 a 201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9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 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bdélník 66"/>
            <p:cNvSpPr/>
            <p:nvPr/>
          </p:nvSpPr>
          <p:spPr>
            <a:xfrm>
              <a:off x="6380280" y="3649680"/>
              <a:ext cx="1836720" cy="1941480"/>
            </a:xfrm>
            <a:prstGeom prst="rect">
              <a:avLst/>
            </a:prstGeom>
            <a:solidFill>
              <a:srgbClr val="ebf1de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Přímá spojnice 67"/>
            <p:cNvSpPr/>
            <p:nvPr/>
          </p:nvSpPr>
          <p:spPr>
            <a:xfrm flipV="1">
              <a:off x="2776320" y="3085560"/>
              <a:ext cx="0" cy="56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Přímá spojnice 68"/>
            <p:cNvSpPr/>
            <p:nvPr/>
          </p:nvSpPr>
          <p:spPr>
            <a:xfrm>
              <a:off x="2776320" y="3085560"/>
              <a:ext cx="448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0" name="Přímá spojnice se šipkou 69"/>
            <p:cNvCxnSpPr/>
            <p:nvPr/>
          </p:nvCxnSpPr>
          <p:spPr>
            <a:xfrm>
              <a:off x="7263000" y="3085560"/>
              <a:ext cx="1080" cy="476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61" name="Textové pole 3"/>
            <p:cNvSpPr/>
            <p:nvPr/>
          </p:nvSpPr>
          <p:spPr>
            <a:xfrm>
              <a:off x="6553440" y="4619520"/>
              <a:ext cx="1492200" cy="469800"/>
            </a:xfrm>
            <a:prstGeom prst="rect">
              <a:avLst/>
            </a:prstGeom>
            <a:solidFill>
              <a:srgbClr val="ebf1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9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propojená data 2016, 2017 a 201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Přímá spojnice 71"/>
            <p:cNvSpPr/>
            <p:nvPr/>
          </p:nvSpPr>
          <p:spPr>
            <a:xfrm>
              <a:off x="6968520" y="3668400"/>
              <a:ext cx="0" cy="194148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Přímá spojnice 72"/>
            <p:cNvSpPr/>
            <p:nvPr/>
          </p:nvSpPr>
          <p:spPr>
            <a:xfrm>
              <a:off x="7613640" y="3668400"/>
              <a:ext cx="0" cy="194148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Přímá spojnice 73"/>
            <p:cNvSpPr/>
            <p:nvPr/>
          </p:nvSpPr>
          <p:spPr>
            <a:xfrm flipV="1">
              <a:off x="5794200" y="2820600"/>
              <a:ext cx="0" cy="82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Přímá spojnice 74"/>
            <p:cNvSpPr/>
            <p:nvPr/>
          </p:nvSpPr>
          <p:spPr>
            <a:xfrm>
              <a:off x="5794200" y="2820600"/>
              <a:ext cx="2504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ové pole 41"/>
            <p:cNvSpPr/>
            <p:nvPr/>
          </p:nvSpPr>
          <p:spPr>
            <a:xfrm>
              <a:off x="6521760" y="5658120"/>
              <a:ext cx="1695240" cy="790560"/>
            </a:xfrm>
            <a:prstGeom prst="rect">
              <a:avLst/>
            </a:prstGeom>
            <a:solidFill>
              <a:srgbClr val="ebf1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Hlavní analýz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kumulovaných dat 2016, 2017 a 201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9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 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bdélník 76"/>
            <p:cNvSpPr/>
            <p:nvPr/>
          </p:nvSpPr>
          <p:spPr>
            <a:xfrm>
              <a:off x="349200" y="2017440"/>
              <a:ext cx="7950240" cy="3581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ové pole 41"/>
            <p:cNvSpPr/>
            <p:nvPr/>
          </p:nvSpPr>
          <p:spPr>
            <a:xfrm>
              <a:off x="633240" y="5658120"/>
              <a:ext cx="977760" cy="47124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Jednoroční analýz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ové pole 41"/>
            <p:cNvSpPr/>
            <p:nvPr/>
          </p:nvSpPr>
          <p:spPr>
            <a:xfrm>
              <a:off x="2284560" y="5658120"/>
              <a:ext cx="977760" cy="471240"/>
            </a:xfrm>
            <a:prstGeom prst="rect">
              <a:avLst/>
            </a:prstGeom>
            <a:solidFill>
              <a:srgbClr val="f2d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Jednoroční analýz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ové pole 41"/>
            <p:cNvSpPr/>
            <p:nvPr/>
          </p:nvSpPr>
          <p:spPr>
            <a:xfrm>
              <a:off x="5278680" y="5659560"/>
              <a:ext cx="977760" cy="469800"/>
            </a:xfrm>
            <a:prstGeom prst="rect">
              <a:avLst/>
            </a:prstGeom>
            <a:solidFill>
              <a:srgbClr val="ebf1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Jednoroční analýz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173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D7F31-8A01-44C4-9FA0-4F0B31088DB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ovéPole 9"/>
          <p:cNvSpPr/>
          <p:nvPr/>
        </p:nvSpPr>
        <p:spPr>
          <a:xfrm>
            <a:off x="395280" y="1197000"/>
            <a:ext cx="8064360" cy="64260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  <a:ea typeface="Arial"/>
              </a:rPr>
              <a:t>Oborové převodníky - aktualiz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844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Převodníky</a:t>
            </a: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WoS a nově Scop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Multioborové časopisy – přístup je zachová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Zaoblený obdélník 4"/>
          <p:cNvSpPr/>
          <p:nvPr/>
        </p:nvSpPr>
        <p:spPr>
          <a:xfrm>
            <a:off x="1187280" y="2060640"/>
            <a:ext cx="2448000" cy="1081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Calibri"/>
              </a:rPr>
              <a:t>Web of Sc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WoS categories fields (252)</a:t>
            </a:r>
            <a:r>
              <a:rPr b="1" lang="cs-CZ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Zaoblený obdélník 8"/>
          <p:cNvSpPr/>
          <p:nvPr/>
        </p:nvSpPr>
        <p:spPr>
          <a:xfrm>
            <a:off x="5219640" y="2060640"/>
            <a:ext cx="2448000" cy="1081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Calibri"/>
              </a:rPr>
              <a:t>Scop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All Science Journal Class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(27/327)</a:t>
            </a:r>
            <a:r>
              <a:rPr b="1" lang="cs-CZ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Zaoblený obdélník 10"/>
          <p:cNvSpPr/>
          <p:nvPr/>
        </p:nvSpPr>
        <p:spPr>
          <a:xfrm>
            <a:off x="3014640" y="2847960"/>
            <a:ext cx="2852640" cy="144468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Calibri"/>
              </a:rPr>
              <a:t>OE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elds of Research and Develo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(4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181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C6154-86C4-40CB-BE5F-7596E2F279B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ovéPole 9"/>
          <p:cNvSpPr/>
          <p:nvPr/>
        </p:nvSpPr>
        <p:spPr>
          <a:xfrm>
            <a:off x="395280" y="1197000"/>
            <a:ext cx="8064360" cy="64260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  <a:ea typeface="Arial"/>
              </a:rPr>
              <a:t>Nové ukazatele z W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95280" y="198864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oplnění mezinárodního srovnání o vybrané země (EU 1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ezinárodní spolupráce na publikací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Identifikace výsledků s velkým počtem spoluautorů (30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Identifikace prvního autora – použitelné pouze pro některé obor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186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EBFB8-8C67-476A-8547-490DEE93FE7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ovéPole 9"/>
          <p:cNvSpPr/>
          <p:nvPr/>
        </p:nvSpPr>
        <p:spPr>
          <a:xfrm>
            <a:off x="395280" y="1197000"/>
            <a:ext cx="8064360" cy="64260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  <a:ea typeface="Arial"/>
              </a:rPr>
              <a:t>Další úpra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95280" y="198864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Analýza Scopus nejen na úroveň oborů a oborových skupin, ale též pro V.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oskytnuté doplňující údaje budou obsahovat více informací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říprava doplňujícího podkladu pro V.O. (umožní analýzu na úroveň organizačních jednotek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ávrh řešení hodnocení výsledků uplatněných před rokem 2016, které nebyly hodnoceny ani předchozí metodikou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ývoj nové aplikace pro tvorbu výstupů (2018); příprava webu pro zprostředkování výstupů (léto 2019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54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DC6D6-6B96-4D85-BFB4-8F3D1C48C50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95280" y="1988640"/>
            <a:ext cx="822960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ovéPole 6"/>
          <p:cNvSpPr/>
          <p:nvPr/>
        </p:nvSpPr>
        <p:spPr>
          <a:xfrm>
            <a:off x="395280" y="1197000"/>
            <a:ext cx="8064360" cy="45972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Časová osa M17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bdélník 8"/>
          <p:cNvSpPr/>
          <p:nvPr/>
        </p:nvSpPr>
        <p:spPr>
          <a:xfrm>
            <a:off x="593640" y="5300640"/>
            <a:ext cx="592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VSTUP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M1 + M2 národní úroveň (gesce ÚVČ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M3 + M4 + M5 úroveň poskytovatelů (gesce resortů/AVČR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0" descr=""/>
          <p:cNvPicPr/>
          <p:nvPr/>
        </p:nvPicPr>
        <p:blipFill>
          <a:blip r:embed="rId2"/>
          <a:stretch/>
        </p:blipFill>
        <p:spPr>
          <a:xfrm>
            <a:off x="396720" y="1989000"/>
            <a:ext cx="7775640" cy="32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61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A3C8E-1BF6-4E9B-AEA8-E8AAA6841B7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ovéPole 6"/>
          <p:cNvSpPr/>
          <p:nvPr/>
        </p:nvSpPr>
        <p:spPr>
          <a:xfrm>
            <a:off x="395280" y="1125360"/>
            <a:ext cx="8064360" cy="52056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M17+ v kompletní podob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bdélník 4"/>
          <p:cNvSpPr/>
          <p:nvPr/>
        </p:nvSpPr>
        <p:spPr>
          <a:xfrm>
            <a:off x="604800" y="4807080"/>
            <a:ext cx="396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Každoroční hodnocení (M1+M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elativně jednoduch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onitorovací a indikativní r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stupná tvorba jednoho z podkladů pro kompletní hodnoc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bdélník 5"/>
          <p:cNvSpPr/>
          <p:nvPr/>
        </p:nvSpPr>
        <p:spPr>
          <a:xfrm>
            <a:off x="4572000" y="4797360"/>
            <a:ext cx="39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Kompletní hodnocení (všechny modu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ouhrn M1+M2 za předchozí ro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zhodný dopad na financov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819000" y="1844640"/>
            <a:ext cx="7137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68" name="Zástupný symbol pro číslo snímku 7"/>
          <p:cNvSpPr/>
          <p:nvPr/>
        </p:nvSpPr>
        <p:spPr>
          <a:xfrm>
            <a:off x="651672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A2497-6D43-494E-8FE3-D65E3BFCE78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46040" y="1988640"/>
            <a:ext cx="822960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Implementační fáz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M17+ nabíhá postupně, panely/KHV/RVVI formulují požadavky na úprav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ovéPole 6"/>
          <p:cNvSpPr/>
          <p:nvPr/>
        </p:nvSpPr>
        <p:spPr>
          <a:xfrm>
            <a:off x="395280" y="1197000"/>
            <a:ext cx="8064360" cy="52056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Implement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"/>
          <p:cNvPicPr/>
          <p:nvPr/>
        </p:nvPicPr>
        <p:blipFill>
          <a:blip r:embed="rId2"/>
          <a:stretch/>
        </p:blipFill>
        <p:spPr>
          <a:xfrm>
            <a:off x="611280" y="2133720"/>
            <a:ext cx="76327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74" name="Zástupný symbol pro číslo snímku 7"/>
          <p:cNvSpPr/>
          <p:nvPr/>
        </p:nvSpPr>
        <p:spPr>
          <a:xfrm>
            <a:off x="651672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D3EFB-5B32-4152-9B2A-02BACDDC6AF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850920" y="2060280"/>
            <a:ext cx="46083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M2 + M3 + M4  úroveň poskytovatel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řipraveno/realizováno AVČR a podstatná část resort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bytek rezortů dokončí v roce 2019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MŠMT později – H20, podoba modulů M3, M4 a M5 má být schválena v září 201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M1+M2 národní úroveň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Nadefinování  M1+M2 bude zahájeno v průběhu roku 2019 (po zformulování doporučení plynoucích z Hodnocení 18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chodiskem jsou každoročně realizované M1 a M2 upravené pro potřeby velkého hodnocení. Napříkla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M1 nebude odlišovat bibliometrické/nebibliometrické výsledky, vydefinování časového okna pro aplikované výsledky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M2 v bibliometrii použije více indikátorů (zejména analýzy na úroveň citačního dopadu článků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ovéPole 6"/>
          <p:cNvSpPr/>
          <p:nvPr/>
        </p:nvSpPr>
        <p:spPr>
          <a:xfrm>
            <a:off x="395280" y="1197000"/>
            <a:ext cx="8064360" cy="58140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Implementace M17+      </a:t>
            </a:r>
            <a:r>
              <a:rPr b="1" i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Kompletní hodnocení</a:t>
            </a:r>
            <a:r>
              <a:rPr b="1" i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Plátno 343"/>
          <p:cNvGrpSpPr/>
          <p:nvPr/>
        </p:nvGrpSpPr>
        <p:grpSpPr>
          <a:xfrm>
            <a:off x="603360" y="2535120"/>
            <a:ext cx="2940120" cy="2508480"/>
            <a:chOff x="603360" y="2535120"/>
            <a:chExt cx="2940120" cy="2508480"/>
          </a:xfrm>
        </p:grpSpPr>
        <p:sp>
          <p:nvSpPr>
            <p:cNvPr id="78" name="Obdélník 10"/>
            <p:cNvSpPr/>
            <p:nvPr/>
          </p:nvSpPr>
          <p:spPr>
            <a:xfrm>
              <a:off x="731160" y="2535120"/>
              <a:ext cx="2812320" cy="250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ové pole 2"/>
            <p:cNvSpPr/>
            <p:nvPr/>
          </p:nvSpPr>
          <p:spPr>
            <a:xfrm>
              <a:off x="1007640" y="3149640"/>
              <a:ext cx="382680" cy="17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8000"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H1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ové pole 2"/>
            <p:cNvSpPr/>
            <p:nvPr/>
          </p:nvSpPr>
          <p:spPr>
            <a:xfrm>
              <a:off x="2702160" y="3074760"/>
              <a:ext cx="38268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9000"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H2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ové pole 2"/>
            <p:cNvSpPr/>
            <p:nvPr/>
          </p:nvSpPr>
          <p:spPr>
            <a:xfrm>
              <a:off x="2161800" y="3151080"/>
              <a:ext cx="38268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8000"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H1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ové pole 2"/>
            <p:cNvSpPr/>
            <p:nvPr/>
          </p:nvSpPr>
          <p:spPr>
            <a:xfrm>
              <a:off x="1596960" y="3151080"/>
              <a:ext cx="38268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8000"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c00000"/>
                  </a:solidFill>
                  <a:latin typeface="Arial"/>
                  <a:ea typeface="Arial"/>
                </a:rPr>
                <a:t>H1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Obdélník 15" descr=""/>
            <p:cNvPicPr/>
            <p:nvPr/>
          </p:nvPicPr>
          <p:blipFill>
            <a:blip r:embed="rId2"/>
            <a:stretch/>
          </p:blipFill>
          <p:spPr>
            <a:xfrm>
              <a:off x="603360" y="2590560"/>
              <a:ext cx="2810520" cy="80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Obdélník 16" descr=""/>
            <p:cNvPicPr/>
            <p:nvPr/>
          </p:nvPicPr>
          <p:blipFill>
            <a:blip r:embed="rId3"/>
            <a:stretch/>
          </p:blipFill>
          <p:spPr>
            <a:xfrm>
              <a:off x="2440080" y="3663720"/>
              <a:ext cx="880200" cy="109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Obdélník 17" descr=""/>
            <p:cNvPicPr/>
            <p:nvPr/>
          </p:nvPicPr>
          <p:blipFill>
            <a:blip r:embed="rId4"/>
            <a:stretch/>
          </p:blipFill>
          <p:spPr>
            <a:xfrm>
              <a:off x="777960" y="3663720"/>
              <a:ext cx="1632600" cy="55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Přímá spojnice 18"/>
            <p:cNvSpPr/>
            <p:nvPr/>
          </p:nvSpPr>
          <p:spPr>
            <a:xfrm>
              <a:off x="1198800" y="3354120"/>
              <a:ext cx="0" cy="17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Přímá spojnice 19"/>
            <p:cNvSpPr/>
            <p:nvPr/>
          </p:nvSpPr>
          <p:spPr>
            <a:xfrm>
              <a:off x="1788120" y="3354120"/>
              <a:ext cx="0" cy="17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Přímá spojnice 20"/>
            <p:cNvSpPr/>
            <p:nvPr/>
          </p:nvSpPr>
          <p:spPr>
            <a:xfrm>
              <a:off x="2351520" y="3354120"/>
              <a:ext cx="0" cy="169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Přímá spojnice 21"/>
            <p:cNvSpPr/>
            <p:nvPr/>
          </p:nvSpPr>
          <p:spPr>
            <a:xfrm>
              <a:off x="2895120" y="3273480"/>
              <a:ext cx="0" cy="33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Přímá spojnice 22"/>
            <p:cNvSpPr/>
            <p:nvPr/>
          </p:nvSpPr>
          <p:spPr>
            <a:xfrm>
              <a:off x="778320" y="3441600"/>
              <a:ext cx="251604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ál 23"/>
            <p:cNvSpPr/>
            <p:nvPr/>
          </p:nvSpPr>
          <p:spPr>
            <a:xfrm>
              <a:off x="2304360" y="3011400"/>
              <a:ext cx="1209960" cy="20181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94" name="Zástupný symbol pro číslo snímku 7"/>
          <p:cNvSpPr/>
          <p:nvPr/>
        </p:nvSpPr>
        <p:spPr>
          <a:xfrm>
            <a:off x="651672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E2D8C-5483-4D6C-843B-D2BBFD3983F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67120" y="2204640"/>
            <a:ext cx="4608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M1 (vybrané výsledky) od letošního roku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Hodnotí se podle obou kritérií (společenská relevance i přínos k poznání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M2 (bibliometrie) od letošního rok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Rozšíření sledovaných parametr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avedení kumulativních (víceletých) analý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ovéPole 6"/>
          <p:cNvSpPr/>
          <p:nvPr/>
        </p:nvSpPr>
        <p:spPr>
          <a:xfrm>
            <a:off x="395280" y="1197000"/>
            <a:ext cx="8064360" cy="52056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Implementace M17+     </a:t>
            </a:r>
            <a:r>
              <a:rPr b="1" i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Každoroční hodnocení H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Plátno 343"/>
          <p:cNvGrpSpPr/>
          <p:nvPr/>
        </p:nvGrpSpPr>
        <p:grpSpPr>
          <a:xfrm>
            <a:off x="395280" y="2637000"/>
            <a:ext cx="3016080" cy="2801880"/>
            <a:chOff x="395280" y="2637000"/>
            <a:chExt cx="3016080" cy="2801880"/>
          </a:xfrm>
        </p:grpSpPr>
        <p:sp>
          <p:nvSpPr>
            <p:cNvPr id="98" name="Obdélník 25"/>
            <p:cNvSpPr/>
            <p:nvPr/>
          </p:nvSpPr>
          <p:spPr>
            <a:xfrm>
              <a:off x="453960" y="2938680"/>
              <a:ext cx="2957400" cy="25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ové pole 2"/>
            <p:cNvSpPr/>
            <p:nvPr/>
          </p:nvSpPr>
          <p:spPr>
            <a:xfrm>
              <a:off x="811800" y="3192120"/>
              <a:ext cx="392040" cy="17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8000"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H1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ové pole 2"/>
            <p:cNvSpPr/>
            <p:nvPr/>
          </p:nvSpPr>
          <p:spPr>
            <a:xfrm>
              <a:off x="2549160" y="3117240"/>
              <a:ext cx="392040" cy="17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8000"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H2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ové pole 2"/>
            <p:cNvSpPr/>
            <p:nvPr/>
          </p:nvSpPr>
          <p:spPr>
            <a:xfrm>
              <a:off x="1995120" y="3193200"/>
              <a:ext cx="392040" cy="17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8000"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H1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ové pole 2"/>
            <p:cNvSpPr/>
            <p:nvPr/>
          </p:nvSpPr>
          <p:spPr>
            <a:xfrm>
              <a:off x="1415880" y="3193200"/>
              <a:ext cx="392040" cy="17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8000"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c00000"/>
                  </a:solidFill>
                  <a:latin typeface="Arial"/>
                  <a:ea typeface="Arial"/>
                </a:rPr>
                <a:t>H1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3" name="Obdélník 30" descr=""/>
            <p:cNvPicPr/>
            <p:nvPr/>
          </p:nvPicPr>
          <p:blipFill>
            <a:blip r:embed="rId2"/>
            <a:stretch/>
          </p:blipFill>
          <p:spPr>
            <a:xfrm>
              <a:off x="395280" y="2637000"/>
              <a:ext cx="2886840" cy="79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Obdélník 31" descr=""/>
            <p:cNvPicPr/>
            <p:nvPr/>
          </p:nvPicPr>
          <p:blipFill>
            <a:blip r:embed="rId3"/>
            <a:stretch/>
          </p:blipFill>
          <p:spPr>
            <a:xfrm>
              <a:off x="2278080" y="3706200"/>
              <a:ext cx="902520" cy="10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Obdélník 32" descr=""/>
            <p:cNvPicPr/>
            <p:nvPr/>
          </p:nvPicPr>
          <p:blipFill>
            <a:blip r:embed="rId4"/>
            <a:stretch/>
          </p:blipFill>
          <p:spPr>
            <a:xfrm>
              <a:off x="574560" y="3700080"/>
              <a:ext cx="1679400" cy="55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Přímá spojnice 33"/>
            <p:cNvSpPr/>
            <p:nvPr/>
          </p:nvSpPr>
          <p:spPr>
            <a:xfrm>
              <a:off x="1008000" y="3396240"/>
              <a:ext cx="0" cy="170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Přímá spojnice 34"/>
            <p:cNvSpPr/>
            <p:nvPr/>
          </p:nvSpPr>
          <p:spPr>
            <a:xfrm>
              <a:off x="1612080" y="3396240"/>
              <a:ext cx="0" cy="170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Přímá spojnice 35"/>
            <p:cNvSpPr/>
            <p:nvPr/>
          </p:nvSpPr>
          <p:spPr>
            <a:xfrm>
              <a:off x="2189520" y="3396240"/>
              <a:ext cx="0" cy="169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Přímá spojnice 36"/>
            <p:cNvSpPr/>
            <p:nvPr/>
          </p:nvSpPr>
          <p:spPr>
            <a:xfrm>
              <a:off x="2746800" y="3315600"/>
              <a:ext cx="0" cy="330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Přímá spojnice 37"/>
            <p:cNvSpPr/>
            <p:nvPr/>
          </p:nvSpPr>
          <p:spPr>
            <a:xfrm>
              <a:off x="577080" y="3483360"/>
              <a:ext cx="257904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ál 38"/>
            <p:cNvSpPr/>
            <p:nvPr/>
          </p:nvSpPr>
          <p:spPr>
            <a:xfrm>
              <a:off x="528480" y="2923200"/>
              <a:ext cx="1858320" cy="20203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114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85E2F-745E-48CA-8474-B084AB6903B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ovéPole 9"/>
          <p:cNvSpPr/>
          <p:nvPr/>
        </p:nvSpPr>
        <p:spPr>
          <a:xfrm>
            <a:off x="395280" y="1197000"/>
            <a:ext cx="8064360" cy="52056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H18: hlavní nezměněné parametry pro bibliometr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989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AIS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Web of Science) a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SJR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Scopu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ledování v pásmech (kvartily, decil, mediá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elační přístup (oborový, mezi/národní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pojování RIV s citačními databázem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stupy jsou obdobné (inovované o nové parametry)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119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B9773-27E2-4CDC-AFE2-C71B56A9EF0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ovéPole 9"/>
          <p:cNvSpPr/>
          <p:nvPr/>
        </p:nvSpPr>
        <p:spPr>
          <a:xfrm>
            <a:off x="395280" y="2924280"/>
            <a:ext cx="8064360" cy="64260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  <a:ea typeface="Arial"/>
              </a:rPr>
              <a:t>Hlavní úpravy bibliometrie pro H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123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75E07-990D-440C-A51D-C0B9FFD9CC2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ovéPole 9"/>
          <p:cNvSpPr/>
          <p:nvPr/>
        </p:nvSpPr>
        <p:spPr>
          <a:xfrm>
            <a:off x="395280" y="1197000"/>
            <a:ext cx="8064360" cy="64260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  <a:ea typeface="Arial"/>
              </a:rPr>
              <a:t>Propojení d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23640" y="2133360"/>
            <a:ext cx="8569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RIV </a:t>
            </a:r>
            <a:r>
              <a:rPr b="0" lang="cs-CZ" sz="2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 WoS/Scopus na základě </a:t>
            </a:r>
            <a:r>
              <a:rPr b="1" lang="cs-CZ" sz="2900" spc="-1" strike="noStrike">
                <a:solidFill>
                  <a:srgbClr val="000000"/>
                </a:solidFill>
                <a:latin typeface="Calibri"/>
              </a:rPr>
              <a:t>ID publikací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39168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Calibri"/>
              </a:rPr>
              <a:t>Neanalyzované výsledky jsou identifikovány ve dvou kategoriích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39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časopisy bez indikátoru AIS/SJ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konzistentní úda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168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Calibri"/>
              </a:rPr>
              <a:t>Nepropojené výsledky</a:t>
            </a: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 přenos do dalšího cyklu hodnocení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2T14:41:20Z</dcterms:created>
  <dc:creator>Miholová Kateřina</dc:creator>
  <dc:description/>
  <dc:language>en-US</dc:language>
  <cp:lastModifiedBy>Nekorjak Michal</cp:lastModifiedBy>
  <cp:lastPrinted>2018-11-19T13:34:56Z</cp:lastPrinted>
  <dcterms:modified xsi:type="dcterms:W3CDTF">2018-12-18T10:29:07Z</dcterms:modified>
  <cp:revision>157</cp:revision>
  <dc:subject/>
  <dc:title>Prezentace aplikace PowerPoint</dc:title>
</cp:coreProperties>
</file>