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2207-2EB5-4C01-A1A3-6CA37608E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F022-F052-4AC5-B43B-1D73C18F3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DB9E-708F-4D31-8521-E80B88327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C756-95AA-4CD2-89A0-A4339E341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3D15-B751-4D0D-B47C-9CA5436D4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080C-D836-4F21-8B32-A24536504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FD7A-F1B7-40D3-A51E-0AE0C1470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FD35-614B-46C7-99EE-F68566091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BAE9-0DDF-49FD-ADC7-21E4EBA0E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3740-08B4-4644-A996-D60B9F808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9C4C-5721-4D21-8EF6-E02CCDEAB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F4D-655D-4132-9080-CE649F17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9CC-2E20-4648-9020-FCB1FDA0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ECA-06BB-48BF-81A6-FDF85C9A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B79-8793-40A7-B520-089E1FC7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B37-F6D2-452D-BF9A-5B40DC04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2B4-4916-449F-B259-1592DAF3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DBE-7790-43BE-9B42-24D90984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AAE-41CB-446C-8B56-5226632E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F5E-3174-4112-8140-C9F120FA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3BAD-09B8-48EA-80BD-40E60C2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0C6-DE10-4B34-AF6C-5D145550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76E0-4D82-42EC-AF0A-B1D586E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C258-5C89-48FA-B04E-681F62ECA3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80E1-55B4-474F-9E25-B3319D8B01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332000" y="4076640"/>
            <a:ext cx="645624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METODIKA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18. 12. 2018, Lichtenštejnský palác,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EB99-EDC9-4993-AC3F-B6279C5ED9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5218-DE34-4DFE-8FF4-A6A964591D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862A-5D63-4B33-8A0B-F989225CCD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6, evidovaných v RIV k 1. 7.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EDDA-969F-4BBC-B857-B6A7608B9C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060280"/>
            <a:ext cx="8686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ení oborů podle OECD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rascati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ovým skupiná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í se n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y FOR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ields of Research and Developement) např. 1.1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, místopředseda + 2 panelist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 každý obor F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F76F-AA0E-49BD-95AB-D329D21F11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hodné hodnotitele z databáze vybír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 pomocí aplikace SK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zení odsouhlasí druhý oborový paneli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vybraného kritéria 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518D-4458-4BB9-86C7-D40A5FA3C4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vidováni v databáz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BC15-CC09-485B-945C-53DCB33EF7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81E2-3F1F-46EC-A5F1-9F60F18E34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3229-9C05-45F6-9201-5D8582F402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D793-2CF9-43C9-8BBA-57F7495622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majer</cp:lastModifiedBy>
  <cp:lastPrinted>2018-03-13T15:15:38Z</cp:lastPrinted>
  <dcterms:modified xsi:type="dcterms:W3CDTF">2018-12-18T11:34:22Z</dcterms:modified>
  <cp:revision>109</cp:revision>
  <dc:subject/>
  <dc:title>Prezentace aplikace PowerPoint</dc:title>
</cp:coreProperties>
</file>