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B470-7AEA-4905-A42D-0ACAF48F1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2CE2-0F06-4120-B272-36EDD9415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3C47-E604-4F76-AB81-03311A5B3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801-B794-4B93-AF6E-7FC4DDBBE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1E5-CC87-4E28-B77F-1D64BFAA5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76B-3DC4-44EA-A5F7-B05DC34D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DC6-02F6-4A9F-8B78-39456295D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C4A-F27C-4FB8-AA78-B76807830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E1C8-9A84-4CC8-8B3E-DD2544401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4E0-03E1-4B60-83A5-1C20B2D5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9C1-5F85-4B88-B78A-DD634A36D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C52-79BB-42EC-B186-54509331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887-17A3-40A8-800D-68884861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88F-7543-4345-8206-9703F732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59E-4BC7-4D99-BEF6-F8C51674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437-6DCC-4934-BF93-A3BEE704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75D-CC12-4893-9047-D701E0BF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7B4-98EC-4D7E-80E4-A1290B1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18C-182C-4384-A532-3D7FF868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0F1-F98C-48F3-ADA8-5480A99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1F2-2319-46C3-809B-FD911F6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815-DB44-4DD6-B978-E5D66CC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85B-A02C-4E6D-8E84-3C58216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26F-80C0-469E-9988-CC935B3CBD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889A-6F2D-47ED-B606-5252CA379A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listopadu 2018, 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0AC5-3961-4010-8CC8-CC7C98EB56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1F26-B70B-4CDE-8A53-521A1311DC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F8B-2428-4278-82F1-14CB5C2EF8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10C-0F51-4E68-966C-49EC704ED1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evidováni v databázi 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339-598B-4155-ABE0-677C7C4C3F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oborovým skupinám podle OECD (Frascati Manu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předseda, místopředseda + 2 panelisté za každý obor FORD (Fields of Research and Developement, např. 1.1 Mathematics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užití odborníků se zkušenostmi s hodnocením AV ČR, EP a OV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260-A40D-4535-8E4D-361ABD2020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dí (po odsouhlasení druhým oborovým panelistou) s pomocí aplikace SKV k výsledkům vhodné hodnotitele z databáz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podle vybraného kritéria  hodnocení 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FC9-0D69-4665-B8A5-F8B3FFEE95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875F-E108-4752-B679-0E948DF2B0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D847-3645-40E6-8E0E-E994A8CCC7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139A-F879-435E-A635-A1E53CA3A8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Pávková Markéta</cp:lastModifiedBy>
  <cp:lastPrinted>2018-03-13T15:15:38Z</cp:lastPrinted>
  <dcterms:modified xsi:type="dcterms:W3CDTF">2018-11-22T15:31:57Z</dcterms:modified>
  <cp:revision>97</cp:revision>
  <dc:subject/>
  <dc:title>Prezentace aplikace PowerPoint</dc:title>
</cp:coreProperties>
</file>