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C059-4333-46E7-80BC-7331CCCBB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68D3-D580-4EC2-9FBB-FC787D3FD245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ABDB-99DA-4CF2-90A8-ACAA5BB8B652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BC6B-97D6-45F1-8948-E07926C4DBE6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5408-FBDA-4986-B817-56470782270D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3935-63DB-49C0-86A2-AE9530D67F57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6B58-A837-4321-AD41-9F0D8506278F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909A-ABA1-40CE-AD9B-B7A314FDD881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E73A-9887-47D8-8BBB-1E9E1C98676B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026E-2D68-4A30-A2FD-1D0CCAAC37E4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FC73-7FFE-43E8-9B64-413AA7B49789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D084-B520-4811-9BCF-2B9FAE1865B4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8CC6-CFEC-4FCE-AD02-27CC6981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DBDA-9A58-45BC-9974-E64DA8ED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D660-3DBE-475C-AE75-DA80AFA8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720E-2EE6-4AF1-BD40-25F34C89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A105-ACFC-4E63-99C9-0DAA547F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6C99-5C46-401A-8C2A-EE20D4EF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38B1-003D-4E33-8D1C-2AD5B36E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D0B6-A455-46D6-A1CE-8FB0DE5A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890F-62E8-4A77-A8B1-0CF27499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0006-1232-453C-8FC4-30DDEA9B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5B62-979D-439D-B9E9-1D78021D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76B-4F33-4CBB-9B14-8B71D122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8D0C-AA61-4B2F-8141-83BC33F0A7E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FAA5-7FD5-4CFC-8626-3D49BB6354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ustomShape 1"/>
          <p:cNvSpPr/>
          <p:nvPr/>
        </p:nvSpPr>
        <p:spPr>
          <a:xfrm>
            <a:off x="1187280" y="2421000"/>
            <a:ext cx="660096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DejaVu Sans"/>
              </a:rPr>
              <a:t>VYBRANÉ VÝSLEDK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DejaVu Sans"/>
              </a:rPr>
              <a:t>v druhém roce implementace METODIKY 2017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DejaVu Sans"/>
              </a:rPr>
              <a:t>22. 1. 2019, VŠFS,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440" y="6410160"/>
            <a:ext cx="914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2" name="Zástupný symbol pro číslo snímku 7"/>
          <p:cNvSpPr/>
          <p:nvPr/>
        </p:nvSpPr>
        <p:spPr>
          <a:xfrm>
            <a:off x="658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8AEA-2824-4056-801F-EBD40B13BE79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ovéPole 9"/>
          <p:cNvSpPr/>
          <p:nvPr/>
        </p:nvSpPr>
        <p:spPr>
          <a:xfrm>
            <a:off x="395280" y="12682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stup hodnoc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rozp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odůvodněných případech mohou oborově příslušní panelisté ve vzájemné shodě rozhodnout, že výsledek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bude postoupen hodnotitelům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udělí výsledku nejnižší známku a své rozhodnutí zdůvodní. Jejich rozhodnutí schvaluje předsed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e všech případech právo udělit výsledné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lišující se o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 rozsahu, který je dán hodnotitel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arant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ůvodněnýc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řípadech právo udělit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dlišující se o dva stupně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 rozsahu, daném hodnotiteli. S hodnocením musí souhlasit nejen garant bibliometrické analýzy, ale též předseda Odborného panelu, který má právo vyvolat společné jednání příslušného panel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dsed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ásadně nesouhlasí s výslednou známkou, má právo vyvolat společné jednání příslušného panelu a poté může tuto známk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měnit maximálně o jeden stupeň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dnět k projednání výsledné známky s následným rozhodnutím předsedy mohou podat předsedovi také členové příslušného Odborného panel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9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69CE-DF4C-452B-A92D-1DFC64B786D6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ontrola rozhodování, podjat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421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hodnutí garanta (přiřazení hodnotitele resp. výsledné známky) vždy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otvrzuje druhý panelist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Pokud nesouhlasí, může navrhnout alternativ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nedosáhnou oba panelisté konsenzu, rozhoduje předseda (případně místopředseda) pane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je garant hodnocení v kolizi s pravidly ošetřujícími nepodjatost, navrhuje hodnotitele k danému výsledku (případně výslednou známku) druhý panelista. Garant hodnocení může vyslovit nesouhlas a navrhnout alternativ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0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B7C7-38E8-466F-8D0B-C81AF7CCCF2E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ritéria střetu záj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panelist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ve střetu zájmů, poku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spoluautorem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výsledků, které by měl hodnotit nebo byl zapojen do jejich příprav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zaměstnán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formou pracovní smlouvy či dohody u právnické osoby, jejíž výsledky budou hodnoceny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á blízké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rodinné vazby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(např. manžel/ka, partner/ka, dítě, sourozenec, rodič, žijící i nežijící ve společné domácnosti) nebo jiné úzké osobní vazby s osobou, která je autorem výsledků, které budou hodnoceny nebo která je z jednotky, která bude hodnocena, nebo s vedoucím jednotky, která bude hodnocena, nebo s jakýmkoliv statutárním zástupcem právnické osoby, která bude hodnocen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zapojen do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řízení právnické osoby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, jejíž výsledky budou hodnoceny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á nebo měl vztah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vědecké rivality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ebo profesionálního nepřátelství s některým spoluautorem výstupů a výsledků, které budou hodnoceny, či s vedoucím jednotky, která bude hodnocena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nebo byl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mentorem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nebo byl mentorován některým spoluautorem hodnocených výsledků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i přidělování výsledků hodnotitelům se vyžaduj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 panelisty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uz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podjatost ve smyslu bodu 1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případě rozhodování o výsledné známce platí ustanovení v plném rozsah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3046-2292-4F4A-A91C-511B34E8647A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Hodnocení vybraných výsledků</a:t>
            </a:r>
            <a:br>
              <a:rPr sz="32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12520"/>
            <a:ext cx="822960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0 % z celkového počt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bibliometrizovatelnýc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ýsledků (jiných než J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imp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Sc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) uplatněných 2017, evidovaných v RIV k 31. 5.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lečné výsledky se každé VO započítávaj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ez ohledu na velikost podíl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ocenit přínos dané VO ke společnému výsledku je zodpovědností hodnotitel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lké“ výzkumné organizace (typicky vysoké školy, velké ústavy AVČR) uvádí přehled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astoupení funkčních celk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typicky fakult) na celkovém objemu vybraných výsledků a zdůvodnění tohoto pomě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C0AF-F189-4E22-9CA0-69BCCFF8A930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9"/>
          <p:cNvSpPr/>
          <p:nvPr/>
        </p:nvSpPr>
        <p:spPr>
          <a:xfrm>
            <a:off x="395280" y="1197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čet hodnocených výsledků</a:t>
            </a:r>
            <a:br>
              <a:rPr sz="32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116000" y="1940040"/>
          <a:ext cx="7023240" cy="4446360"/>
        </p:xfrm>
        <a:graphic>
          <a:graphicData uri="http://schemas.openxmlformats.org/drawingml/2006/table">
            <a:tbl>
              <a:tblPr/>
              <a:tblGrid>
                <a:gridCol w="3044880"/>
                <a:gridCol w="1319040"/>
                <a:gridCol w="1301760"/>
                <a:gridCol w="1357560"/>
              </a:tblGrid>
              <a:tr h="37836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4bacc6"/>
                      </a:solidFill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olečenská relev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4bacc6"/>
                      </a:solidFill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ínos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 pozná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4bacc6"/>
                      </a:solidFill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lk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4bacc6"/>
                      </a:solidFill>
                    </a:lnB>
                    <a:solidFill>
                      <a:srgbClr val="215967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bacc6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bacc6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bacc6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4bacc6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noFill/>
                  </a:tcPr>
                </a:tc>
              </a:tr>
              <a:tr h="19476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Natural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Engineering and Technolog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Medical and Health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Agricultural and veterinary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76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Social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Humanities and the 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lk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12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215967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215967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215967"/>
                      </a:solidFill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215967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olečenská relev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ínos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 pozná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lk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15967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215967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Natural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Engineering and Technolog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Medical and Health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76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Agricultural and veterinary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Social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Humanities and the A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 w="2880">
                      <a:solidFill>
                        <a:srgbClr val="daeef3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lk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daeef3"/>
                      </a:solidFill>
                    </a:lnT>
                    <a:lnB>
                      <a:noFill/>
                    </a:lnB>
                    <a:solidFill>
                      <a:srgbClr val="215967"/>
                    </a:solidFill>
                  </a:tcPr>
                </a:tc>
              </a:tr>
              <a:tr h="19476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040">
                <a:tc>
                  <a:txBody>
                    <a:bodyPr lIns="11160" rIns="11160" tIns="111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lkem realizace 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6b0a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6b0a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6b0a"/>
                    </a:solidFill>
                  </a:tcPr>
                </a:tc>
                <a:tc>
                  <a:txBody>
                    <a:bodyPr lIns="11160" rIns="11160" tIns="111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1160" marR="11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26b0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238A-4D00-492B-90A2-E1234AEBBB1C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9"/>
          <p:cNvSpPr/>
          <p:nvPr/>
        </p:nvSpPr>
        <p:spPr>
          <a:xfrm>
            <a:off x="395280" y="141300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Odborné pan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060280"/>
            <a:ext cx="8686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ělení oborů podle OECD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Frascati Manu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est panelů odpovídajících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borovým skupinám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tural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ngineering and technolog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edical and health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gricultural and veterinary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cial sci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umanities and the 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ělí se n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bory FORD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Fields of Research and Developement) např. 1.1 Mathema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nel =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dseda, místopředseda + 2 panelisté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 každý obor FOR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den z panelistů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em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hodnocení vybraných výsled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ominace: poskytovatelé /zřizovatelé VO, VO, dále ČKR, AVO, SPD,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6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BF5C-0C63-494C-9FA3-073289DE788B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stup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2349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ždý výsledek je posuzován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dvěm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álenými hodnotitel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hodné hodnotitele z databáze vybír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garant hodnoc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 pomocí aplikace SKV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řazení odsouhlasí druhý oborový panelist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ohodnotí přidělený výsledek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odle vybraného kritéria  hodnocení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společenská relevance i přínos k poznání) na stupnici 1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musí své rozhodnut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důvodn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 může vypracovávat více posudk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DC57-C13B-4D86-80BF-7DE083F171D1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Vzdálení hodnotitel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05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i ve smyslu M17+ jso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álení recenzent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Jsou to odborníci, kteří distančně posuzují vybrané výstupy předložené k hodnocen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jsou členy odborných panelů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jsou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evidováni v databázi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lu s údaji o svém odborném zaměření odpovídajícím oborům (FORD a DETAILED FORD) s uvedením další specializace pomocí klíčových slov, a to i s ohledem na posuzování aplikovaného výzkumu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itelé jsou povinni respektovat práva k duševnímu vlastnictví vážící se k posuzovaným výsledků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ominace: poskytovatelé, výzkumné organizace, členové poradních orgánů RV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7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0EB7-5070-4DA9-A8EF-97283521DDD4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valitativní stupnice (společenská relev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060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špičkov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(world-leading), jehož využití v praxi přinese zásadní změnu s mezinárodním ekonomickým dopadem (reálný předpoklad širokého uplatnění na více zahraničních trzích atd.), nebo změnu s mimořádným dopadem mezinárodního charakteru na společnost (reálný předpoklad zásadního uplatnění na mezinárodní úrovni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vynikající úrovni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excellent), jehož využití v praxi přinese změnu s mezinárodním ekonomickým dopadem (reálný předpoklad uplatnění na zahraničním trhu atd.), nebo změnu s významným dopadem na společnost (reálný předpoklad zásadního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velmi dobr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řinese změnu s ekonomickým dopadem na českém trhu nebo změnu s dopadem na společnost (reálný předpoklad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růměrn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řinese dílčí změnu s ekonomickým dopadem na českém trhu nebo dílčí změnu s dopadem na českou společnost (reálný předpoklad dílčího uplatnění v oblastech veřejného zájmu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 na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podprůměrné úrovni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, jehož využití v praxi pravděpodobně nepřinese žádnou změnu s ekonomickým dopadem ani změnu s dopadem na českou společnost (není reálný předpoklad uplatnění v oblastech veřejného zájmu)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8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5EFB-C797-414B-98C3-F12A27FD198E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ovéPole 9"/>
          <p:cNvSpPr/>
          <p:nvPr/>
        </p:nvSpPr>
        <p:spPr>
          <a:xfrm>
            <a:off x="395280" y="1413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Kvalitativní stupnice (přínos k pozn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492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a špičkové světové úrovni (world-leading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a vynikající mezinárodní úrovni, ale nedosahuje nejvyšší úrovně excelence (excellent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mezinárodně uznávan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je z hlediska originality, významu a obtížnosti získání národně uznateln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sledek, který nesplňuje standard národně uznatelné výzkumné prá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8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C508-845B-447C-8A9F-6F5623B98736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ovéPole 9"/>
          <p:cNvSpPr/>
          <p:nvPr/>
        </p:nvSpPr>
        <p:spPr>
          <a:xfrm>
            <a:off x="395280" y="1413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Postup hodnocení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– výsledná znám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637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se oba hodnotitelé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hodno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uděluje garant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ýslednou známku shodnou s hodnotite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kdy se známky hodnotitelů liš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kloní se garant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k jednomu z navržených hodnocení a své rozhodnutí stručně zdůvod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kud kdy se známky hodnotitelů liš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o více než jeden stupeň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např. 2 vs. 4 nebo 1 vs. 3), může být zadáno hodnocení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třetímu hodnotiteli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arant se pak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standardně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kloní k jednomu z navržených hodnocení a své rozhodnutí stručně zdůvod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slednou známku schvaluje druhý panelis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4:41:20Z</dcterms:created>
  <dc:creator>Miholová Kateřina</dc:creator>
  <dc:description/>
  <dc:language>en-US</dc:language>
  <cp:lastModifiedBy>EKC</cp:lastModifiedBy>
  <cp:lastPrinted>2018-03-13T15:15:38Z</cp:lastPrinted>
  <dcterms:modified xsi:type="dcterms:W3CDTF">2019-01-22T11:18:33Z</dcterms:modified>
  <cp:revision>114</cp:revision>
  <dc:subject/>
  <dc:title>Prezentace aplikace PowerPoint</dc:title>
</cp:coreProperties>
</file>