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FBBD-38A6-4495-91AC-DC3E787BA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00D2-1594-44B5-9A7D-0370DCF6EC3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9C09-DE09-4DB8-B46E-3668D49810C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854B-6EC7-4B58-9BFA-C7611A6A5597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EBEE-B0AE-46AD-87B4-EF27B13A70B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BF67-939E-4C4D-87D7-DBEC82768BB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489E-1351-42D6-A75A-1E2E34837661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F8FC-6275-4351-AE33-862C36FE635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CB65-9A22-41F2-8EDA-1C981465012A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C835-52B0-4768-B040-0C80A33AF119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BE06-AF84-4084-A460-8C1BC4B5978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A3CF-01AC-40FF-BBF9-09600C7ACDCE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B06-A2FF-4EE2-AE40-251464E7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AED-28A4-40E6-A7DA-F86E02A5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5CC3-B879-45F1-9739-F7680F4E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C64-2493-44AD-BCE5-11D654B6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D3F-5E91-47CB-BC85-93C8D067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22B-8DC0-46A3-8A82-2EC54DD0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A54-5FE7-45E4-A46D-FCB9EC70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876-D618-4666-9F86-D918F93A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277-C6D7-44C0-8CD9-A712B1C9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4B2-B590-4EF3-A1D5-C0E399A1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EF9-160B-4B5D-8077-7965DB10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477-0BEE-4609-8666-C6BA4B7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10AF-E9A8-4E23-BBAC-D332972E13D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5A35-7145-4A67-A3FD-BD790DE0A2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ustomShape 1"/>
          <p:cNvSpPr/>
          <p:nvPr/>
        </p:nvSpPr>
        <p:spPr>
          <a:xfrm>
            <a:off x="1187280" y="2421000"/>
            <a:ext cx="66009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YBRANÉ VÝSLEDK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 druhém roce implementace METODIKY 2017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22. 1. 2019, VŠFS,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440" y="6410160"/>
            <a:ext cx="914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číslo snímku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028F-D60E-46A6-98E1-B7E49D3D5673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9"/>
          <p:cNvSpPr/>
          <p:nvPr/>
        </p:nvSpPr>
        <p:spPr>
          <a:xfrm>
            <a:off x="395280" y="1268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roz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odůvodněných případech mohou oborově příslušní panelisté ve vzájemné shodě rozhodnout, že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ude postoupen hodnotitelů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í výsledku nejnižší známku a své rozhodnutí zdůvodní. Jejich rozhodnutí schvaluje předse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e všech případech právo udělit výsledné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který je dán hodnotitel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ůvodně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řípadech právo udělit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dva stup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daném hodnotiteli. S hodnocením musí souhlasit nejen garant bibliometrické analýzy, ale též předseda Odborného panelu, který má právo vyvolat společné jednání příslušného panel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ásadně nesouhlasí s výslednou známkou, má právo vyvolat společné jednání příslušného panelu a poté může tuto známk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měnit maximálně o jeden stupeň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nět k projednání výsledné známky s následným rozhodnutím předsedy mohou podat předsedovi také členové příslušného Odborného pane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E78B-E113-4F14-8128-29C3C811A806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ontrola rozhodování, podja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utí garanta (přiřazení hodnotitele resp. výsledné známky) vžd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tvrzuje druhý 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Pokud nesouhlasí, může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nedosáhnou oba panelisté konsenzu, rozhoduje předseda (případně místopředseda) pane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je garant hodnocení v kolizi s pravidly ošetřujícími nepodjatost, navrhuje hodnotitele k danému výsledku (případně výslednou známku) druhý panelista. Garant hodnocení může vyslovit nesouhlas a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FFEB-CC92-4EDE-9B72-26DD223348DF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ritéria střetu zá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ve střetu zájmů, poku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poluau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výsledků, které by měl hodnotit nebo byl zapojen do jejich přípra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zaměstnán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formou pracovní smlouvy či dohody u právnické osoby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blízké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rodinné vazb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např. manžel/ka, partner/ka, dítě, sourozenec, rodič, žijící i nežijící ve společné domácnosti) nebo jiné úzké osobní vazby s osobou, která je autorem výsledků, které budou hodnoceny nebo která je z jednotky, která bude hodnocena, nebo s vedoucím jednotky, která bude hodnocena, nebo s jakýmkoliv statutárním zástupcem právnické osob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zapojen d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řízení právnické osob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nebo měl vztah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vědecké rivalit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bo profesionálního nepřátelství s některým spoluautorem výstupů a výsledků, které budou hodnoceny, či s vedoucím jednotk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nebo byl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men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nebo byl mentorován některým spoluautorem hodnocených výsledk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i přidělování výsledků hodnotitelům se vyžadu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panelist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uz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podjatost ve smyslu bodu 1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případě rozhodování o výsledné známce platí ustanovení v plném rozsah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849C-9AE0-4056-9635-A12FE9144B8D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Hodnocení vybra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12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0 % z celkového počt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ibliometrizovatel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ků (jiných než 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imp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Sc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) uplatněných 2017, evidovaných v RIV k 31. 5.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ečné výsledky se každé VO započítávaj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ez ohledu na velikost podí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ocenit přínos dané VO ke společnému výsledku je zodpovědností hodnoti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ké“ výzkumné organizace (typicky vysoké školy, velké ústavy AVČR) uvádí přehle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stoupení funkčních celk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typicky fakult) na celkovém objemu vybraných výsledků a zdůvodnění tohoto pomě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958A-1D7A-42C0-B032-DC51F5E9A24D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395280" y="1197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čet hodnoce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1940040"/>
          <a:ext cx="7023240" cy="4446360"/>
        </p:xfrm>
        <a:graphic>
          <a:graphicData uri="http://schemas.openxmlformats.org/drawingml/2006/table">
            <a:tbl>
              <a:tblPr/>
              <a:tblGrid>
                <a:gridCol w="3044880"/>
                <a:gridCol w="1319040"/>
                <a:gridCol w="1301760"/>
                <a:gridCol w="1357560"/>
              </a:tblGrid>
              <a:tr h="37836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lečenská relev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íno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pozná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Natur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ngineering and Technolog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edical and Health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gricultural and veterinary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oci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Humanities and the 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lečenská relev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íno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pozná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Natur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ngineering and Technolog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edical and Health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gricultural and veterinary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oci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Humanities and the 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 realizace 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3B77-6529-4F2B-9FAE-9181DF8AED72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9"/>
          <p:cNvSpPr/>
          <p:nvPr/>
        </p:nvSpPr>
        <p:spPr>
          <a:xfrm>
            <a:off x="395280" y="1413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Odborné pa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060280"/>
            <a:ext cx="8686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ení oborů podle OECD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rascati Manu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est panelů odpovídajících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ovým skupinám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ngineering and technolo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edical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gricultural and veterinary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umanities and the 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í se n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y FORD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ields of Research and Developement) např. 1.1 Mathema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nel =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, místopředseda + 2 panelisté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 každý obor F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en z panelistů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e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62AD-4972-4BB1-962E-D7F12904B0AA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ý výsledek je posuzován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věm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ými hodnotitel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hodné hodnotitele z databáze vybír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 pomocí aplikace SKV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řazení odsouhlasí druhý oborový panelis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ohodnotí přidělený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dle vybraného kritéria 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společenská relevance i přínos k poznání) na stupnici 1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usí své rozhodnut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důvod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ůže vypracovávat více posu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17C2-07C6-4A35-A4DE-4A0F22BF523D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Vzdálení hodnotitel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i ve smyslu M17+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í recenzen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Jsou to odborníci, kteří distančně posuzují vybrané výstupy předložené k hodnoc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jsou členy odborných pane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vidováni v databáz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u s údaji o svém odborném zaměření odpovídajícím oborům (FORD a DETAILED FORD) s uvedením další specializace pomocí klíčových slov, a to i s ohledem na posuzování aplikovaného výzku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povinni respektovat práva k duševnímu vlastnictví vážící se k posuzovaným výsledků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, výzkumné organizace, členové poradních orgánů RV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7B56-BCCE-4846-8342-07F8D0D9A22A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společenská relev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špičkov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world-leading), jehož využití v praxi přinese zásadní změnu s mezinárodním ekonomickým dopadem (reálný předpoklad širokého uplatnění na více zahraničních trzích atd.), nebo změnu s mimořádným dopadem mezinárodního charakteru na společnost (reálný předpoklad zásadního uplatnění na mezinárodní úrovni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ynikající úrovn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excellent), jehož využití v praxi přinese změnu s mezinárodním ekonomickým dopadem (reálný předpoklad uplatnění na zahraničním trhu atd.), nebo změnu s významným dopadem na společnost (reálný předpoklad zásadn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elmi dobr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změnu s ekonomickým dopadem na českém trhu nebo změnu s dopadem na společnost (reálný předpoklad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dílčí změnu s ekonomickým dopadem na českém trhu nebo dílčí změnu s dopadem na českou společnost (reálný předpoklad dílč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d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ravděpodobně nepřinese žádnou změnu s ekonomickým dopadem ani změnu s dopadem na českou společnost (není reálný předpoklad uplatnění v oblastech veřejného zájmu)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90BC-475D-4649-960F-8EAB76EE592E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přínos k poz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špičkové světové úrovni (world-leadin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vynikající mezinárodní úrovni, ale nedosahuje nejvyšší úrovně excelence (excell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mezinárodně uznáva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árodně uznatel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nesplňuje standard národně uznatelné výzkumné prá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8DED-B530-4EA1-8851-DDD81C35291D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– výsledná znám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se oba 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hodno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uj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nou známku shodnou s hodnotit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s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více než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např. 2 vs. 4 nebo 1 vs. 3), může být zadáno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řetímu hodnotitel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se pak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lednou známku schvaluje druhý panel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EKC</cp:lastModifiedBy>
  <cp:lastPrinted>2018-03-13T15:15:38Z</cp:lastPrinted>
  <dcterms:modified xsi:type="dcterms:W3CDTF">2019-01-22T11:18:33Z</dcterms:modified>
  <cp:revision>114</cp:revision>
  <dc:subject/>
  <dc:title>Prezentace aplikace PowerPoint</dc:title>
</cp:coreProperties>
</file>