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1346-F4A5-42BC-9E0D-BC425CF86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zápatí 3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ástupný symbol pro číslo snímku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57BE-0DB7-4FDC-A253-2DA55E1BD1AB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B77C-5797-4C9C-B1A4-7ABADF6158EC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EED8-25FD-4CDA-8055-DFEF347F0914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A8FF-11BB-470E-A8A6-C49635B1402E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16CC-1D5B-4191-B3F4-37029A748EFF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A205-A764-4489-A535-481AF35E283F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0823-7DA5-495B-B42A-46F8ECB91A31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160B-196B-46AD-A5FA-5D725D0E0B35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7914-17FC-4DEB-843A-225466040135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F492-1C8A-42F5-8456-C45729026D15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0A7A-8A8D-40FE-92F2-9C66C0DB255A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ástupný symbol pro zápatí 4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EDAC-4DE5-4603-ACFF-9C579282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A714-1AB6-49D9-AB7B-7A4F9917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3772-E9EC-4529-83AB-FDF66D95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DE8-33AE-4624-A3EA-F766DB08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14FE-AB4D-4914-B870-1E54CF23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8B1-A620-4246-9C41-5F016ADB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072D-EE46-46A2-8714-62B28AF7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94AF-A6DD-4A15-A2B8-297E8899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3642-92E4-4E6E-9F54-F8109EE8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785C-A66E-41BF-890E-A4C1F4EC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6B43-45AC-466D-AFAB-1F15557B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8F7-778C-4F5C-80AE-57B56E87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6052-C1DB-47A9-9EB1-F142A917F63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E586-2243-4F65-BE0C-471A4B3906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Bibliometrie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Hodno</a:t>
            </a:r>
            <a:r>
              <a:rPr b="1" i="1" lang="cs-CZ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1" i="1" lang="cs-CZ" sz="4400" spc="-1" strike="noStrike">
                <a:solidFill>
                  <a:srgbClr val="000000"/>
                </a:solidFill>
                <a:latin typeface="Calibri"/>
              </a:rPr>
              <a:t>í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6ECC-4432-4C7C-8B62-E81F4D3D2C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ázek 5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67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7ED3-FF11-4663-B982-388FE12233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Nové ukazatele z W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plnění mezinárodního srovnání o vybrané země (EU 1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zinárodní spolupráce na publikací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dentifikace výsledků s velkým počtem spoluautorů (30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dentifikace „reprint author“ – použitelné pouze pro některé obo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72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11A6-7620-4986-81AF-EBE113E347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Další změ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9528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nalýza Scopus nejen na úroveň oborů a oborových skupin, ale též pro V.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nuté doplňující údaje budou obsahovat více informac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prava doplňujícího podkladu pro V.O. (umožní analýzu na úroveň organizačních jednotek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vrh řešení hodnocení výsledků uplatněných před rokem 2016, které nebyly hodnoceny ani předchozí metodiko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voj nové aplikace pro tvorbu výstupů (2018); příprava webu pro zprostředkování výstupů (léto 2019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5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6F23-6598-49C0-8A22-5E5D135A28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98864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6"/>
          <p:cNvSpPr/>
          <p:nvPr/>
        </p:nvSpPr>
        <p:spPr>
          <a:xfrm>
            <a:off x="395280" y="1125360"/>
            <a:ext cx="8064360" cy="45972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Časová osa M17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6984720" cy="2592360"/>
          </a:xfrm>
          <a:prstGeom prst="rect">
            <a:avLst/>
          </a:prstGeom>
          <a:ln w="0">
            <a:noFill/>
          </a:ln>
        </p:spPr>
      </p:pic>
      <p:sp>
        <p:nvSpPr>
          <p:cNvPr id="58" name="Obdélník 8"/>
          <p:cNvSpPr/>
          <p:nvPr/>
        </p:nvSpPr>
        <p:spPr>
          <a:xfrm>
            <a:off x="611280" y="461952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aždoroční hodnocení (M1+M2, národní úroveň, gesce RVV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lativně jednoduch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onitorovací a indikativní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stupná tvorba jednoho z podkladů pro kompletní hodn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bdélník 9"/>
          <p:cNvSpPr/>
          <p:nvPr/>
        </p:nvSpPr>
        <p:spPr>
          <a:xfrm>
            <a:off x="4859280" y="4581360"/>
            <a:ext cx="39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mpletní hodnocení (všechny modu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ouhrn M1+M2 za předchozí ro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3+M4+M5 (úroveň poskytovatel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hodný dopad na financ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7532-FBA2-43FE-A71D-364BFFBAE3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79640" y="1483920"/>
            <a:ext cx="4679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3 + M4 + M5  úroveň poskytovatel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řipraveno/realizováno AVČR a podstatná část resort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bytek rezortů dokončí v roce 2019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ŠMT později - podoba modulů M3, M4 a M5 má být schválena v září 20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+M2 národní úroveň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definování  konkrétní podoby M1+M2 bude zahájeno po zformulování doporučení plynoucích z Hodnocení 1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ýchodiskem jsou každoročně realizované M1 a M2 upravené pro potřeby velkého hodnocení. Napříkla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1 nebude odlišovat bibliometrické/nebibliometrické výsledky, vydefinování časového okna pro aplikované výsledky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2 v bibliometrii použije více indikátorů (zejména analýzy na úroveň citačního dopadu článků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ovéPole 6"/>
          <p:cNvSpPr/>
          <p:nvPr/>
        </p:nvSpPr>
        <p:spPr>
          <a:xfrm>
            <a:off x="395280" y="260280"/>
            <a:ext cx="8064360" cy="10080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Implementace M17+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Kompletní hodnocení</a:t>
            </a:r>
            <a:r>
              <a:rPr b="1" i="1" lang="cs-CZ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Plátno 343"/>
          <p:cNvGrpSpPr/>
          <p:nvPr/>
        </p:nvGrpSpPr>
        <p:grpSpPr>
          <a:xfrm>
            <a:off x="603360" y="2535120"/>
            <a:ext cx="2940120" cy="2508480"/>
            <a:chOff x="603360" y="2535120"/>
            <a:chExt cx="2940120" cy="2508480"/>
          </a:xfrm>
        </p:grpSpPr>
        <p:sp>
          <p:nvSpPr>
            <p:cNvPr id="65" name="Obdélník 10"/>
            <p:cNvSpPr/>
            <p:nvPr/>
          </p:nvSpPr>
          <p:spPr>
            <a:xfrm>
              <a:off x="731160" y="2535120"/>
              <a:ext cx="2812320" cy="25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ové pole 2"/>
            <p:cNvSpPr/>
            <p:nvPr/>
          </p:nvSpPr>
          <p:spPr>
            <a:xfrm>
              <a:off x="1007640" y="3149640"/>
              <a:ext cx="38268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ové pole 2"/>
            <p:cNvSpPr/>
            <p:nvPr/>
          </p:nvSpPr>
          <p:spPr>
            <a:xfrm>
              <a:off x="2702160" y="307476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9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ové pole 2"/>
            <p:cNvSpPr/>
            <p:nvPr/>
          </p:nvSpPr>
          <p:spPr>
            <a:xfrm>
              <a:off x="2161800" y="315108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ové pole 2"/>
            <p:cNvSpPr/>
            <p:nvPr/>
          </p:nvSpPr>
          <p:spPr>
            <a:xfrm>
              <a:off x="1596960" y="3151080"/>
              <a:ext cx="3826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c00000"/>
                  </a:solidFill>
                  <a:latin typeface="Arial"/>
                  <a:ea typeface="Arial"/>
                </a:rPr>
                <a:t>H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Obdélník 15" descr=""/>
            <p:cNvPicPr/>
            <p:nvPr/>
          </p:nvPicPr>
          <p:blipFill>
            <a:blip r:embed="rId1"/>
            <a:stretch/>
          </p:blipFill>
          <p:spPr>
            <a:xfrm>
              <a:off x="603360" y="2590560"/>
              <a:ext cx="281052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Obdélník 16" descr=""/>
            <p:cNvPicPr/>
            <p:nvPr/>
          </p:nvPicPr>
          <p:blipFill>
            <a:blip r:embed="rId2"/>
            <a:stretch/>
          </p:blipFill>
          <p:spPr>
            <a:xfrm>
              <a:off x="2440080" y="3663720"/>
              <a:ext cx="88020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Obdélník 17" descr=""/>
            <p:cNvPicPr/>
            <p:nvPr/>
          </p:nvPicPr>
          <p:blipFill>
            <a:blip r:embed="rId3"/>
            <a:stretch/>
          </p:blipFill>
          <p:spPr>
            <a:xfrm>
              <a:off x="777960" y="3663720"/>
              <a:ext cx="1632600" cy="5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Přímá spojnice 18"/>
            <p:cNvSpPr/>
            <p:nvPr/>
          </p:nvSpPr>
          <p:spPr>
            <a:xfrm>
              <a:off x="1198800" y="3354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Přímá spojnice 19"/>
            <p:cNvSpPr/>
            <p:nvPr/>
          </p:nvSpPr>
          <p:spPr>
            <a:xfrm>
              <a:off x="1788120" y="3354120"/>
              <a:ext cx="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Přímá spojnice 20"/>
            <p:cNvSpPr/>
            <p:nvPr/>
          </p:nvSpPr>
          <p:spPr>
            <a:xfrm>
              <a:off x="2351520" y="3354120"/>
              <a:ext cx="0" cy="169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Přímá spojnice 21"/>
            <p:cNvSpPr/>
            <p:nvPr/>
          </p:nvSpPr>
          <p:spPr>
            <a:xfrm>
              <a:off x="2895120" y="3273480"/>
              <a:ext cx="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Přímá spojnice 22"/>
            <p:cNvSpPr/>
            <p:nvPr/>
          </p:nvSpPr>
          <p:spPr>
            <a:xfrm>
              <a:off x="778320" y="3441600"/>
              <a:ext cx="2516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ál 23"/>
            <p:cNvSpPr/>
            <p:nvPr/>
          </p:nvSpPr>
          <p:spPr>
            <a:xfrm>
              <a:off x="2304360" y="3011400"/>
              <a:ext cx="1209960" cy="20181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7"/>
          <p:cNvSpPr/>
          <p:nvPr/>
        </p:nvSpPr>
        <p:spPr>
          <a:xfrm>
            <a:off x="65167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8564-6478-4EFE-B187-8A055ACF2F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67120" y="1988640"/>
            <a:ext cx="4608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1 (vybrané výsledk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notí se podle obou kritérií (společenská relevance i přínos k poznání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2 (bibliometrie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ozšíření sledovaných parametr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vedení kumulativních (víceletých) analý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ovéPole 6"/>
          <p:cNvSpPr/>
          <p:nvPr/>
        </p:nvSpPr>
        <p:spPr>
          <a:xfrm>
            <a:off x="395280" y="333360"/>
            <a:ext cx="8064360" cy="9471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Implementace M17+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Hodnocení H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Plátno 343"/>
          <p:cNvGrpSpPr/>
          <p:nvPr/>
        </p:nvGrpSpPr>
        <p:grpSpPr>
          <a:xfrm>
            <a:off x="395280" y="2637000"/>
            <a:ext cx="3016080" cy="2801880"/>
            <a:chOff x="395280" y="2637000"/>
            <a:chExt cx="3016080" cy="2801880"/>
          </a:xfrm>
        </p:grpSpPr>
        <p:sp>
          <p:nvSpPr>
            <p:cNvPr id="84" name="Obdélník 25"/>
            <p:cNvSpPr/>
            <p:nvPr/>
          </p:nvSpPr>
          <p:spPr>
            <a:xfrm>
              <a:off x="453960" y="2938680"/>
              <a:ext cx="2957400" cy="25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ové pole 2"/>
            <p:cNvSpPr/>
            <p:nvPr/>
          </p:nvSpPr>
          <p:spPr>
            <a:xfrm>
              <a:off x="811800" y="3192120"/>
              <a:ext cx="392040" cy="17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ové pole 2"/>
            <p:cNvSpPr/>
            <p:nvPr/>
          </p:nvSpPr>
          <p:spPr>
            <a:xfrm>
              <a:off x="2549160" y="311724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H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ové pole 2"/>
            <p:cNvSpPr/>
            <p:nvPr/>
          </p:nvSpPr>
          <p:spPr>
            <a:xfrm>
              <a:off x="1995120" y="319320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ové pole 2"/>
            <p:cNvSpPr/>
            <p:nvPr/>
          </p:nvSpPr>
          <p:spPr>
            <a:xfrm>
              <a:off x="1415880" y="3193200"/>
              <a:ext cx="392040" cy="17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8000"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c00000"/>
                  </a:solidFill>
                  <a:latin typeface="Arial"/>
                  <a:ea typeface="Arial"/>
                </a:rPr>
                <a:t>H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Obdélník 30" descr=""/>
            <p:cNvPicPr/>
            <p:nvPr/>
          </p:nvPicPr>
          <p:blipFill>
            <a:blip r:embed="rId1"/>
            <a:stretch/>
          </p:blipFill>
          <p:spPr>
            <a:xfrm>
              <a:off x="395280" y="2637000"/>
              <a:ext cx="2886840" cy="79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Obdélník 31" descr=""/>
            <p:cNvPicPr/>
            <p:nvPr/>
          </p:nvPicPr>
          <p:blipFill>
            <a:blip r:embed="rId2"/>
            <a:stretch/>
          </p:blipFill>
          <p:spPr>
            <a:xfrm>
              <a:off x="2278080" y="3706200"/>
              <a:ext cx="90252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Obdélník 32" descr=""/>
            <p:cNvPicPr/>
            <p:nvPr/>
          </p:nvPicPr>
          <p:blipFill>
            <a:blip r:embed="rId3"/>
            <a:stretch/>
          </p:blipFill>
          <p:spPr>
            <a:xfrm>
              <a:off x="574560" y="3700080"/>
              <a:ext cx="167940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Přímá spojnice 33"/>
            <p:cNvSpPr/>
            <p:nvPr/>
          </p:nvSpPr>
          <p:spPr>
            <a:xfrm>
              <a:off x="1008000" y="33962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Přímá spojnice 34"/>
            <p:cNvSpPr/>
            <p:nvPr/>
          </p:nvSpPr>
          <p:spPr>
            <a:xfrm>
              <a:off x="1612080" y="33962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Přímá spojnice 35"/>
            <p:cNvSpPr/>
            <p:nvPr/>
          </p:nvSpPr>
          <p:spPr>
            <a:xfrm>
              <a:off x="2189520" y="3396240"/>
              <a:ext cx="0" cy="169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Přímá spojnice 36"/>
            <p:cNvSpPr/>
            <p:nvPr/>
          </p:nvSpPr>
          <p:spPr>
            <a:xfrm>
              <a:off x="2746800" y="3315600"/>
              <a:ext cx="0" cy="33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Přímá spojnice 37"/>
            <p:cNvSpPr/>
            <p:nvPr/>
          </p:nvSpPr>
          <p:spPr>
            <a:xfrm>
              <a:off x="577080" y="3483360"/>
              <a:ext cx="25790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ál 38"/>
            <p:cNvSpPr/>
            <p:nvPr/>
          </p:nvSpPr>
          <p:spPr>
            <a:xfrm>
              <a:off x="528480" y="2923200"/>
              <a:ext cx="1858320" cy="20203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00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1953-E7C0-468F-A161-CC2F9CB2E86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9"/>
          <p:cNvSpPr/>
          <p:nvPr/>
        </p:nvSpPr>
        <p:spPr>
          <a:xfrm>
            <a:off x="395280" y="1197000"/>
            <a:ext cx="8064360" cy="52056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H18: hlavní nezměněné parametry pro bibliometr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IS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Web of Science) 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J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Scop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ledování v pásmech (kvartily, decil, mediá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lační přístup (oborový, mezi/národní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pojování RIV s citačními databázem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y jsou obdobné (inovované o nové parametry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05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E228-774B-4563-8291-4D16F8E2BE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9"/>
          <p:cNvSpPr/>
          <p:nvPr/>
        </p:nvSpPr>
        <p:spPr>
          <a:xfrm>
            <a:off x="395280" y="292428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Hlavní úpravy bibliometrie pro H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09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3788-2467-4B0B-AD5F-9F91FB6F74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Propojení d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3640" y="2133360"/>
            <a:ext cx="8569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RIV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WoS/Scopus na základě </a:t>
            </a: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D publikac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analyzované výsledky jsou identifikovány ve dvou kategoriích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asopisy bez indikátoru AIS/SJ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konzistentní úda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16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Nepropojené výsledky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 přenos do dalšího cyklu hodnocení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14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66FB-7ADD-4A0E-8325-7A271994C8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Kumulativní analý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8428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Plátno 1"/>
          <p:cNvGrpSpPr/>
          <p:nvPr/>
        </p:nvGrpSpPr>
        <p:grpSpPr>
          <a:xfrm>
            <a:off x="324000" y="1989000"/>
            <a:ext cx="8032680" cy="4584960"/>
            <a:chOff x="324000" y="1989000"/>
            <a:chExt cx="8032680" cy="4584960"/>
          </a:xfrm>
        </p:grpSpPr>
        <p:sp>
          <p:nvSpPr>
            <p:cNvPr id="118" name="Obdélník 50"/>
            <p:cNvSpPr/>
            <p:nvPr/>
          </p:nvSpPr>
          <p:spPr>
            <a:xfrm>
              <a:off x="324000" y="1989000"/>
              <a:ext cx="8032680" cy="458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bdélník 51"/>
            <p:cNvSpPr/>
            <p:nvPr/>
          </p:nvSpPr>
          <p:spPr>
            <a:xfrm>
              <a:off x="349200" y="2017440"/>
              <a:ext cx="1858680" cy="3581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bdélník 52"/>
            <p:cNvSpPr/>
            <p:nvPr/>
          </p:nvSpPr>
          <p:spPr>
            <a:xfrm>
              <a:off x="2208240" y="2009520"/>
              <a:ext cx="3049560" cy="358164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bdélník 53"/>
            <p:cNvSpPr/>
            <p:nvPr/>
          </p:nvSpPr>
          <p:spPr>
            <a:xfrm>
              <a:off x="5104080" y="2017440"/>
              <a:ext cx="3195720" cy="358164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ové pole 5"/>
            <p:cNvSpPr/>
            <p:nvPr/>
          </p:nvSpPr>
          <p:spPr>
            <a:xfrm>
              <a:off x="374760" y="2082600"/>
              <a:ext cx="1787400" cy="44928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ové pole 5"/>
            <p:cNvSpPr/>
            <p:nvPr/>
          </p:nvSpPr>
          <p:spPr>
            <a:xfrm>
              <a:off x="2778120" y="2079360"/>
              <a:ext cx="1814400" cy="45216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ové pole 5"/>
            <p:cNvSpPr/>
            <p:nvPr/>
          </p:nvSpPr>
          <p:spPr>
            <a:xfrm>
              <a:off x="5965920" y="2079360"/>
              <a:ext cx="1574640" cy="415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odnocení v roce 201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Skupina 57"/>
            <p:cNvGrpSpPr/>
            <p:nvPr/>
          </p:nvGrpSpPr>
          <p:grpSpPr>
            <a:xfrm>
              <a:off x="641160" y="3656520"/>
              <a:ext cx="974520" cy="1943280"/>
              <a:chOff x="641160" y="3656520"/>
              <a:chExt cx="974520" cy="1943280"/>
            </a:xfrm>
          </p:grpSpPr>
          <p:sp>
            <p:nvSpPr>
              <p:cNvPr id="126" name="Obdélník 86"/>
              <p:cNvSpPr/>
              <p:nvPr/>
            </p:nvSpPr>
            <p:spPr>
              <a:xfrm>
                <a:off x="641160" y="3656520"/>
                <a:ext cx="974520" cy="1943280"/>
              </a:xfrm>
              <a:prstGeom prst="rect">
                <a:avLst/>
              </a:prstGeom>
              <a:solidFill>
                <a:srgbClr val="8eb4e3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ové pole 12"/>
              <p:cNvSpPr/>
              <p:nvPr/>
            </p:nvSpPr>
            <p:spPr>
              <a:xfrm>
                <a:off x="745920" y="4563000"/>
                <a:ext cx="757080" cy="471600"/>
              </a:xfrm>
              <a:prstGeom prst="rect">
                <a:avLst/>
              </a:prstGeom>
              <a:solidFill>
                <a:srgbClr val="8eb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ové pole 12"/>
              <p:cNvSpPr/>
              <p:nvPr/>
            </p:nvSpPr>
            <p:spPr>
              <a:xfrm>
                <a:off x="645840" y="3664440"/>
                <a:ext cx="969840" cy="40788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Obdélník 58"/>
            <p:cNvSpPr/>
            <p:nvPr/>
          </p:nvSpPr>
          <p:spPr>
            <a:xfrm>
              <a:off x="3421080" y="3649680"/>
              <a:ext cx="1469880" cy="1943280"/>
            </a:xfrm>
            <a:prstGeom prst="rect">
              <a:avLst/>
            </a:prstGeom>
            <a:solidFill>
              <a:srgbClr val="f2dcdb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Skupina 59"/>
            <p:cNvGrpSpPr/>
            <p:nvPr/>
          </p:nvGrpSpPr>
          <p:grpSpPr>
            <a:xfrm>
              <a:off x="2288520" y="3646080"/>
              <a:ext cx="974160" cy="1942560"/>
              <a:chOff x="2288520" y="3646080"/>
              <a:chExt cx="974160" cy="1942560"/>
            </a:xfrm>
          </p:grpSpPr>
          <p:sp>
            <p:nvSpPr>
              <p:cNvPr id="131" name="Obdélník 83"/>
              <p:cNvSpPr/>
              <p:nvPr/>
            </p:nvSpPr>
            <p:spPr>
              <a:xfrm>
                <a:off x="2288520" y="3646080"/>
                <a:ext cx="974160" cy="1942560"/>
              </a:xfrm>
              <a:prstGeom prst="rect">
                <a:avLst/>
              </a:prstGeom>
              <a:solidFill>
                <a:srgbClr val="f2dcdb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ové pole 3"/>
              <p:cNvSpPr/>
              <p:nvPr/>
            </p:nvSpPr>
            <p:spPr>
              <a:xfrm>
                <a:off x="2393280" y="4619880"/>
                <a:ext cx="756720" cy="470160"/>
              </a:xfrm>
              <a:prstGeom prst="rect">
                <a:avLst/>
              </a:prstGeom>
              <a:solidFill>
                <a:srgbClr val="f2dc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ové pole 12"/>
              <p:cNvSpPr/>
              <p:nvPr/>
            </p:nvSpPr>
            <p:spPr>
              <a:xfrm>
                <a:off x="2293200" y="3654000"/>
                <a:ext cx="969480" cy="40824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Skupina 60"/>
            <p:cNvGrpSpPr/>
            <p:nvPr/>
          </p:nvGrpSpPr>
          <p:grpSpPr>
            <a:xfrm>
              <a:off x="5271840" y="3650400"/>
              <a:ext cx="974160" cy="1946880"/>
              <a:chOff x="5271840" y="3650400"/>
              <a:chExt cx="974160" cy="1946880"/>
            </a:xfrm>
          </p:grpSpPr>
          <p:sp>
            <p:nvSpPr>
              <p:cNvPr id="135" name="Obdélník 80"/>
              <p:cNvSpPr/>
              <p:nvPr/>
            </p:nvSpPr>
            <p:spPr>
              <a:xfrm>
                <a:off x="5271840" y="3655080"/>
                <a:ext cx="974160" cy="1942200"/>
              </a:xfrm>
              <a:prstGeom prst="rect">
                <a:avLst/>
              </a:prstGeom>
              <a:solidFill>
                <a:srgbClr val="ebf1de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ové pole 3"/>
              <p:cNvSpPr/>
              <p:nvPr/>
            </p:nvSpPr>
            <p:spPr>
              <a:xfrm>
                <a:off x="5376240" y="4615920"/>
                <a:ext cx="756720" cy="471600"/>
              </a:xfrm>
              <a:prstGeom prst="rect">
                <a:avLst/>
              </a:prstGeom>
              <a:solidFill>
                <a:srgbClr val="ebf1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ové pole 12"/>
              <p:cNvSpPr/>
              <p:nvPr/>
            </p:nvSpPr>
            <p:spPr>
              <a:xfrm>
                <a:off x="5276520" y="3650400"/>
                <a:ext cx="969480" cy="407880"/>
              </a:xfrm>
              <a:prstGeom prst="rect">
                <a:avLst/>
              </a:prstGeom>
              <a:solidFill>
                <a:srgbClr val="e6e0ec"/>
              </a:solidFill>
              <a:ln w="22320">
                <a:solidFill>
                  <a:srgbClr val="000000">
                    <a:alpha val="9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900" spc="-1" strike="noStrike">
                    <a:solidFill>
                      <a:srgbClr val="000000"/>
                    </a:solidFill>
                    <a:latin typeface="Arial"/>
                    <a:ea typeface="Calibri"/>
                  </a:rPr>
                  <a:t>nepropojená data 201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Textové pole 3"/>
            <p:cNvSpPr/>
            <p:nvPr/>
          </p:nvSpPr>
          <p:spPr>
            <a:xfrm>
              <a:off x="3576600" y="4624560"/>
              <a:ext cx="1157040" cy="46980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ropojená data 2016 a 20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Přímá spojnice 62"/>
            <p:cNvSpPr/>
            <p:nvPr/>
          </p:nvSpPr>
          <p:spPr>
            <a:xfrm>
              <a:off x="4155840" y="3650400"/>
              <a:ext cx="0" cy="194256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" name="Pravoúhlá spojnice 63"/>
            <p:cNvCxnSpPr>
              <a:stCxn id="128" idx="0"/>
            </p:cNvCxnSpPr>
            <p:nvPr/>
          </p:nvCxnSpPr>
          <p:spPr>
            <a:xfrm flipH="1" flipV="1" rot="5400000">
              <a:off x="2487960" y="1996560"/>
              <a:ext cx="309240" cy="3025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" name="Přímá spojnice se šipkou 64"/>
            <p:cNvCxnSpPr/>
            <p:nvPr/>
          </p:nvCxnSpPr>
          <p:spPr>
            <a:xfrm flipH="1">
              <a:off x="4155120" y="3354840"/>
              <a:ext cx="1080" cy="20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42" name="Textové pole 41"/>
            <p:cNvSpPr/>
            <p:nvPr/>
          </p:nvSpPr>
          <p:spPr>
            <a:xfrm>
              <a:off x="3456000" y="5658120"/>
              <a:ext cx="1434960" cy="68112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kumulovaných dat 2016 a 201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bdélník 66"/>
            <p:cNvSpPr/>
            <p:nvPr/>
          </p:nvSpPr>
          <p:spPr>
            <a:xfrm>
              <a:off x="6380280" y="3649680"/>
              <a:ext cx="1836720" cy="1941480"/>
            </a:xfrm>
            <a:prstGeom prst="rect">
              <a:avLst/>
            </a:prstGeom>
            <a:solidFill>
              <a:srgbClr val="ebf1de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Přímá spojnice 67"/>
            <p:cNvSpPr/>
            <p:nvPr/>
          </p:nvSpPr>
          <p:spPr>
            <a:xfrm flipV="1">
              <a:off x="2776320" y="3085560"/>
              <a:ext cx="0" cy="56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Přímá spojnice 68"/>
            <p:cNvSpPr/>
            <p:nvPr/>
          </p:nvSpPr>
          <p:spPr>
            <a:xfrm>
              <a:off x="2776320" y="3085560"/>
              <a:ext cx="448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Přímá spojnice se šipkou 69"/>
            <p:cNvCxnSpPr/>
            <p:nvPr/>
          </p:nvCxnSpPr>
          <p:spPr>
            <a:xfrm>
              <a:off x="7263000" y="3085560"/>
              <a:ext cx="1080" cy="47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47" name="Textové pole 3"/>
            <p:cNvSpPr/>
            <p:nvPr/>
          </p:nvSpPr>
          <p:spPr>
            <a:xfrm>
              <a:off x="6553440" y="4619520"/>
              <a:ext cx="149220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propojená data 2016, 2017 a 201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Přímá spojnice 71"/>
            <p:cNvSpPr/>
            <p:nvPr/>
          </p:nvSpPr>
          <p:spPr>
            <a:xfrm>
              <a:off x="696852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Přímá spojnice 72"/>
            <p:cNvSpPr/>
            <p:nvPr/>
          </p:nvSpPr>
          <p:spPr>
            <a:xfrm>
              <a:off x="7613640" y="3668400"/>
              <a:ext cx="0" cy="194148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Přímá spojnice 73"/>
            <p:cNvSpPr/>
            <p:nvPr/>
          </p:nvSpPr>
          <p:spPr>
            <a:xfrm flipV="1">
              <a:off x="5794200" y="2820600"/>
              <a:ext cx="0" cy="82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Přímá spojnice 74"/>
            <p:cNvSpPr/>
            <p:nvPr/>
          </p:nvSpPr>
          <p:spPr>
            <a:xfrm>
              <a:off x="5794200" y="2820600"/>
              <a:ext cx="250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ové pole 41"/>
            <p:cNvSpPr/>
            <p:nvPr/>
          </p:nvSpPr>
          <p:spPr>
            <a:xfrm>
              <a:off x="6521760" y="5658120"/>
              <a:ext cx="1695240" cy="79056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Hlav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kumulovaných dat 2016, 2017 a 20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9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bdélník 76"/>
            <p:cNvSpPr/>
            <p:nvPr/>
          </p:nvSpPr>
          <p:spPr>
            <a:xfrm>
              <a:off x="349200" y="2017440"/>
              <a:ext cx="7950240" cy="358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ové pole 41"/>
            <p:cNvSpPr/>
            <p:nvPr/>
          </p:nvSpPr>
          <p:spPr>
            <a:xfrm>
              <a:off x="633240" y="5658120"/>
              <a:ext cx="977760" cy="4712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ové pole 41"/>
            <p:cNvSpPr/>
            <p:nvPr/>
          </p:nvSpPr>
          <p:spPr>
            <a:xfrm>
              <a:off x="2284560" y="5658120"/>
              <a:ext cx="977760" cy="47124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ové pole 41"/>
            <p:cNvSpPr/>
            <p:nvPr/>
          </p:nvSpPr>
          <p:spPr>
            <a:xfrm>
              <a:off x="5278680" y="5659560"/>
              <a:ext cx="977760" cy="46980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ednoroční analýz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Obrázek 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4479840" cy="757440"/>
          </a:xfrm>
          <a:prstGeom prst="rect">
            <a:avLst/>
          </a:prstGeom>
          <a:ln w="0">
            <a:noFill/>
          </a:ln>
        </p:spPr>
      </p:pic>
      <p:sp>
        <p:nvSpPr>
          <p:cNvPr id="159" name="Zástupný symbol pro číslo snímk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123D-BB7C-4239-9B17-8FBAACF4C8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ovéPole 9"/>
          <p:cNvSpPr/>
          <p:nvPr/>
        </p:nvSpPr>
        <p:spPr>
          <a:xfrm>
            <a:off x="395280" y="1197000"/>
            <a:ext cx="8064360" cy="642600"/>
          </a:xfrm>
          <a:prstGeom prst="rect">
            <a:avLst/>
          </a:prstGeom>
          <a:solidFill>
            <a:srgbClr val="ffcf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  <a:ea typeface="Arial"/>
              </a:rPr>
              <a:t>Oborové převodníky - aktualiz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řevodníky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WoS a nově Scop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ultioborové časopisy – přístup je zachov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aoblený obdélník 4"/>
          <p:cNvSpPr/>
          <p:nvPr/>
        </p:nvSpPr>
        <p:spPr>
          <a:xfrm>
            <a:off x="118728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Web of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WoS categories fields (252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aoblený obdélník 8"/>
          <p:cNvSpPr/>
          <p:nvPr/>
        </p:nvSpPr>
        <p:spPr>
          <a:xfrm>
            <a:off x="5219640" y="2060640"/>
            <a:ext cx="2448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Sco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All Science Journal 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(27/327)</a:t>
            </a:r>
            <a:r>
              <a:rPr b="1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aoblený obdélník 10"/>
          <p:cNvSpPr/>
          <p:nvPr/>
        </p:nvSpPr>
        <p:spPr>
          <a:xfrm>
            <a:off x="3014640" y="2847960"/>
            <a:ext cx="2852640" cy="1444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alibri"/>
              </a:rPr>
              <a:t>OE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elds of Research and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(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4:41:20Z</dcterms:created>
  <dc:creator>Miholová Kateřina</dc:creator>
  <dc:description/>
  <dc:language>en-US</dc:language>
  <cp:lastModifiedBy>Nekorjak Michal</cp:lastModifiedBy>
  <cp:lastPrinted>2018-11-19T13:34:56Z</cp:lastPrinted>
  <dcterms:modified xsi:type="dcterms:W3CDTF">2019-01-22T10:24:14Z</dcterms:modified>
  <cp:revision>167</cp:revision>
  <dc:subject/>
  <dc:title>Prezentace aplikace PowerPoint</dc:title>
</cp:coreProperties>
</file>