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9CB-5015-440D-8C8B-4895C8D43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79BB-F351-4BB0-9FDC-5351EB391A8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4DE8-58E5-4859-B4F6-1F55FC03DF9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17B4-DBFB-490B-AC4C-1D637A3B53C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7E7-F5DA-44DB-883D-2E4D551876F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511-D085-450A-A11F-E24949E1ADC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A03-CC31-4DCA-8380-40578DDDA51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3E7-6B0F-48C6-AD32-BCFC2B44748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9CCA-AE5E-4F4B-BE7A-AC99B982495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5FE-ED2E-4C7F-BC4F-E32064754E9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4DC-44F2-4E57-8E5E-FBB07622E18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832-D5DC-4FD8-BFB0-3B6C07B203C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9E6-D9F1-42B3-9FB0-165A5A56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709-2060-4522-A345-812423D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1E6-36F2-4E1E-A5BA-1DF6D9FB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1BB-79B2-470F-B6B5-CD6E7A99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35F-66D1-4736-93D6-44469E1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421-5FD2-4589-9FA7-FCD0008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A99-1E19-4EB7-A93A-AF5160F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A4B-4A3B-4811-A539-284DB8A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C63-C1A2-4E93-8A0B-2DE93B6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E42-A298-46A6-968E-EC67E1E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31C-30D3-4CF4-AD83-F5D5B5F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E95-2B6B-42B1-BA93-3C3C934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14A-9EAE-48D1-932E-57D2DC0124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7FD-433C-4EA8-A5E4-1E67D84335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15AE-BB62-4F68-9029-EF5E2C1FA4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4FC2-AB06-476A-B1DA-10ED05FCF2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„reprint author“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BB6-BAD3-4C12-AAE2-5D43861143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změ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211-D2E6-455F-B4AF-21D80504FB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2536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984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611280" y="46195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, národní úroveň, gesce RV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délník 9"/>
          <p:cNvSpPr/>
          <p:nvPr/>
        </p:nvSpPr>
        <p:spPr>
          <a:xfrm>
            <a:off x="4859280" y="4581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3+M4+M5 (úroveň poskytova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8E24-C8E3-43B6-8AF9-41A77EB04A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79640" y="148392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3 + M4 + M5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-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konkrétní podoby M1+M2 bude zahájeno po zformulování doporučení plynoucích z Hodnocení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395280" y="26028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65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délník 15" descr=""/>
            <p:cNvPicPr/>
            <p:nvPr/>
          </p:nvPicPr>
          <p:blipFill>
            <a:blip r:embed="rId1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Obdélník 16" descr=""/>
            <p:cNvPicPr/>
            <p:nvPr/>
          </p:nvPicPr>
          <p:blipFill>
            <a:blip r:embed="rId2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délník 17" descr=""/>
            <p:cNvPicPr/>
            <p:nvPr/>
          </p:nvPicPr>
          <p:blipFill>
            <a:blip r:embed="rId3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D66F-219F-4F9C-B1D7-48306A8C69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67120" y="1988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395280" y="333360"/>
            <a:ext cx="8064360" cy="9471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84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Obdélník 30" descr=""/>
            <p:cNvPicPr/>
            <p:nvPr/>
          </p:nvPicPr>
          <p:blipFill>
            <a:blip r:embed="rId1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délník 31" descr=""/>
            <p:cNvPicPr/>
            <p:nvPr/>
          </p:nvPicPr>
          <p:blipFill>
            <a:blip r:embed="rId2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délník 32" descr=""/>
            <p:cNvPicPr/>
            <p:nvPr/>
          </p:nvPicPr>
          <p:blipFill>
            <a:blip r:embed="rId3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65C-3777-4288-B1EC-B0CF94897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13AE-17FA-4F16-84DD-52F526BD8E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D6C-11DC-4ED7-B1FE-E20858A981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2257-0ED3-4DB8-8A52-6D70C5CBD6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18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26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31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35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ravoúhlá spojnice 63"/>
            <p:cNvCxnSpPr>
              <a:stCxn id="128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5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AEB-33BA-4669-B120-FB4F31A0ED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9-01-22T10:24:14Z</dcterms:modified>
  <cp:revision>167</cp:revision>
  <dc:subject/>
  <dc:title>Prezentace aplikace PowerPoint</dc:title>
</cp:coreProperties>
</file>